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002588" cy="11314113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5FB1-0607-47D0-8055-22647743C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9760" y="681552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58B6-0B23-4613-A029-084D0D8B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845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442C-720B-409C-AD4D-9A94A3F2D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9908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9840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976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9908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9840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FBDC-A64D-462A-9EFF-7F5D94A0D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0A31-566D-415E-8210-8560BF8C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D1D1-6517-44A4-9DC4-BA1D414D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6F18-CA90-4CA3-AD15-1C5FEF55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6E7E-421C-4DBE-A710-DD1700B0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9760" y="1006200"/>
            <a:ext cx="680076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33E4-9D25-484F-B395-38E1783E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7BF9-BBF7-45AC-8060-5495D760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845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7333-3C69-43DA-B06B-2D7666BA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4C8A-CEB5-4D91-8F34-AC786422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975"/>
              </a:spcBef>
              <a:buClr>
                <a:srgbClr val="000000"/>
              </a:buClr>
              <a:buFont typeface="Times New Roman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760" indent="-344160">
              <a:spcBef>
                <a:spcPts val="975"/>
              </a:spcBef>
              <a:buClr>
                <a:srgbClr val="000000"/>
              </a:buClr>
              <a:buFont typeface="Times New Roman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9520" indent="-276120">
              <a:spcBef>
                <a:spcPts val="975"/>
              </a:spcBef>
              <a:buClr>
                <a:srgbClr val="000000"/>
              </a:buClr>
              <a:buFont typeface="Times New Roman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3" marL="1932120" indent="-276480">
              <a:spcBef>
                <a:spcPts val="975"/>
              </a:spcBef>
              <a:buClr>
                <a:srgbClr val="000000"/>
              </a:buClr>
              <a:buFont typeface="Times New Roman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4" marL="2482920" indent="-274680">
              <a:spcBef>
                <a:spcPts val="975"/>
              </a:spcBef>
              <a:buClr>
                <a:srgbClr val="000000"/>
              </a:buClr>
              <a:buFont typeface="Times New Roman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5" marL="2482920" indent="-274680">
              <a:spcBef>
                <a:spcPts val="975"/>
              </a:spcBef>
              <a:buClr>
                <a:srgbClr val="000000"/>
              </a:buClr>
              <a:buFont typeface="Times New Roman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6" marL="2482920" indent="-274680">
              <a:spcBef>
                <a:spcPts val="975"/>
              </a:spcBef>
              <a:buClr>
                <a:srgbClr val="000000"/>
              </a:buClr>
              <a:buFont typeface="Times New Roman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0120" y="10308960"/>
            <a:ext cx="1666800" cy="755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  <a:defRPr b="0" lang="en-US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33480" y="10308960"/>
            <a:ext cx="2533320" cy="755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  <a:defRPr b="0" lang="en-US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34080" y="10308960"/>
            <a:ext cx="1666800" cy="755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indent="0" algn="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  <a:defRPr b="0" lang="en-US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fld id="{71D43111-A5A4-46C2-B58A-C815F1DF404B}" type="slidenum"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67200" y="3465360"/>
            <a:ext cx="80010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67200" y="4821120"/>
            <a:ext cx="8001000" cy="14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16:48:41Z</dcterms:created>
  <dc:creator>IBM</dc:creator>
  <dc:description/>
  <dc:language>en-US</dc:language>
  <cp:lastModifiedBy> Hugues</cp:lastModifiedBy>
  <dcterms:modified xsi:type="dcterms:W3CDTF">2007-12-13T18:41:26Z</dcterms:modified>
  <cp:revision>8</cp:revision>
  <dc:subject/>
  <dc:title>Présentation PowerPoint</dc:title>
</cp:coreProperties>
</file>