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038-5DA7-4AF8-B7DE-33767908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14F7-B1F5-4C6F-9FE7-2639E31B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4F4-047F-46A6-A05B-606BC654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3B4-2671-4C8D-BF10-E0E795934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9D2-658E-49DD-B738-02BC4210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365D-0E71-4505-B141-1A2AB715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49A-447B-494F-8802-B37F1D9E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186-AED1-4337-B5BF-61EABB4E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880-BB05-4982-AA5A-452F5475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BE6-3D19-46E4-BB9C-A52764DA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7A9-8E9F-40EA-8740-810CA8A2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FFB2-2FA8-431D-A598-10AEAED4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34416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9520" indent="-27612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3" marL="1932120" indent="-2764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4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5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6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fr-FR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fr-FR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fr-FR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B379EFDE-DB9E-4FAF-8D13-28052A225AFD}" type="slidenum"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7200" y="3465360"/>
            <a:ext cx="80010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67200" y="4821120"/>
            <a:ext cx="800100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6251400" cy="974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332240" y="1103400"/>
            <a:ext cx="117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nde saliv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97280" y="186516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esoph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83800" y="2398680"/>
            <a:ext cx="82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’esto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92520" y="2398680"/>
            <a:ext cx="61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fo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63920" y="29322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gros inte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88320" y="3465360"/>
            <a:ext cx="101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stin grê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07120" y="4227480"/>
            <a:ext cx="60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0200" y="559908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u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324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0080" y="6284880"/>
            <a:ext cx="12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ère pulmo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8880" y="643716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es pulmona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800" y="689436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es c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65200" y="6894360"/>
            <a:ext cx="88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trér aor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3040" y="89517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58480" y="8418600"/>
            <a:ext cx="68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urb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8440" y="681840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ettele gauc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45720" y="712296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eilltte dro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22400" y="773280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e dro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62120" y="7504200"/>
            <a:ext cx="12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tricule gau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6:48:41Z</dcterms:created>
  <dc:creator>IBM</dc:creator>
  <dc:description/>
  <dc:language>en-US</dc:language>
  <cp:lastModifiedBy>PALANDRE Christophe</cp:lastModifiedBy>
  <dcterms:modified xsi:type="dcterms:W3CDTF">2008-03-19T15:06:36Z</dcterms:modified>
  <cp:revision>10</cp:revision>
  <dc:subject/>
  <dc:title>Présentation PowerPoint</dc:title>
</cp:coreProperties>
</file>