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1E69-46A3-4858-8B03-4B533F68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959-62B5-431D-A8F1-07EDD679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9AD-25F4-45FA-9A52-B07F4279B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D14-0CE9-4FE8-9619-9B3A03DF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696-DDC9-4CE8-B769-26D036CA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D80-B63A-47C1-8283-6A9182E7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52EE-E010-4F57-871E-C3C87771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431-ECAA-4BD7-AD71-A9BBE06B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D09C-8565-4334-8043-062300F2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29BE-F047-4A83-BEF5-F5B76EFE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2E0-5882-4BF0-BBDF-44934155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271-8672-4BED-B577-25E3FE72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34416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9520" indent="-27612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120" indent="-2764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E616D74C-5280-4487-B6BB-EF3DAD9654EE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1680" y="41400"/>
            <a:ext cx="7772400" cy="10688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6078600">
            <a:off x="2237760" y="1802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2767200">
            <a:off x="1623240" y="385884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7731600">
            <a:off x="1550160" y="2109240"/>
            <a:ext cx="766080" cy="246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XIQ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rot="18410400">
            <a:off x="3977640" y="2288160"/>
            <a:ext cx="79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SS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9606800">
            <a:off x="4774320" y="258552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4185200">
            <a:off x="5103360" y="170892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A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9606800">
            <a:off x="4723200" y="320940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01760" y="3570120"/>
            <a:ext cx="6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DI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8184200">
            <a:off x="6145920" y="337140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70120" y="5226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FR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DU SU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64320" y="364176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ALGER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86120" y="4002120"/>
            <a:ext cx="60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OU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2320" y="445788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5960" y="1336680"/>
            <a:ext cx="6762600" cy="3065400"/>
          </a:xfrm>
          <a:custGeom>
            <a:avLst/>
            <a:gdLst/>
            <a:ahLst/>
            <a:rect l="l" t="t" r="r" b="b"/>
            <a:pathLst>
              <a:path w="4260" h="1931">
                <a:moveTo>
                  <a:pt x="0" y="64"/>
                </a:moveTo>
                <a:cubicBezTo>
                  <a:pt x="78" y="111"/>
                  <a:pt x="125" y="84"/>
                  <a:pt x="234" y="76"/>
                </a:cubicBezTo>
                <a:cubicBezTo>
                  <a:pt x="271" y="61"/>
                  <a:pt x="303" y="52"/>
                  <a:pt x="342" y="46"/>
                </a:cubicBezTo>
                <a:cubicBezTo>
                  <a:pt x="393" y="29"/>
                  <a:pt x="445" y="16"/>
                  <a:pt x="498" y="4"/>
                </a:cubicBezTo>
                <a:cubicBezTo>
                  <a:pt x="791" y="8"/>
                  <a:pt x="891" y="0"/>
                  <a:pt x="1122" y="46"/>
                </a:cubicBezTo>
                <a:cubicBezTo>
                  <a:pt x="1160" y="84"/>
                  <a:pt x="1143" y="54"/>
                  <a:pt x="1140" y="112"/>
                </a:cubicBezTo>
                <a:cubicBezTo>
                  <a:pt x="1129" y="326"/>
                  <a:pt x="1181" y="263"/>
                  <a:pt x="1110" y="334"/>
                </a:cubicBezTo>
                <a:cubicBezTo>
                  <a:pt x="1102" y="359"/>
                  <a:pt x="1077" y="410"/>
                  <a:pt x="1056" y="424"/>
                </a:cubicBezTo>
                <a:cubicBezTo>
                  <a:pt x="1043" y="476"/>
                  <a:pt x="1022" y="506"/>
                  <a:pt x="984" y="544"/>
                </a:cubicBezTo>
                <a:cubicBezTo>
                  <a:pt x="960" y="616"/>
                  <a:pt x="978" y="694"/>
                  <a:pt x="954" y="766"/>
                </a:cubicBezTo>
                <a:cubicBezTo>
                  <a:pt x="1013" y="781"/>
                  <a:pt x="941" y="759"/>
                  <a:pt x="1002" y="790"/>
                </a:cubicBezTo>
                <a:cubicBezTo>
                  <a:pt x="1013" y="796"/>
                  <a:pt x="1038" y="802"/>
                  <a:pt x="1038" y="802"/>
                </a:cubicBezTo>
                <a:cubicBezTo>
                  <a:pt x="1125" y="889"/>
                  <a:pt x="1029" y="783"/>
                  <a:pt x="1092" y="886"/>
                </a:cubicBezTo>
                <a:cubicBezTo>
                  <a:pt x="1123" y="936"/>
                  <a:pt x="1171" y="999"/>
                  <a:pt x="1206" y="1048"/>
                </a:cubicBezTo>
                <a:cubicBezTo>
                  <a:pt x="1227" y="1112"/>
                  <a:pt x="1292" y="1138"/>
                  <a:pt x="1338" y="1180"/>
                </a:cubicBezTo>
                <a:cubicBezTo>
                  <a:pt x="1377" y="1216"/>
                  <a:pt x="1406" y="1253"/>
                  <a:pt x="1458" y="1270"/>
                </a:cubicBezTo>
                <a:cubicBezTo>
                  <a:pt x="1468" y="1280"/>
                  <a:pt x="1484" y="1284"/>
                  <a:pt x="1494" y="1294"/>
                </a:cubicBezTo>
                <a:cubicBezTo>
                  <a:pt x="1502" y="1302"/>
                  <a:pt x="1504" y="1316"/>
                  <a:pt x="1512" y="1324"/>
                </a:cubicBezTo>
                <a:cubicBezTo>
                  <a:pt x="1590" y="1402"/>
                  <a:pt x="1681" y="1369"/>
                  <a:pt x="1794" y="1372"/>
                </a:cubicBezTo>
                <a:cubicBezTo>
                  <a:pt x="1858" y="1385"/>
                  <a:pt x="1923" y="1388"/>
                  <a:pt x="1986" y="1402"/>
                </a:cubicBezTo>
                <a:cubicBezTo>
                  <a:pt x="2026" y="1411"/>
                  <a:pt x="1979" y="1406"/>
                  <a:pt x="2034" y="1426"/>
                </a:cubicBezTo>
                <a:cubicBezTo>
                  <a:pt x="2068" y="1438"/>
                  <a:pt x="2091" y="1437"/>
                  <a:pt x="2124" y="1444"/>
                </a:cubicBezTo>
                <a:cubicBezTo>
                  <a:pt x="2149" y="1449"/>
                  <a:pt x="2173" y="1465"/>
                  <a:pt x="2196" y="1474"/>
                </a:cubicBezTo>
                <a:cubicBezTo>
                  <a:pt x="2214" y="1472"/>
                  <a:pt x="2233" y="1475"/>
                  <a:pt x="2250" y="1468"/>
                </a:cubicBezTo>
                <a:cubicBezTo>
                  <a:pt x="2284" y="1454"/>
                  <a:pt x="2218" y="1422"/>
                  <a:pt x="2214" y="1420"/>
                </a:cubicBezTo>
                <a:cubicBezTo>
                  <a:pt x="2183" y="1407"/>
                  <a:pt x="2155" y="1411"/>
                  <a:pt x="2118" y="1408"/>
                </a:cubicBezTo>
                <a:cubicBezTo>
                  <a:pt x="2076" y="1380"/>
                  <a:pt x="2091" y="1347"/>
                  <a:pt x="2112" y="1294"/>
                </a:cubicBezTo>
                <a:cubicBezTo>
                  <a:pt x="2114" y="1288"/>
                  <a:pt x="2124" y="1289"/>
                  <a:pt x="2130" y="1288"/>
                </a:cubicBezTo>
                <a:cubicBezTo>
                  <a:pt x="2160" y="1285"/>
                  <a:pt x="2190" y="1284"/>
                  <a:pt x="2220" y="1282"/>
                </a:cubicBezTo>
                <a:cubicBezTo>
                  <a:pt x="2230" y="1276"/>
                  <a:pt x="2242" y="1272"/>
                  <a:pt x="2250" y="1264"/>
                </a:cubicBezTo>
                <a:cubicBezTo>
                  <a:pt x="2254" y="1260"/>
                  <a:pt x="2252" y="1251"/>
                  <a:pt x="2256" y="1246"/>
                </a:cubicBezTo>
                <a:cubicBezTo>
                  <a:pt x="2266" y="1233"/>
                  <a:pt x="2299" y="1226"/>
                  <a:pt x="2310" y="1222"/>
                </a:cubicBezTo>
                <a:cubicBezTo>
                  <a:pt x="2333" y="1199"/>
                  <a:pt x="2330" y="1179"/>
                  <a:pt x="2340" y="1150"/>
                </a:cubicBezTo>
                <a:cubicBezTo>
                  <a:pt x="2317" y="1081"/>
                  <a:pt x="2353" y="1022"/>
                  <a:pt x="2382" y="964"/>
                </a:cubicBezTo>
                <a:cubicBezTo>
                  <a:pt x="2411" y="906"/>
                  <a:pt x="2417" y="879"/>
                  <a:pt x="2466" y="838"/>
                </a:cubicBezTo>
                <a:cubicBezTo>
                  <a:pt x="2483" y="786"/>
                  <a:pt x="2530" y="784"/>
                  <a:pt x="2580" y="778"/>
                </a:cubicBezTo>
                <a:cubicBezTo>
                  <a:pt x="2606" y="763"/>
                  <a:pt x="2625" y="757"/>
                  <a:pt x="2652" y="748"/>
                </a:cubicBezTo>
                <a:cubicBezTo>
                  <a:pt x="2694" y="752"/>
                  <a:pt x="2736" y="764"/>
                  <a:pt x="2778" y="760"/>
                </a:cubicBezTo>
                <a:cubicBezTo>
                  <a:pt x="2786" y="759"/>
                  <a:pt x="2786" y="744"/>
                  <a:pt x="2784" y="736"/>
                </a:cubicBezTo>
                <a:cubicBezTo>
                  <a:pt x="2779" y="719"/>
                  <a:pt x="2761" y="716"/>
                  <a:pt x="2748" y="712"/>
                </a:cubicBezTo>
                <a:cubicBezTo>
                  <a:pt x="2699" y="663"/>
                  <a:pt x="2718" y="686"/>
                  <a:pt x="2688" y="646"/>
                </a:cubicBezTo>
                <a:cubicBezTo>
                  <a:pt x="2671" y="596"/>
                  <a:pt x="2675" y="525"/>
                  <a:pt x="2640" y="490"/>
                </a:cubicBezTo>
                <a:cubicBezTo>
                  <a:pt x="2659" y="453"/>
                  <a:pt x="2686" y="436"/>
                  <a:pt x="2718" y="412"/>
                </a:cubicBezTo>
                <a:cubicBezTo>
                  <a:pt x="2742" y="414"/>
                  <a:pt x="2766" y="414"/>
                  <a:pt x="2790" y="418"/>
                </a:cubicBezTo>
                <a:cubicBezTo>
                  <a:pt x="2802" y="420"/>
                  <a:pt x="2826" y="430"/>
                  <a:pt x="2826" y="430"/>
                </a:cubicBezTo>
                <a:cubicBezTo>
                  <a:pt x="2902" y="487"/>
                  <a:pt x="2994" y="509"/>
                  <a:pt x="3084" y="532"/>
                </a:cubicBezTo>
                <a:cubicBezTo>
                  <a:pt x="3107" y="566"/>
                  <a:pt x="3085" y="546"/>
                  <a:pt x="3138" y="532"/>
                </a:cubicBezTo>
                <a:cubicBezTo>
                  <a:pt x="3215" y="512"/>
                  <a:pt x="3299" y="515"/>
                  <a:pt x="3378" y="502"/>
                </a:cubicBezTo>
                <a:cubicBezTo>
                  <a:pt x="3585" y="510"/>
                  <a:pt x="3576" y="513"/>
                  <a:pt x="3462" y="526"/>
                </a:cubicBezTo>
                <a:cubicBezTo>
                  <a:pt x="3423" y="539"/>
                  <a:pt x="3468" y="522"/>
                  <a:pt x="3414" y="556"/>
                </a:cubicBezTo>
                <a:cubicBezTo>
                  <a:pt x="3383" y="576"/>
                  <a:pt x="3349" y="591"/>
                  <a:pt x="3318" y="610"/>
                </a:cubicBezTo>
                <a:cubicBezTo>
                  <a:pt x="3256" y="647"/>
                  <a:pt x="3333" y="626"/>
                  <a:pt x="3264" y="640"/>
                </a:cubicBezTo>
                <a:cubicBezTo>
                  <a:pt x="3189" y="672"/>
                  <a:pt x="3165" y="681"/>
                  <a:pt x="3078" y="688"/>
                </a:cubicBezTo>
                <a:cubicBezTo>
                  <a:pt x="3080" y="708"/>
                  <a:pt x="3072" y="732"/>
                  <a:pt x="3084" y="748"/>
                </a:cubicBezTo>
                <a:cubicBezTo>
                  <a:pt x="3092" y="759"/>
                  <a:pt x="3112" y="751"/>
                  <a:pt x="3126" y="754"/>
                </a:cubicBezTo>
                <a:cubicBezTo>
                  <a:pt x="3146" y="758"/>
                  <a:pt x="3161" y="772"/>
                  <a:pt x="3180" y="778"/>
                </a:cubicBezTo>
                <a:cubicBezTo>
                  <a:pt x="3202" y="776"/>
                  <a:pt x="3224" y="777"/>
                  <a:pt x="3246" y="772"/>
                </a:cubicBezTo>
                <a:cubicBezTo>
                  <a:pt x="3287" y="762"/>
                  <a:pt x="3309" y="726"/>
                  <a:pt x="3342" y="706"/>
                </a:cubicBezTo>
                <a:cubicBezTo>
                  <a:pt x="3359" y="696"/>
                  <a:pt x="3382" y="689"/>
                  <a:pt x="3402" y="682"/>
                </a:cubicBezTo>
                <a:cubicBezTo>
                  <a:pt x="3489" y="617"/>
                  <a:pt x="3599" y="585"/>
                  <a:pt x="3708" y="574"/>
                </a:cubicBezTo>
                <a:cubicBezTo>
                  <a:pt x="3806" y="578"/>
                  <a:pt x="3841" y="572"/>
                  <a:pt x="3918" y="598"/>
                </a:cubicBezTo>
                <a:cubicBezTo>
                  <a:pt x="3936" y="635"/>
                  <a:pt x="3955" y="671"/>
                  <a:pt x="3984" y="700"/>
                </a:cubicBezTo>
                <a:cubicBezTo>
                  <a:pt x="3978" y="764"/>
                  <a:pt x="3966" y="804"/>
                  <a:pt x="3900" y="826"/>
                </a:cubicBezTo>
                <a:cubicBezTo>
                  <a:pt x="3869" y="863"/>
                  <a:pt x="3866" y="871"/>
                  <a:pt x="3822" y="880"/>
                </a:cubicBezTo>
                <a:cubicBezTo>
                  <a:pt x="3769" y="933"/>
                  <a:pt x="3846" y="863"/>
                  <a:pt x="3774" y="904"/>
                </a:cubicBezTo>
                <a:cubicBezTo>
                  <a:pt x="3768" y="908"/>
                  <a:pt x="3768" y="917"/>
                  <a:pt x="3762" y="922"/>
                </a:cubicBezTo>
                <a:cubicBezTo>
                  <a:pt x="3755" y="928"/>
                  <a:pt x="3746" y="930"/>
                  <a:pt x="3738" y="934"/>
                </a:cubicBezTo>
                <a:cubicBezTo>
                  <a:pt x="3712" y="986"/>
                  <a:pt x="3692" y="1038"/>
                  <a:pt x="3666" y="1090"/>
                </a:cubicBezTo>
                <a:cubicBezTo>
                  <a:pt x="3650" y="1169"/>
                  <a:pt x="3676" y="1070"/>
                  <a:pt x="3636" y="1144"/>
                </a:cubicBezTo>
                <a:cubicBezTo>
                  <a:pt x="3618" y="1178"/>
                  <a:pt x="3610" y="1217"/>
                  <a:pt x="3594" y="1252"/>
                </a:cubicBezTo>
                <a:cubicBezTo>
                  <a:pt x="3582" y="1311"/>
                  <a:pt x="3560" y="1364"/>
                  <a:pt x="3552" y="1426"/>
                </a:cubicBezTo>
                <a:cubicBezTo>
                  <a:pt x="3556" y="1516"/>
                  <a:pt x="3547" y="1608"/>
                  <a:pt x="3624" y="1666"/>
                </a:cubicBezTo>
                <a:cubicBezTo>
                  <a:pt x="3640" y="1693"/>
                  <a:pt x="3648" y="1725"/>
                  <a:pt x="3666" y="1750"/>
                </a:cubicBezTo>
                <a:cubicBezTo>
                  <a:pt x="3686" y="1777"/>
                  <a:pt x="3694" y="1768"/>
                  <a:pt x="3714" y="1786"/>
                </a:cubicBezTo>
                <a:cubicBezTo>
                  <a:pt x="3773" y="1841"/>
                  <a:pt x="3811" y="1889"/>
                  <a:pt x="3894" y="1900"/>
                </a:cubicBezTo>
                <a:cubicBezTo>
                  <a:pt x="3924" y="1904"/>
                  <a:pt x="3954" y="1904"/>
                  <a:pt x="3984" y="1906"/>
                </a:cubicBezTo>
                <a:cubicBezTo>
                  <a:pt x="4090" y="1897"/>
                  <a:pt x="4116" y="1931"/>
                  <a:pt x="4140" y="1858"/>
                </a:cubicBezTo>
                <a:cubicBezTo>
                  <a:pt x="4142" y="1844"/>
                  <a:pt x="4139" y="1828"/>
                  <a:pt x="4146" y="1816"/>
                </a:cubicBezTo>
                <a:cubicBezTo>
                  <a:pt x="4154" y="1801"/>
                  <a:pt x="4173" y="1794"/>
                  <a:pt x="4182" y="1780"/>
                </a:cubicBezTo>
                <a:cubicBezTo>
                  <a:pt x="4197" y="1757"/>
                  <a:pt x="4207" y="1730"/>
                  <a:pt x="4224" y="1708"/>
                </a:cubicBezTo>
                <a:cubicBezTo>
                  <a:pt x="4235" y="1693"/>
                  <a:pt x="4260" y="1681"/>
                  <a:pt x="4260" y="166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29400" y="3209760"/>
            <a:ext cx="360360" cy="289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1488960"/>
            <a:ext cx="730080" cy="1000080"/>
          </a:xfrm>
          <a:custGeom>
            <a:avLst/>
            <a:gdLst/>
            <a:ahLst/>
            <a:rect l="l" t="t" r="r" b="b"/>
            <a:pathLst>
              <a:path w="460" h="630">
                <a:moveTo>
                  <a:pt x="154" y="99"/>
                </a:moveTo>
                <a:cubicBezTo>
                  <a:pt x="171" y="91"/>
                  <a:pt x="183" y="80"/>
                  <a:pt x="199" y="72"/>
                </a:cubicBezTo>
                <a:cubicBezTo>
                  <a:pt x="235" y="18"/>
                  <a:pt x="334" y="10"/>
                  <a:pt x="391" y="0"/>
                </a:cubicBezTo>
                <a:cubicBezTo>
                  <a:pt x="400" y="9"/>
                  <a:pt x="405" y="20"/>
                  <a:pt x="418" y="24"/>
                </a:cubicBezTo>
                <a:cubicBezTo>
                  <a:pt x="460" y="66"/>
                  <a:pt x="436" y="139"/>
                  <a:pt x="418" y="192"/>
                </a:cubicBezTo>
                <a:cubicBezTo>
                  <a:pt x="415" y="230"/>
                  <a:pt x="419" y="276"/>
                  <a:pt x="397" y="309"/>
                </a:cubicBezTo>
                <a:cubicBezTo>
                  <a:pt x="391" y="334"/>
                  <a:pt x="382" y="358"/>
                  <a:pt x="367" y="378"/>
                </a:cubicBezTo>
                <a:cubicBezTo>
                  <a:pt x="363" y="391"/>
                  <a:pt x="358" y="399"/>
                  <a:pt x="349" y="408"/>
                </a:cubicBezTo>
                <a:cubicBezTo>
                  <a:pt x="338" y="434"/>
                  <a:pt x="334" y="460"/>
                  <a:pt x="325" y="486"/>
                </a:cubicBezTo>
                <a:cubicBezTo>
                  <a:pt x="320" y="527"/>
                  <a:pt x="319" y="523"/>
                  <a:pt x="328" y="579"/>
                </a:cubicBezTo>
                <a:cubicBezTo>
                  <a:pt x="329" y="583"/>
                  <a:pt x="332" y="585"/>
                  <a:pt x="334" y="588"/>
                </a:cubicBezTo>
                <a:cubicBezTo>
                  <a:pt x="338" y="595"/>
                  <a:pt x="339" y="603"/>
                  <a:pt x="343" y="609"/>
                </a:cubicBezTo>
                <a:cubicBezTo>
                  <a:pt x="345" y="613"/>
                  <a:pt x="349" y="615"/>
                  <a:pt x="352" y="618"/>
                </a:cubicBezTo>
                <a:cubicBezTo>
                  <a:pt x="358" y="622"/>
                  <a:pt x="377" y="630"/>
                  <a:pt x="370" y="630"/>
                </a:cubicBezTo>
                <a:cubicBezTo>
                  <a:pt x="305" y="629"/>
                  <a:pt x="240" y="628"/>
                  <a:pt x="175" y="627"/>
                </a:cubicBezTo>
                <a:cubicBezTo>
                  <a:pt x="151" y="619"/>
                  <a:pt x="127" y="613"/>
                  <a:pt x="106" y="597"/>
                </a:cubicBezTo>
                <a:cubicBezTo>
                  <a:pt x="93" y="575"/>
                  <a:pt x="83" y="534"/>
                  <a:pt x="61" y="519"/>
                </a:cubicBezTo>
                <a:cubicBezTo>
                  <a:pt x="56" y="505"/>
                  <a:pt x="49" y="510"/>
                  <a:pt x="40" y="498"/>
                </a:cubicBezTo>
                <a:cubicBezTo>
                  <a:pt x="29" y="484"/>
                  <a:pt x="17" y="471"/>
                  <a:pt x="7" y="456"/>
                </a:cubicBezTo>
                <a:cubicBezTo>
                  <a:pt x="2" y="437"/>
                  <a:pt x="0" y="435"/>
                  <a:pt x="7" y="408"/>
                </a:cubicBezTo>
                <a:cubicBezTo>
                  <a:pt x="9" y="398"/>
                  <a:pt x="25" y="385"/>
                  <a:pt x="31" y="378"/>
                </a:cubicBezTo>
                <a:cubicBezTo>
                  <a:pt x="54" y="350"/>
                  <a:pt x="68" y="313"/>
                  <a:pt x="97" y="291"/>
                </a:cubicBezTo>
                <a:cubicBezTo>
                  <a:pt x="101" y="274"/>
                  <a:pt x="112" y="275"/>
                  <a:pt x="121" y="261"/>
                </a:cubicBezTo>
                <a:cubicBezTo>
                  <a:pt x="130" y="223"/>
                  <a:pt x="117" y="281"/>
                  <a:pt x="127" y="186"/>
                </a:cubicBezTo>
                <a:cubicBezTo>
                  <a:pt x="130" y="157"/>
                  <a:pt x="149" y="142"/>
                  <a:pt x="157" y="117"/>
                </a:cubicBezTo>
                <a:cubicBezTo>
                  <a:pt x="159" y="100"/>
                  <a:pt x="164" y="81"/>
                  <a:pt x="172" y="66"/>
                </a:cubicBezTo>
              </a:path>
            </a:pathLst>
          </a:cu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25960" y="2581200"/>
            <a:ext cx="917280" cy="938160"/>
          </a:xfrm>
          <a:custGeom>
            <a:avLst/>
            <a:gdLst/>
            <a:ahLst/>
            <a:rect l="l" t="t" r="r" b="b"/>
            <a:pathLst>
              <a:path w="578" h="591">
                <a:moveTo>
                  <a:pt x="20" y="432"/>
                </a:moveTo>
                <a:cubicBezTo>
                  <a:pt x="34" y="434"/>
                  <a:pt x="46" y="437"/>
                  <a:pt x="59" y="441"/>
                </a:cubicBezTo>
                <a:cubicBezTo>
                  <a:pt x="86" y="438"/>
                  <a:pt x="110" y="442"/>
                  <a:pt x="95" y="405"/>
                </a:cubicBezTo>
                <a:cubicBezTo>
                  <a:pt x="93" y="399"/>
                  <a:pt x="83" y="400"/>
                  <a:pt x="77" y="396"/>
                </a:cubicBezTo>
                <a:cubicBezTo>
                  <a:pt x="70" y="368"/>
                  <a:pt x="68" y="363"/>
                  <a:pt x="65" y="327"/>
                </a:cubicBezTo>
                <a:cubicBezTo>
                  <a:pt x="64" y="314"/>
                  <a:pt x="50" y="291"/>
                  <a:pt x="50" y="291"/>
                </a:cubicBezTo>
                <a:cubicBezTo>
                  <a:pt x="51" y="260"/>
                  <a:pt x="47" y="228"/>
                  <a:pt x="53" y="198"/>
                </a:cubicBezTo>
                <a:cubicBezTo>
                  <a:pt x="54" y="191"/>
                  <a:pt x="65" y="192"/>
                  <a:pt x="71" y="189"/>
                </a:cubicBezTo>
                <a:cubicBezTo>
                  <a:pt x="94" y="179"/>
                  <a:pt x="111" y="166"/>
                  <a:pt x="134" y="156"/>
                </a:cubicBezTo>
                <a:cubicBezTo>
                  <a:pt x="147" y="143"/>
                  <a:pt x="173" y="126"/>
                  <a:pt x="191" y="120"/>
                </a:cubicBezTo>
                <a:cubicBezTo>
                  <a:pt x="213" y="103"/>
                  <a:pt x="234" y="87"/>
                  <a:pt x="257" y="72"/>
                </a:cubicBezTo>
                <a:cubicBezTo>
                  <a:pt x="269" y="48"/>
                  <a:pt x="280" y="40"/>
                  <a:pt x="305" y="30"/>
                </a:cubicBezTo>
                <a:cubicBezTo>
                  <a:pt x="314" y="16"/>
                  <a:pt x="328" y="18"/>
                  <a:pt x="344" y="15"/>
                </a:cubicBezTo>
                <a:cubicBezTo>
                  <a:pt x="357" y="7"/>
                  <a:pt x="366" y="5"/>
                  <a:pt x="380" y="0"/>
                </a:cubicBezTo>
                <a:cubicBezTo>
                  <a:pt x="395" y="4"/>
                  <a:pt x="399" y="9"/>
                  <a:pt x="407" y="21"/>
                </a:cubicBezTo>
                <a:cubicBezTo>
                  <a:pt x="424" y="107"/>
                  <a:pt x="396" y="175"/>
                  <a:pt x="461" y="240"/>
                </a:cubicBezTo>
                <a:cubicBezTo>
                  <a:pt x="466" y="260"/>
                  <a:pt x="486" y="285"/>
                  <a:pt x="503" y="297"/>
                </a:cubicBezTo>
                <a:cubicBezTo>
                  <a:pt x="512" y="310"/>
                  <a:pt x="517" y="320"/>
                  <a:pt x="533" y="324"/>
                </a:cubicBezTo>
                <a:cubicBezTo>
                  <a:pt x="543" y="331"/>
                  <a:pt x="552" y="332"/>
                  <a:pt x="563" y="336"/>
                </a:cubicBezTo>
                <a:cubicBezTo>
                  <a:pt x="578" y="382"/>
                  <a:pt x="570" y="383"/>
                  <a:pt x="527" y="387"/>
                </a:cubicBezTo>
                <a:cubicBezTo>
                  <a:pt x="506" y="408"/>
                  <a:pt x="533" y="384"/>
                  <a:pt x="500" y="399"/>
                </a:cubicBezTo>
                <a:cubicBezTo>
                  <a:pt x="496" y="401"/>
                  <a:pt x="495" y="406"/>
                  <a:pt x="491" y="408"/>
                </a:cubicBezTo>
                <a:cubicBezTo>
                  <a:pt x="488" y="410"/>
                  <a:pt x="485" y="410"/>
                  <a:pt x="482" y="411"/>
                </a:cubicBezTo>
                <a:cubicBezTo>
                  <a:pt x="455" y="438"/>
                  <a:pt x="479" y="410"/>
                  <a:pt x="467" y="432"/>
                </a:cubicBezTo>
                <a:cubicBezTo>
                  <a:pt x="463" y="438"/>
                  <a:pt x="455" y="450"/>
                  <a:pt x="455" y="450"/>
                </a:cubicBezTo>
                <a:cubicBezTo>
                  <a:pt x="443" y="499"/>
                  <a:pt x="458" y="570"/>
                  <a:pt x="404" y="591"/>
                </a:cubicBezTo>
                <a:cubicBezTo>
                  <a:pt x="390" y="590"/>
                  <a:pt x="376" y="590"/>
                  <a:pt x="362" y="588"/>
                </a:cubicBezTo>
                <a:cubicBezTo>
                  <a:pt x="354" y="587"/>
                  <a:pt x="342" y="577"/>
                  <a:pt x="335" y="573"/>
                </a:cubicBezTo>
                <a:cubicBezTo>
                  <a:pt x="324" y="568"/>
                  <a:pt x="305" y="568"/>
                  <a:pt x="296" y="567"/>
                </a:cubicBezTo>
                <a:cubicBezTo>
                  <a:pt x="282" y="562"/>
                  <a:pt x="279" y="557"/>
                  <a:pt x="275" y="543"/>
                </a:cubicBezTo>
                <a:cubicBezTo>
                  <a:pt x="216" y="545"/>
                  <a:pt x="66" y="580"/>
                  <a:pt x="8" y="522"/>
                </a:cubicBezTo>
                <a:cubicBezTo>
                  <a:pt x="0" y="498"/>
                  <a:pt x="3" y="469"/>
                  <a:pt x="14" y="447"/>
                </a:cubicBezTo>
                <a:cubicBezTo>
                  <a:pt x="17" y="440"/>
                  <a:pt x="32" y="440"/>
                  <a:pt x="32" y="432"/>
                </a:cubicBezTo>
                <a:cubicBezTo>
                  <a:pt x="32" y="428"/>
                  <a:pt x="24" y="432"/>
                  <a:pt x="20" y="432"/>
                </a:cubicBezTo>
                <a:close/>
              </a:path>
            </a:pathLst>
          </a:cu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98960" y="1711440"/>
            <a:ext cx="328680" cy="360360"/>
          </a:xfrm>
          <a:custGeom>
            <a:avLst/>
            <a:gdLst/>
            <a:ahLst/>
            <a:rect l="l" t="t" r="r" b="b"/>
            <a:pathLst>
              <a:path w="207" h="227">
                <a:moveTo>
                  <a:pt x="172" y="203"/>
                </a:moveTo>
                <a:cubicBezTo>
                  <a:pt x="164" y="173"/>
                  <a:pt x="152" y="154"/>
                  <a:pt x="124" y="140"/>
                </a:cubicBezTo>
                <a:cubicBezTo>
                  <a:pt x="120" y="128"/>
                  <a:pt x="118" y="123"/>
                  <a:pt x="106" y="119"/>
                </a:cubicBezTo>
                <a:cubicBezTo>
                  <a:pt x="94" y="96"/>
                  <a:pt x="72" y="107"/>
                  <a:pt x="49" y="101"/>
                </a:cubicBezTo>
                <a:cubicBezTo>
                  <a:pt x="28" y="70"/>
                  <a:pt x="61" y="116"/>
                  <a:pt x="31" y="86"/>
                </a:cubicBezTo>
                <a:cubicBezTo>
                  <a:pt x="29" y="84"/>
                  <a:pt x="30" y="79"/>
                  <a:pt x="28" y="77"/>
                </a:cubicBezTo>
                <a:cubicBezTo>
                  <a:pt x="26" y="74"/>
                  <a:pt x="22" y="73"/>
                  <a:pt x="19" y="71"/>
                </a:cubicBezTo>
                <a:cubicBezTo>
                  <a:pt x="17" y="63"/>
                  <a:pt x="18" y="54"/>
                  <a:pt x="13" y="47"/>
                </a:cubicBezTo>
                <a:cubicBezTo>
                  <a:pt x="9" y="41"/>
                  <a:pt x="1" y="29"/>
                  <a:pt x="1" y="29"/>
                </a:cubicBezTo>
                <a:cubicBezTo>
                  <a:pt x="2" y="22"/>
                  <a:pt x="0" y="14"/>
                  <a:pt x="4" y="8"/>
                </a:cubicBezTo>
                <a:cubicBezTo>
                  <a:pt x="9" y="0"/>
                  <a:pt x="31" y="31"/>
                  <a:pt x="40" y="35"/>
                </a:cubicBezTo>
                <a:cubicBezTo>
                  <a:pt x="60" y="44"/>
                  <a:pt x="82" y="45"/>
                  <a:pt x="103" y="50"/>
                </a:cubicBezTo>
                <a:cubicBezTo>
                  <a:pt x="106" y="52"/>
                  <a:pt x="109" y="55"/>
                  <a:pt x="112" y="56"/>
                </a:cubicBezTo>
                <a:cubicBezTo>
                  <a:pt x="116" y="58"/>
                  <a:pt x="120" y="57"/>
                  <a:pt x="124" y="59"/>
                </a:cubicBezTo>
                <a:cubicBezTo>
                  <a:pt x="128" y="61"/>
                  <a:pt x="130" y="66"/>
                  <a:pt x="133" y="68"/>
                </a:cubicBezTo>
                <a:cubicBezTo>
                  <a:pt x="137" y="71"/>
                  <a:pt x="141" y="72"/>
                  <a:pt x="145" y="74"/>
                </a:cubicBezTo>
                <a:cubicBezTo>
                  <a:pt x="154" y="86"/>
                  <a:pt x="173" y="111"/>
                  <a:pt x="184" y="119"/>
                </a:cubicBezTo>
                <a:cubicBezTo>
                  <a:pt x="191" y="140"/>
                  <a:pt x="186" y="132"/>
                  <a:pt x="196" y="146"/>
                </a:cubicBezTo>
                <a:cubicBezTo>
                  <a:pt x="195" y="169"/>
                  <a:pt x="207" y="217"/>
                  <a:pt x="178" y="224"/>
                </a:cubicBezTo>
                <a:cubicBezTo>
                  <a:pt x="145" y="217"/>
                  <a:pt x="151" y="227"/>
                  <a:pt x="151" y="200"/>
                </a:cubicBezTo>
              </a:path>
            </a:pathLst>
          </a:custGeom>
          <a:solidFill>
            <a:srgbClr val="00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28880" y="1554120"/>
            <a:ext cx="1361880" cy="3122640"/>
          </a:xfrm>
          <a:custGeom>
            <a:avLst/>
            <a:gdLst/>
            <a:ahLst/>
            <a:rect l="l" t="t" r="r" b="b"/>
            <a:pathLst>
              <a:path w="858" h="1967">
                <a:moveTo>
                  <a:pt x="681" y="410"/>
                </a:moveTo>
                <a:cubicBezTo>
                  <a:pt x="654" y="413"/>
                  <a:pt x="642" y="419"/>
                  <a:pt x="618" y="428"/>
                </a:cubicBezTo>
                <a:cubicBezTo>
                  <a:pt x="605" y="447"/>
                  <a:pt x="587" y="457"/>
                  <a:pt x="573" y="476"/>
                </a:cubicBezTo>
                <a:cubicBezTo>
                  <a:pt x="578" y="555"/>
                  <a:pt x="562" y="543"/>
                  <a:pt x="636" y="554"/>
                </a:cubicBezTo>
                <a:cubicBezTo>
                  <a:pt x="646" y="561"/>
                  <a:pt x="663" y="578"/>
                  <a:pt x="663" y="578"/>
                </a:cubicBezTo>
                <a:cubicBezTo>
                  <a:pt x="655" y="593"/>
                  <a:pt x="651" y="591"/>
                  <a:pt x="636" y="596"/>
                </a:cubicBezTo>
                <a:cubicBezTo>
                  <a:pt x="617" y="615"/>
                  <a:pt x="637" y="599"/>
                  <a:pt x="594" y="608"/>
                </a:cubicBezTo>
                <a:cubicBezTo>
                  <a:pt x="583" y="610"/>
                  <a:pt x="576" y="622"/>
                  <a:pt x="567" y="629"/>
                </a:cubicBezTo>
                <a:cubicBezTo>
                  <a:pt x="556" y="651"/>
                  <a:pt x="556" y="664"/>
                  <a:pt x="552" y="689"/>
                </a:cubicBezTo>
                <a:cubicBezTo>
                  <a:pt x="545" y="733"/>
                  <a:pt x="529" y="783"/>
                  <a:pt x="513" y="824"/>
                </a:cubicBezTo>
                <a:cubicBezTo>
                  <a:pt x="511" y="838"/>
                  <a:pt x="506" y="852"/>
                  <a:pt x="507" y="866"/>
                </a:cubicBezTo>
                <a:cubicBezTo>
                  <a:pt x="507" y="870"/>
                  <a:pt x="566" y="883"/>
                  <a:pt x="573" y="884"/>
                </a:cubicBezTo>
                <a:cubicBezTo>
                  <a:pt x="611" y="900"/>
                  <a:pt x="599" y="923"/>
                  <a:pt x="621" y="953"/>
                </a:cubicBezTo>
                <a:cubicBezTo>
                  <a:pt x="623" y="1017"/>
                  <a:pt x="625" y="1070"/>
                  <a:pt x="645" y="1130"/>
                </a:cubicBezTo>
                <a:cubicBezTo>
                  <a:pt x="639" y="1149"/>
                  <a:pt x="659" y="1169"/>
                  <a:pt x="666" y="1187"/>
                </a:cubicBezTo>
                <a:cubicBezTo>
                  <a:pt x="681" y="1225"/>
                  <a:pt x="702" y="1260"/>
                  <a:pt x="717" y="1298"/>
                </a:cubicBezTo>
                <a:cubicBezTo>
                  <a:pt x="724" y="1316"/>
                  <a:pt x="729" y="1334"/>
                  <a:pt x="735" y="1352"/>
                </a:cubicBezTo>
                <a:cubicBezTo>
                  <a:pt x="737" y="1358"/>
                  <a:pt x="741" y="1370"/>
                  <a:pt x="741" y="1370"/>
                </a:cubicBezTo>
                <a:cubicBezTo>
                  <a:pt x="744" y="1389"/>
                  <a:pt x="759" y="1415"/>
                  <a:pt x="741" y="1427"/>
                </a:cubicBezTo>
                <a:cubicBezTo>
                  <a:pt x="746" y="1468"/>
                  <a:pt x="777" y="1494"/>
                  <a:pt x="801" y="1526"/>
                </a:cubicBezTo>
                <a:cubicBezTo>
                  <a:pt x="817" y="1547"/>
                  <a:pt x="828" y="1573"/>
                  <a:pt x="843" y="1595"/>
                </a:cubicBezTo>
                <a:cubicBezTo>
                  <a:pt x="847" y="1611"/>
                  <a:pt x="854" y="1627"/>
                  <a:pt x="858" y="1643"/>
                </a:cubicBezTo>
                <a:cubicBezTo>
                  <a:pt x="854" y="1691"/>
                  <a:pt x="835" y="1701"/>
                  <a:pt x="792" y="1715"/>
                </a:cubicBezTo>
                <a:cubicBezTo>
                  <a:pt x="777" y="1730"/>
                  <a:pt x="761" y="1741"/>
                  <a:pt x="741" y="1748"/>
                </a:cubicBezTo>
                <a:cubicBezTo>
                  <a:pt x="706" y="1772"/>
                  <a:pt x="662" y="1805"/>
                  <a:pt x="621" y="1820"/>
                </a:cubicBezTo>
                <a:cubicBezTo>
                  <a:pt x="524" y="1855"/>
                  <a:pt x="369" y="1846"/>
                  <a:pt x="270" y="1850"/>
                </a:cubicBezTo>
                <a:cubicBezTo>
                  <a:pt x="211" y="1861"/>
                  <a:pt x="163" y="1869"/>
                  <a:pt x="102" y="1874"/>
                </a:cubicBezTo>
                <a:cubicBezTo>
                  <a:pt x="96" y="1907"/>
                  <a:pt x="88" y="1953"/>
                  <a:pt x="54" y="1967"/>
                </a:cubicBezTo>
                <a:cubicBezTo>
                  <a:pt x="34" y="1952"/>
                  <a:pt x="8" y="1895"/>
                  <a:pt x="0" y="1871"/>
                </a:cubicBezTo>
                <a:cubicBezTo>
                  <a:pt x="2" y="1864"/>
                  <a:pt x="3" y="1857"/>
                  <a:pt x="6" y="1850"/>
                </a:cubicBezTo>
                <a:cubicBezTo>
                  <a:pt x="8" y="1846"/>
                  <a:pt x="13" y="1845"/>
                  <a:pt x="15" y="1841"/>
                </a:cubicBezTo>
                <a:cubicBezTo>
                  <a:pt x="31" y="1809"/>
                  <a:pt x="13" y="1818"/>
                  <a:pt x="33" y="1811"/>
                </a:cubicBezTo>
                <a:cubicBezTo>
                  <a:pt x="44" y="1777"/>
                  <a:pt x="52" y="1739"/>
                  <a:pt x="66" y="1706"/>
                </a:cubicBezTo>
                <a:cubicBezTo>
                  <a:pt x="73" y="1690"/>
                  <a:pt x="83" y="1683"/>
                  <a:pt x="96" y="1670"/>
                </a:cubicBezTo>
                <a:cubicBezTo>
                  <a:pt x="126" y="1640"/>
                  <a:pt x="137" y="1596"/>
                  <a:pt x="162" y="1562"/>
                </a:cubicBezTo>
                <a:cubicBezTo>
                  <a:pt x="180" y="1538"/>
                  <a:pt x="200" y="1512"/>
                  <a:pt x="216" y="1487"/>
                </a:cubicBezTo>
                <a:cubicBezTo>
                  <a:pt x="223" y="1476"/>
                  <a:pt x="226" y="1464"/>
                  <a:pt x="234" y="1454"/>
                </a:cubicBezTo>
                <a:cubicBezTo>
                  <a:pt x="239" y="1448"/>
                  <a:pt x="252" y="1442"/>
                  <a:pt x="252" y="1442"/>
                </a:cubicBezTo>
                <a:cubicBezTo>
                  <a:pt x="244" y="1426"/>
                  <a:pt x="248" y="1420"/>
                  <a:pt x="258" y="1406"/>
                </a:cubicBezTo>
                <a:cubicBezTo>
                  <a:pt x="255" y="1356"/>
                  <a:pt x="251" y="1308"/>
                  <a:pt x="246" y="1259"/>
                </a:cubicBezTo>
                <a:cubicBezTo>
                  <a:pt x="247" y="1243"/>
                  <a:pt x="235" y="1074"/>
                  <a:pt x="300" y="1052"/>
                </a:cubicBezTo>
                <a:cubicBezTo>
                  <a:pt x="304" y="995"/>
                  <a:pt x="294" y="999"/>
                  <a:pt x="336" y="1013"/>
                </a:cubicBezTo>
                <a:cubicBezTo>
                  <a:pt x="355" y="1007"/>
                  <a:pt x="336" y="1012"/>
                  <a:pt x="330" y="995"/>
                </a:cubicBezTo>
                <a:cubicBezTo>
                  <a:pt x="344" y="986"/>
                  <a:pt x="347" y="970"/>
                  <a:pt x="363" y="965"/>
                </a:cubicBezTo>
                <a:cubicBezTo>
                  <a:pt x="381" y="947"/>
                  <a:pt x="401" y="949"/>
                  <a:pt x="426" y="947"/>
                </a:cubicBezTo>
                <a:cubicBezTo>
                  <a:pt x="439" y="943"/>
                  <a:pt x="452" y="939"/>
                  <a:pt x="465" y="935"/>
                </a:cubicBezTo>
                <a:cubicBezTo>
                  <a:pt x="458" y="915"/>
                  <a:pt x="468" y="938"/>
                  <a:pt x="444" y="917"/>
                </a:cubicBezTo>
                <a:cubicBezTo>
                  <a:pt x="424" y="900"/>
                  <a:pt x="460" y="914"/>
                  <a:pt x="432" y="905"/>
                </a:cubicBezTo>
                <a:cubicBezTo>
                  <a:pt x="419" y="867"/>
                  <a:pt x="428" y="861"/>
                  <a:pt x="438" y="803"/>
                </a:cubicBezTo>
                <a:cubicBezTo>
                  <a:pt x="449" y="740"/>
                  <a:pt x="455" y="661"/>
                  <a:pt x="489" y="602"/>
                </a:cubicBezTo>
                <a:cubicBezTo>
                  <a:pt x="499" y="514"/>
                  <a:pt x="461" y="318"/>
                  <a:pt x="597" y="299"/>
                </a:cubicBezTo>
                <a:cubicBezTo>
                  <a:pt x="605" y="288"/>
                  <a:pt x="611" y="279"/>
                  <a:pt x="624" y="275"/>
                </a:cubicBezTo>
                <a:cubicBezTo>
                  <a:pt x="632" y="251"/>
                  <a:pt x="645" y="232"/>
                  <a:pt x="660" y="212"/>
                </a:cubicBezTo>
                <a:cubicBezTo>
                  <a:pt x="669" y="184"/>
                  <a:pt x="689" y="160"/>
                  <a:pt x="699" y="134"/>
                </a:cubicBezTo>
                <a:cubicBezTo>
                  <a:pt x="712" y="98"/>
                  <a:pt x="720" y="30"/>
                  <a:pt x="768" y="14"/>
                </a:cubicBezTo>
                <a:cubicBezTo>
                  <a:pt x="786" y="0"/>
                  <a:pt x="793" y="1"/>
                  <a:pt x="813" y="11"/>
                </a:cubicBezTo>
                <a:cubicBezTo>
                  <a:pt x="817" y="24"/>
                  <a:pt x="823" y="38"/>
                  <a:pt x="831" y="50"/>
                </a:cubicBezTo>
                <a:cubicBezTo>
                  <a:pt x="828" y="96"/>
                  <a:pt x="826" y="156"/>
                  <a:pt x="813" y="203"/>
                </a:cubicBezTo>
                <a:cubicBezTo>
                  <a:pt x="809" y="215"/>
                  <a:pt x="805" y="244"/>
                  <a:pt x="792" y="248"/>
                </a:cubicBezTo>
                <a:cubicBezTo>
                  <a:pt x="789" y="253"/>
                  <a:pt x="787" y="259"/>
                  <a:pt x="783" y="263"/>
                </a:cubicBezTo>
                <a:cubicBezTo>
                  <a:pt x="781" y="266"/>
                  <a:pt x="776" y="266"/>
                  <a:pt x="774" y="269"/>
                </a:cubicBezTo>
                <a:cubicBezTo>
                  <a:pt x="771" y="273"/>
                  <a:pt x="771" y="280"/>
                  <a:pt x="768" y="284"/>
                </a:cubicBezTo>
                <a:cubicBezTo>
                  <a:pt x="763" y="291"/>
                  <a:pt x="750" y="302"/>
                  <a:pt x="750" y="302"/>
                </a:cubicBezTo>
                <a:cubicBezTo>
                  <a:pt x="740" y="333"/>
                  <a:pt x="756" y="291"/>
                  <a:pt x="738" y="314"/>
                </a:cubicBezTo>
                <a:cubicBezTo>
                  <a:pt x="735" y="317"/>
                  <a:pt x="737" y="322"/>
                  <a:pt x="735" y="326"/>
                </a:cubicBezTo>
                <a:cubicBezTo>
                  <a:pt x="732" y="334"/>
                  <a:pt x="723" y="341"/>
                  <a:pt x="717" y="347"/>
                </a:cubicBezTo>
                <a:cubicBezTo>
                  <a:pt x="712" y="367"/>
                  <a:pt x="700" y="373"/>
                  <a:pt x="684" y="383"/>
                </a:cubicBezTo>
                <a:cubicBezTo>
                  <a:pt x="672" y="400"/>
                  <a:pt x="648" y="410"/>
                  <a:pt x="633" y="425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65600" y="3467160"/>
            <a:ext cx="1744560" cy="2028600"/>
          </a:xfrm>
          <a:custGeom>
            <a:avLst/>
            <a:gdLst/>
            <a:ahLst/>
            <a:rect l="l" t="t" r="r" b="b"/>
            <a:pathLst>
              <a:path w="1099" h="1278">
                <a:moveTo>
                  <a:pt x="261" y="6"/>
                </a:moveTo>
                <a:cubicBezTo>
                  <a:pt x="276" y="11"/>
                  <a:pt x="279" y="30"/>
                  <a:pt x="297" y="34"/>
                </a:cubicBezTo>
                <a:cubicBezTo>
                  <a:pt x="359" y="29"/>
                  <a:pt x="376" y="25"/>
                  <a:pt x="457" y="24"/>
                </a:cubicBezTo>
                <a:cubicBezTo>
                  <a:pt x="468" y="31"/>
                  <a:pt x="470" y="52"/>
                  <a:pt x="473" y="64"/>
                </a:cubicBezTo>
                <a:cubicBezTo>
                  <a:pt x="476" y="76"/>
                  <a:pt x="498" y="74"/>
                  <a:pt x="509" y="78"/>
                </a:cubicBezTo>
                <a:cubicBezTo>
                  <a:pt x="517" y="84"/>
                  <a:pt x="527" y="89"/>
                  <a:pt x="537" y="92"/>
                </a:cubicBezTo>
                <a:cubicBezTo>
                  <a:pt x="539" y="99"/>
                  <a:pt x="551" y="106"/>
                  <a:pt x="557" y="110"/>
                </a:cubicBezTo>
                <a:cubicBezTo>
                  <a:pt x="562" y="113"/>
                  <a:pt x="573" y="118"/>
                  <a:pt x="573" y="118"/>
                </a:cubicBezTo>
                <a:cubicBezTo>
                  <a:pt x="605" y="100"/>
                  <a:pt x="640" y="107"/>
                  <a:pt x="675" y="100"/>
                </a:cubicBezTo>
                <a:cubicBezTo>
                  <a:pt x="703" y="102"/>
                  <a:pt x="718" y="108"/>
                  <a:pt x="743" y="114"/>
                </a:cubicBezTo>
                <a:cubicBezTo>
                  <a:pt x="761" y="110"/>
                  <a:pt x="768" y="137"/>
                  <a:pt x="775" y="152"/>
                </a:cubicBezTo>
                <a:cubicBezTo>
                  <a:pt x="778" y="169"/>
                  <a:pt x="783" y="187"/>
                  <a:pt x="789" y="204"/>
                </a:cubicBezTo>
                <a:cubicBezTo>
                  <a:pt x="791" y="222"/>
                  <a:pt x="797" y="243"/>
                  <a:pt x="807" y="258"/>
                </a:cubicBezTo>
                <a:cubicBezTo>
                  <a:pt x="814" y="291"/>
                  <a:pt x="803" y="251"/>
                  <a:pt x="815" y="272"/>
                </a:cubicBezTo>
                <a:cubicBezTo>
                  <a:pt x="829" y="296"/>
                  <a:pt x="832" y="320"/>
                  <a:pt x="855" y="338"/>
                </a:cubicBezTo>
                <a:cubicBezTo>
                  <a:pt x="862" y="359"/>
                  <a:pt x="894" y="369"/>
                  <a:pt x="913" y="374"/>
                </a:cubicBezTo>
                <a:cubicBezTo>
                  <a:pt x="919" y="388"/>
                  <a:pt x="926" y="394"/>
                  <a:pt x="941" y="396"/>
                </a:cubicBezTo>
                <a:cubicBezTo>
                  <a:pt x="955" y="405"/>
                  <a:pt x="969" y="408"/>
                  <a:pt x="985" y="412"/>
                </a:cubicBezTo>
                <a:cubicBezTo>
                  <a:pt x="999" y="411"/>
                  <a:pt x="1015" y="417"/>
                  <a:pt x="1027" y="410"/>
                </a:cubicBezTo>
                <a:cubicBezTo>
                  <a:pt x="1036" y="404"/>
                  <a:pt x="1031" y="389"/>
                  <a:pt x="1037" y="380"/>
                </a:cubicBezTo>
                <a:cubicBezTo>
                  <a:pt x="1044" y="370"/>
                  <a:pt x="1053" y="367"/>
                  <a:pt x="1063" y="364"/>
                </a:cubicBezTo>
                <a:cubicBezTo>
                  <a:pt x="1094" y="366"/>
                  <a:pt x="1099" y="366"/>
                  <a:pt x="1079" y="386"/>
                </a:cubicBezTo>
                <a:cubicBezTo>
                  <a:pt x="1074" y="400"/>
                  <a:pt x="1065" y="408"/>
                  <a:pt x="1059" y="422"/>
                </a:cubicBezTo>
                <a:cubicBezTo>
                  <a:pt x="1047" y="451"/>
                  <a:pt x="1033" y="475"/>
                  <a:pt x="1017" y="502"/>
                </a:cubicBezTo>
                <a:cubicBezTo>
                  <a:pt x="1016" y="504"/>
                  <a:pt x="1016" y="506"/>
                  <a:pt x="1015" y="508"/>
                </a:cubicBezTo>
                <a:cubicBezTo>
                  <a:pt x="1011" y="518"/>
                  <a:pt x="1008" y="529"/>
                  <a:pt x="1001" y="538"/>
                </a:cubicBezTo>
                <a:cubicBezTo>
                  <a:pt x="994" y="547"/>
                  <a:pt x="988" y="556"/>
                  <a:pt x="985" y="566"/>
                </a:cubicBezTo>
                <a:cubicBezTo>
                  <a:pt x="992" y="575"/>
                  <a:pt x="996" y="576"/>
                  <a:pt x="989" y="590"/>
                </a:cubicBezTo>
                <a:cubicBezTo>
                  <a:pt x="978" y="613"/>
                  <a:pt x="949" y="627"/>
                  <a:pt x="937" y="650"/>
                </a:cubicBezTo>
                <a:cubicBezTo>
                  <a:pt x="926" y="670"/>
                  <a:pt x="922" y="692"/>
                  <a:pt x="915" y="714"/>
                </a:cubicBezTo>
                <a:cubicBezTo>
                  <a:pt x="914" y="727"/>
                  <a:pt x="906" y="741"/>
                  <a:pt x="909" y="754"/>
                </a:cubicBezTo>
                <a:cubicBezTo>
                  <a:pt x="912" y="770"/>
                  <a:pt x="925" y="786"/>
                  <a:pt x="929" y="804"/>
                </a:cubicBezTo>
                <a:cubicBezTo>
                  <a:pt x="933" y="846"/>
                  <a:pt x="938" y="869"/>
                  <a:pt x="927" y="914"/>
                </a:cubicBezTo>
                <a:cubicBezTo>
                  <a:pt x="923" y="932"/>
                  <a:pt x="890" y="947"/>
                  <a:pt x="879" y="958"/>
                </a:cubicBezTo>
                <a:cubicBezTo>
                  <a:pt x="866" y="992"/>
                  <a:pt x="839" y="1017"/>
                  <a:pt x="827" y="1052"/>
                </a:cubicBezTo>
                <a:cubicBezTo>
                  <a:pt x="826" y="1050"/>
                  <a:pt x="826" y="1044"/>
                  <a:pt x="825" y="1046"/>
                </a:cubicBezTo>
                <a:cubicBezTo>
                  <a:pt x="815" y="1068"/>
                  <a:pt x="814" y="1113"/>
                  <a:pt x="787" y="1122"/>
                </a:cubicBezTo>
                <a:cubicBezTo>
                  <a:pt x="781" y="1127"/>
                  <a:pt x="774" y="1128"/>
                  <a:pt x="769" y="1134"/>
                </a:cubicBezTo>
                <a:cubicBezTo>
                  <a:pt x="748" y="1160"/>
                  <a:pt x="728" y="1204"/>
                  <a:pt x="697" y="1220"/>
                </a:cubicBezTo>
                <a:cubicBezTo>
                  <a:pt x="678" y="1244"/>
                  <a:pt x="664" y="1258"/>
                  <a:pt x="639" y="1276"/>
                </a:cubicBezTo>
                <a:cubicBezTo>
                  <a:pt x="605" y="1275"/>
                  <a:pt x="581" y="1278"/>
                  <a:pt x="551" y="1268"/>
                </a:cubicBezTo>
                <a:cubicBezTo>
                  <a:pt x="541" y="1258"/>
                  <a:pt x="528" y="1253"/>
                  <a:pt x="517" y="1242"/>
                </a:cubicBezTo>
                <a:cubicBezTo>
                  <a:pt x="508" y="1199"/>
                  <a:pt x="503" y="1164"/>
                  <a:pt x="483" y="1124"/>
                </a:cubicBezTo>
                <a:cubicBezTo>
                  <a:pt x="478" y="1100"/>
                  <a:pt x="476" y="1076"/>
                  <a:pt x="473" y="1052"/>
                </a:cubicBezTo>
                <a:cubicBezTo>
                  <a:pt x="473" y="1048"/>
                  <a:pt x="474" y="942"/>
                  <a:pt x="465" y="914"/>
                </a:cubicBezTo>
                <a:cubicBezTo>
                  <a:pt x="464" y="901"/>
                  <a:pt x="466" y="887"/>
                  <a:pt x="463" y="874"/>
                </a:cubicBezTo>
                <a:cubicBezTo>
                  <a:pt x="462" y="868"/>
                  <a:pt x="453" y="867"/>
                  <a:pt x="449" y="862"/>
                </a:cubicBezTo>
                <a:cubicBezTo>
                  <a:pt x="441" y="850"/>
                  <a:pt x="436" y="837"/>
                  <a:pt x="427" y="826"/>
                </a:cubicBezTo>
                <a:cubicBezTo>
                  <a:pt x="426" y="771"/>
                  <a:pt x="427" y="717"/>
                  <a:pt x="423" y="662"/>
                </a:cubicBezTo>
                <a:cubicBezTo>
                  <a:pt x="422" y="642"/>
                  <a:pt x="423" y="618"/>
                  <a:pt x="411" y="602"/>
                </a:cubicBezTo>
                <a:cubicBezTo>
                  <a:pt x="404" y="592"/>
                  <a:pt x="387" y="599"/>
                  <a:pt x="375" y="598"/>
                </a:cubicBezTo>
                <a:cubicBezTo>
                  <a:pt x="359" y="593"/>
                  <a:pt x="344" y="590"/>
                  <a:pt x="327" y="588"/>
                </a:cubicBezTo>
                <a:cubicBezTo>
                  <a:pt x="317" y="585"/>
                  <a:pt x="295" y="580"/>
                  <a:pt x="283" y="574"/>
                </a:cubicBezTo>
                <a:cubicBezTo>
                  <a:pt x="271" y="568"/>
                  <a:pt x="257" y="557"/>
                  <a:pt x="245" y="554"/>
                </a:cubicBezTo>
                <a:cubicBezTo>
                  <a:pt x="229" y="550"/>
                  <a:pt x="213" y="549"/>
                  <a:pt x="197" y="546"/>
                </a:cubicBezTo>
                <a:cubicBezTo>
                  <a:pt x="173" y="541"/>
                  <a:pt x="153" y="531"/>
                  <a:pt x="129" y="528"/>
                </a:cubicBezTo>
                <a:cubicBezTo>
                  <a:pt x="121" y="523"/>
                  <a:pt x="112" y="520"/>
                  <a:pt x="105" y="514"/>
                </a:cubicBezTo>
                <a:cubicBezTo>
                  <a:pt x="99" y="509"/>
                  <a:pt x="89" y="498"/>
                  <a:pt x="89" y="498"/>
                </a:cubicBezTo>
                <a:cubicBezTo>
                  <a:pt x="82" y="478"/>
                  <a:pt x="94" y="511"/>
                  <a:pt x="63" y="468"/>
                </a:cubicBezTo>
                <a:cubicBezTo>
                  <a:pt x="50" y="450"/>
                  <a:pt x="40" y="431"/>
                  <a:pt x="27" y="414"/>
                </a:cubicBezTo>
                <a:cubicBezTo>
                  <a:pt x="21" y="395"/>
                  <a:pt x="10" y="378"/>
                  <a:pt x="7" y="358"/>
                </a:cubicBezTo>
                <a:cubicBezTo>
                  <a:pt x="8" y="334"/>
                  <a:pt x="0" y="258"/>
                  <a:pt x="21" y="226"/>
                </a:cubicBezTo>
                <a:cubicBezTo>
                  <a:pt x="34" y="181"/>
                  <a:pt x="43" y="154"/>
                  <a:pt x="83" y="130"/>
                </a:cubicBezTo>
                <a:cubicBezTo>
                  <a:pt x="106" y="116"/>
                  <a:pt x="93" y="114"/>
                  <a:pt x="115" y="110"/>
                </a:cubicBezTo>
                <a:cubicBezTo>
                  <a:pt x="130" y="95"/>
                  <a:pt x="150" y="86"/>
                  <a:pt x="165" y="70"/>
                </a:cubicBezTo>
                <a:cubicBezTo>
                  <a:pt x="181" y="52"/>
                  <a:pt x="194" y="26"/>
                  <a:pt x="219" y="18"/>
                </a:cubicBezTo>
                <a:cubicBezTo>
                  <a:pt x="226" y="11"/>
                  <a:pt x="234" y="5"/>
                  <a:pt x="243" y="0"/>
                </a:cubicBezTo>
                <a:cubicBezTo>
                  <a:pt x="253" y="10"/>
                  <a:pt x="257" y="16"/>
                  <a:pt x="271" y="16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06840" y="4660920"/>
            <a:ext cx="163440" cy="392040"/>
          </a:xfrm>
          <a:custGeom>
            <a:avLst/>
            <a:gdLst/>
            <a:ahLst/>
            <a:rect l="l" t="t" r="r" b="b"/>
            <a:pathLst>
              <a:path w="103" h="247">
                <a:moveTo>
                  <a:pt x="69" y="0"/>
                </a:moveTo>
                <a:cubicBezTo>
                  <a:pt x="78" y="3"/>
                  <a:pt x="80" y="15"/>
                  <a:pt x="87" y="22"/>
                </a:cubicBezTo>
                <a:cubicBezTo>
                  <a:pt x="103" y="70"/>
                  <a:pt x="97" y="126"/>
                  <a:pt x="65" y="164"/>
                </a:cubicBezTo>
                <a:cubicBezTo>
                  <a:pt x="62" y="174"/>
                  <a:pt x="59" y="183"/>
                  <a:pt x="53" y="192"/>
                </a:cubicBezTo>
                <a:cubicBezTo>
                  <a:pt x="51" y="204"/>
                  <a:pt x="37" y="243"/>
                  <a:pt x="29" y="246"/>
                </a:cubicBezTo>
                <a:cubicBezTo>
                  <a:pt x="22" y="244"/>
                  <a:pt x="9" y="247"/>
                  <a:pt x="7" y="240"/>
                </a:cubicBezTo>
                <a:cubicBezTo>
                  <a:pt x="0" y="220"/>
                  <a:pt x="4" y="78"/>
                  <a:pt x="5" y="72"/>
                </a:cubicBezTo>
                <a:cubicBezTo>
                  <a:pt x="7" y="63"/>
                  <a:pt x="23" y="69"/>
                  <a:pt x="31" y="66"/>
                </a:cubicBezTo>
                <a:cubicBezTo>
                  <a:pt x="38" y="59"/>
                  <a:pt x="44" y="60"/>
                  <a:pt x="49" y="52"/>
                </a:cubicBezTo>
                <a:cubicBezTo>
                  <a:pt x="54" y="33"/>
                  <a:pt x="58" y="16"/>
                  <a:pt x="69" y="0"/>
                </a:cubicBezTo>
                <a:close/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960720" y="1876320"/>
            <a:ext cx="1901880" cy="2251080"/>
          </a:xfrm>
          <a:custGeom>
            <a:avLst/>
            <a:gdLst/>
            <a:ahLst/>
            <a:rect l="l" t="t" r="r" b="b"/>
            <a:pathLst>
              <a:path w="1198" h="1418">
                <a:moveTo>
                  <a:pt x="255" y="1366"/>
                </a:moveTo>
                <a:cubicBezTo>
                  <a:pt x="238" y="1360"/>
                  <a:pt x="242" y="1341"/>
                  <a:pt x="229" y="1328"/>
                </a:cubicBezTo>
                <a:cubicBezTo>
                  <a:pt x="222" y="1307"/>
                  <a:pt x="202" y="1275"/>
                  <a:pt x="179" y="1266"/>
                </a:cubicBezTo>
                <a:cubicBezTo>
                  <a:pt x="164" y="1244"/>
                  <a:pt x="178" y="1259"/>
                  <a:pt x="165" y="1252"/>
                </a:cubicBezTo>
                <a:cubicBezTo>
                  <a:pt x="161" y="1250"/>
                  <a:pt x="153" y="1244"/>
                  <a:pt x="153" y="1244"/>
                </a:cubicBezTo>
                <a:cubicBezTo>
                  <a:pt x="148" y="1230"/>
                  <a:pt x="141" y="1216"/>
                  <a:pt x="135" y="1202"/>
                </a:cubicBezTo>
                <a:cubicBezTo>
                  <a:pt x="130" y="1190"/>
                  <a:pt x="119" y="1166"/>
                  <a:pt x="119" y="1166"/>
                </a:cubicBezTo>
                <a:cubicBezTo>
                  <a:pt x="114" y="1139"/>
                  <a:pt x="113" y="1135"/>
                  <a:pt x="101" y="1114"/>
                </a:cubicBezTo>
                <a:cubicBezTo>
                  <a:pt x="100" y="1101"/>
                  <a:pt x="101" y="1088"/>
                  <a:pt x="99" y="1076"/>
                </a:cubicBezTo>
                <a:cubicBezTo>
                  <a:pt x="96" y="1057"/>
                  <a:pt x="45" y="1039"/>
                  <a:pt x="25" y="1034"/>
                </a:cubicBezTo>
                <a:cubicBezTo>
                  <a:pt x="17" y="1026"/>
                  <a:pt x="11" y="1024"/>
                  <a:pt x="3" y="1016"/>
                </a:cubicBezTo>
                <a:cubicBezTo>
                  <a:pt x="2" y="1013"/>
                  <a:pt x="0" y="1010"/>
                  <a:pt x="1" y="1008"/>
                </a:cubicBezTo>
                <a:cubicBezTo>
                  <a:pt x="2" y="1005"/>
                  <a:pt x="7" y="1006"/>
                  <a:pt x="9" y="1004"/>
                </a:cubicBezTo>
                <a:cubicBezTo>
                  <a:pt x="18" y="997"/>
                  <a:pt x="18" y="984"/>
                  <a:pt x="27" y="978"/>
                </a:cubicBezTo>
                <a:cubicBezTo>
                  <a:pt x="68" y="917"/>
                  <a:pt x="106" y="925"/>
                  <a:pt x="177" y="922"/>
                </a:cubicBezTo>
                <a:cubicBezTo>
                  <a:pt x="179" y="917"/>
                  <a:pt x="194" y="885"/>
                  <a:pt x="195" y="884"/>
                </a:cubicBezTo>
                <a:cubicBezTo>
                  <a:pt x="199" y="880"/>
                  <a:pt x="211" y="876"/>
                  <a:pt x="211" y="876"/>
                </a:cubicBezTo>
                <a:cubicBezTo>
                  <a:pt x="218" y="865"/>
                  <a:pt x="214" y="875"/>
                  <a:pt x="211" y="856"/>
                </a:cubicBezTo>
                <a:cubicBezTo>
                  <a:pt x="207" y="829"/>
                  <a:pt x="203" y="818"/>
                  <a:pt x="187" y="798"/>
                </a:cubicBezTo>
                <a:cubicBezTo>
                  <a:pt x="181" y="791"/>
                  <a:pt x="169" y="776"/>
                  <a:pt x="169" y="776"/>
                </a:cubicBezTo>
                <a:cubicBezTo>
                  <a:pt x="157" y="739"/>
                  <a:pt x="149" y="662"/>
                  <a:pt x="149" y="662"/>
                </a:cubicBezTo>
                <a:cubicBezTo>
                  <a:pt x="167" y="650"/>
                  <a:pt x="201" y="655"/>
                  <a:pt x="225" y="650"/>
                </a:cubicBezTo>
                <a:cubicBezTo>
                  <a:pt x="239" y="636"/>
                  <a:pt x="230" y="646"/>
                  <a:pt x="249" y="614"/>
                </a:cubicBezTo>
                <a:cubicBezTo>
                  <a:pt x="253" y="607"/>
                  <a:pt x="260" y="602"/>
                  <a:pt x="265" y="596"/>
                </a:cubicBezTo>
                <a:cubicBezTo>
                  <a:pt x="267" y="594"/>
                  <a:pt x="269" y="592"/>
                  <a:pt x="271" y="590"/>
                </a:cubicBezTo>
                <a:cubicBezTo>
                  <a:pt x="276" y="582"/>
                  <a:pt x="277" y="571"/>
                  <a:pt x="285" y="566"/>
                </a:cubicBezTo>
                <a:cubicBezTo>
                  <a:pt x="297" y="559"/>
                  <a:pt x="325" y="551"/>
                  <a:pt x="339" y="548"/>
                </a:cubicBezTo>
                <a:cubicBezTo>
                  <a:pt x="351" y="540"/>
                  <a:pt x="367" y="538"/>
                  <a:pt x="381" y="530"/>
                </a:cubicBezTo>
                <a:cubicBezTo>
                  <a:pt x="393" y="474"/>
                  <a:pt x="377" y="478"/>
                  <a:pt x="437" y="472"/>
                </a:cubicBezTo>
                <a:cubicBezTo>
                  <a:pt x="450" y="468"/>
                  <a:pt x="459" y="452"/>
                  <a:pt x="467" y="442"/>
                </a:cubicBezTo>
                <a:cubicBezTo>
                  <a:pt x="481" y="384"/>
                  <a:pt x="469" y="292"/>
                  <a:pt x="533" y="276"/>
                </a:cubicBezTo>
                <a:cubicBezTo>
                  <a:pt x="538" y="258"/>
                  <a:pt x="534" y="265"/>
                  <a:pt x="541" y="254"/>
                </a:cubicBezTo>
                <a:cubicBezTo>
                  <a:pt x="540" y="237"/>
                  <a:pt x="539" y="224"/>
                  <a:pt x="533" y="208"/>
                </a:cubicBezTo>
                <a:cubicBezTo>
                  <a:pt x="530" y="188"/>
                  <a:pt x="520" y="164"/>
                  <a:pt x="499" y="160"/>
                </a:cubicBezTo>
                <a:cubicBezTo>
                  <a:pt x="494" y="157"/>
                  <a:pt x="487" y="156"/>
                  <a:pt x="483" y="152"/>
                </a:cubicBezTo>
                <a:cubicBezTo>
                  <a:pt x="480" y="149"/>
                  <a:pt x="475" y="140"/>
                  <a:pt x="475" y="140"/>
                </a:cubicBezTo>
                <a:cubicBezTo>
                  <a:pt x="476" y="137"/>
                  <a:pt x="477" y="133"/>
                  <a:pt x="477" y="130"/>
                </a:cubicBezTo>
                <a:cubicBezTo>
                  <a:pt x="484" y="55"/>
                  <a:pt x="468" y="84"/>
                  <a:pt x="517" y="68"/>
                </a:cubicBezTo>
                <a:cubicBezTo>
                  <a:pt x="528" y="60"/>
                  <a:pt x="542" y="54"/>
                  <a:pt x="553" y="46"/>
                </a:cubicBezTo>
                <a:cubicBezTo>
                  <a:pt x="582" y="25"/>
                  <a:pt x="592" y="13"/>
                  <a:pt x="627" y="0"/>
                </a:cubicBezTo>
                <a:cubicBezTo>
                  <a:pt x="634" y="20"/>
                  <a:pt x="626" y="53"/>
                  <a:pt x="629" y="74"/>
                </a:cubicBezTo>
                <a:cubicBezTo>
                  <a:pt x="630" y="82"/>
                  <a:pt x="649" y="94"/>
                  <a:pt x="655" y="98"/>
                </a:cubicBezTo>
                <a:cubicBezTo>
                  <a:pt x="659" y="108"/>
                  <a:pt x="664" y="118"/>
                  <a:pt x="669" y="128"/>
                </a:cubicBezTo>
                <a:cubicBezTo>
                  <a:pt x="674" y="154"/>
                  <a:pt x="682" y="181"/>
                  <a:pt x="705" y="196"/>
                </a:cubicBezTo>
                <a:cubicBezTo>
                  <a:pt x="707" y="209"/>
                  <a:pt x="711" y="219"/>
                  <a:pt x="713" y="232"/>
                </a:cubicBezTo>
                <a:cubicBezTo>
                  <a:pt x="715" y="267"/>
                  <a:pt x="717" y="304"/>
                  <a:pt x="729" y="338"/>
                </a:cubicBezTo>
                <a:cubicBezTo>
                  <a:pt x="734" y="352"/>
                  <a:pt x="746" y="362"/>
                  <a:pt x="753" y="374"/>
                </a:cubicBezTo>
                <a:cubicBezTo>
                  <a:pt x="761" y="388"/>
                  <a:pt x="761" y="409"/>
                  <a:pt x="775" y="418"/>
                </a:cubicBezTo>
                <a:cubicBezTo>
                  <a:pt x="777" y="437"/>
                  <a:pt x="781" y="456"/>
                  <a:pt x="787" y="474"/>
                </a:cubicBezTo>
                <a:cubicBezTo>
                  <a:pt x="791" y="529"/>
                  <a:pt x="793" y="514"/>
                  <a:pt x="831" y="544"/>
                </a:cubicBezTo>
                <a:cubicBezTo>
                  <a:pt x="844" y="554"/>
                  <a:pt x="853" y="565"/>
                  <a:pt x="869" y="568"/>
                </a:cubicBezTo>
                <a:cubicBezTo>
                  <a:pt x="857" y="586"/>
                  <a:pt x="913" y="578"/>
                  <a:pt x="915" y="578"/>
                </a:cubicBezTo>
                <a:cubicBezTo>
                  <a:pt x="927" y="590"/>
                  <a:pt x="936" y="605"/>
                  <a:pt x="949" y="618"/>
                </a:cubicBezTo>
                <a:cubicBezTo>
                  <a:pt x="952" y="627"/>
                  <a:pt x="968" y="674"/>
                  <a:pt x="975" y="680"/>
                </a:cubicBezTo>
                <a:cubicBezTo>
                  <a:pt x="989" y="691"/>
                  <a:pt x="1019" y="693"/>
                  <a:pt x="1037" y="698"/>
                </a:cubicBezTo>
                <a:cubicBezTo>
                  <a:pt x="1041" y="705"/>
                  <a:pt x="1043" y="713"/>
                  <a:pt x="1047" y="720"/>
                </a:cubicBezTo>
                <a:cubicBezTo>
                  <a:pt x="1050" y="726"/>
                  <a:pt x="1059" y="738"/>
                  <a:pt x="1059" y="738"/>
                </a:cubicBezTo>
                <a:cubicBezTo>
                  <a:pt x="1064" y="756"/>
                  <a:pt x="1065" y="794"/>
                  <a:pt x="1047" y="804"/>
                </a:cubicBezTo>
                <a:cubicBezTo>
                  <a:pt x="1034" y="811"/>
                  <a:pt x="1018" y="807"/>
                  <a:pt x="1003" y="808"/>
                </a:cubicBezTo>
                <a:cubicBezTo>
                  <a:pt x="994" y="811"/>
                  <a:pt x="993" y="819"/>
                  <a:pt x="985" y="826"/>
                </a:cubicBezTo>
                <a:cubicBezTo>
                  <a:pt x="980" y="847"/>
                  <a:pt x="988" y="846"/>
                  <a:pt x="1005" y="852"/>
                </a:cubicBezTo>
                <a:cubicBezTo>
                  <a:pt x="1014" y="861"/>
                  <a:pt x="1016" y="864"/>
                  <a:pt x="1031" y="870"/>
                </a:cubicBezTo>
                <a:cubicBezTo>
                  <a:pt x="1038" y="873"/>
                  <a:pt x="1051" y="878"/>
                  <a:pt x="1051" y="878"/>
                </a:cubicBezTo>
                <a:cubicBezTo>
                  <a:pt x="1086" y="913"/>
                  <a:pt x="1108" y="932"/>
                  <a:pt x="1159" y="942"/>
                </a:cubicBezTo>
                <a:cubicBezTo>
                  <a:pt x="1193" y="965"/>
                  <a:pt x="1198" y="967"/>
                  <a:pt x="1057" y="944"/>
                </a:cubicBezTo>
                <a:cubicBezTo>
                  <a:pt x="1049" y="943"/>
                  <a:pt x="1055" y="927"/>
                  <a:pt x="1049" y="922"/>
                </a:cubicBezTo>
                <a:cubicBezTo>
                  <a:pt x="1021" y="897"/>
                  <a:pt x="1029" y="902"/>
                  <a:pt x="1001" y="894"/>
                </a:cubicBezTo>
                <a:cubicBezTo>
                  <a:pt x="989" y="886"/>
                  <a:pt x="979" y="876"/>
                  <a:pt x="967" y="868"/>
                </a:cubicBezTo>
                <a:cubicBezTo>
                  <a:pt x="942" y="833"/>
                  <a:pt x="918" y="829"/>
                  <a:pt x="875" y="826"/>
                </a:cubicBezTo>
                <a:cubicBezTo>
                  <a:pt x="866" y="817"/>
                  <a:pt x="863" y="811"/>
                  <a:pt x="849" y="814"/>
                </a:cubicBezTo>
                <a:cubicBezTo>
                  <a:pt x="837" y="826"/>
                  <a:pt x="815" y="847"/>
                  <a:pt x="799" y="852"/>
                </a:cubicBezTo>
                <a:cubicBezTo>
                  <a:pt x="796" y="869"/>
                  <a:pt x="791" y="885"/>
                  <a:pt x="785" y="902"/>
                </a:cubicBezTo>
                <a:cubicBezTo>
                  <a:pt x="780" y="947"/>
                  <a:pt x="782" y="982"/>
                  <a:pt x="767" y="1020"/>
                </a:cubicBezTo>
                <a:cubicBezTo>
                  <a:pt x="765" y="1032"/>
                  <a:pt x="761" y="1038"/>
                  <a:pt x="759" y="1050"/>
                </a:cubicBezTo>
                <a:cubicBezTo>
                  <a:pt x="760" y="1064"/>
                  <a:pt x="758" y="1078"/>
                  <a:pt x="761" y="1092"/>
                </a:cubicBezTo>
                <a:cubicBezTo>
                  <a:pt x="763" y="1101"/>
                  <a:pt x="788" y="1102"/>
                  <a:pt x="795" y="1104"/>
                </a:cubicBezTo>
                <a:cubicBezTo>
                  <a:pt x="818" y="1112"/>
                  <a:pt x="830" y="1127"/>
                  <a:pt x="849" y="1140"/>
                </a:cubicBezTo>
                <a:cubicBezTo>
                  <a:pt x="857" y="1152"/>
                  <a:pt x="848" y="1153"/>
                  <a:pt x="837" y="1156"/>
                </a:cubicBezTo>
                <a:cubicBezTo>
                  <a:pt x="818" y="1168"/>
                  <a:pt x="827" y="1165"/>
                  <a:pt x="811" y="1168"/>
                </a:cubicBezTo>
                <a:cubicBezTo>
                  <a:pt x="781" y="1165"/>
                  <a:pt x="778" y="1153"/>
                  <a:pt x="747" y="1150"/>
                </a:cubicBezTo>
                <a:cubicBezTo>
                  <a:pt x="734" y="1147"/>
                  <a:pt x="722" y="1141"/>
                  <a:pt x="709" y="1138"/>
                </a:cubicBezTo>
                <a:cubicBezTo>
                  <a:pt x="699" y="1123"/>
                  <a:pt x="687" y="1114"/>
                  <a:pt x="671" y="1106"/>
                </a:cubicBezTo>
                <a:cubicBezTo>
                  <a:pt x="664" y="1086"/>
                  <a:pt x="632" y="1043"/>
                  <a:pt x="611" y="1036"/>
                </a:cubicBezTo>
                <a:cubicBezTo>
                  <a:pt x="603" y="1038"/>
                  <a:pt x="597" y="1042"/>
                  <a:pt x="589" y="1044"/>
                </a:cubicBezTo>
                <a:cubicBezTo>
                  <a:pt x="579" y="1051"/>
                  <a:pt x="566" y="1056"/>
                  <a:pt x="555" y="1060"/>
                </a:cubicBezTo>
                <a:cubicBezTo>
                  <a:pt x="551" y="1061"/>
                  <a:pt x="543" y="1064"/>
                  <a:pt x="543" y="1064"/>
                </a:cubicBezTo>
                <a:cubicBezTo>
                  <a:pt x="507" y="1062"/>
                  <a:pt x="456" y="1064"/>
                  <a:pt x="417" y="1056"/>
                </a:cubicBezTo>
                <a:cubicBezTo>
                  <a:pt x="372" y="1057"/>
                  <a:pt x="292" y="1018"/>
                  <a:pt x="283" y="1062"/>
                </a:cubicBezTo>
                <a:cubicBezTo>
                  <a:pt x="280" y="1075"/>
                  <a:pt x="308" y="1079"/>
                  <a:pt x="313" y="1080"/>
                </a:cubicBezTo>
                <a:cubicBezTo>
                  <a:pt x="322" y="1087"/>
                  <a:pt x="333" y="1091"/>
                  <a:pt x="343" y="1094"/>
                </a:cubicBezTo>
                <a:cubicBezTo>
                  <a:pt x="348" y="1102"/>
                  <a:pt x="357" y="1105"/>
                  <a:pt x="363" y="1114"/>
                </a:cubicBezTo>
                <a:cubicBezTo>
                  <a:pt x="369" y="1122"/>
                  <a:pt x="368" y="1127"/>
                  <a:pt x="375" y="1134"/>
                </a:cubicBezTo>
                <a:cubicBezTo>
                  <a:pt x="377" y="1125"/>
                  <a:pt x="393" y="1114"/>
                  <a:pt x="393" y="1114"/>
                </a:cubicBezTo>
                <a:cubicBezTo>
                  <a:pt x="400" y="1093"/>
                  <a:pt x="411" y="1101"/>
                  <a:pt x="433" y="1102"/>
                </a:cubicBezTo>
                <a:cubicBezTo>
                  <a:pt x="450" y="1105"/>
                  <a:pt x="450" y="1105"/>
                  <a:pt x="459" y="1118"/>
                </a:cubicBezTo>
                <a:cubicBezTo>
                  <a:pt x="457" y="1147"/>
                  <a:pt x="459" y="1144"/>
                  <a:pt x="443" y="1160"/>
                </a:cubicBezTo>
                <a:cubicBezTo>
                  <a:pt x="440" y="1167"/>
                  <a:pt x="438" y="1175"/>
                  <a:pt x="435" y="1182"/>
                </a:cubicBezTo>
                <a:cubicBezTo>
                  <a:pt x="431" y="1190"/>
                  <a:pt x="423" y="1206"/>
                  <a:pt x="423" y="1206"/>
                </a:cubicBezTo>
                <a:cubicBezTo>
                  <a:pt x="419" y="1229"/>
                  <a:pt x="400" y="1282"/>
                  <a:pt x="379" y="1292"/>
                </a:cubicBezTo>
                <a:cubicBezTo>
                  <a:pt x="362" y="1318"/>
                  <a:pt x="329" y="1391"/>
                  <a:pt x="297" y="1396"/>
                </a:cubicBezTo>
                <a:cubicBezTo>
                  <a:pt x="242" y="1418"/>
                  <a:pt x="295" y="1374"/>
                  <a:pt x="253" y="1368"/>
                </a:cubicBezTo>
                <a:cubicBezTo>
                  <a:pt x="244" y="1365"/>
                  <a:pt x="245" y="1366"/>
                  <a:pt x="255" y="1366"/>
                </a:cubicBezTo>
                <a:close/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88040" y="2543040"/>
            <a:ext cx="444600" cy="262080"/>
          </a:xfrm>
          <a:custGeom>
            <a:avLst/>
            <a:gdLst/>
            <a:ahLst/>
            <a:rect l="l" t="t" r="r" b="b"/>
            <a:pathLst>
              <a:path w="280" h="165">
                <a:moveTo>
                  <a:pt x="280" y="30"/>
                </a:moveTo>
                <a:cubicBezTo>
                  <a:pt x="250" y="20"/>
                  <a:pt x="213" y="41"/>
                  <a:pt x="190" y="18"/>
                </a:cubicBezTo>
                <a:cubicBezTo>
                  <a:pt x="187" y="10"/>
                  <a:pt x="184" y="6"/>
                  <a:pt x="178" y="0"/>
                </a:cubicBezTo>
                <a:cubicBezTo>
                  <a:pt x="151" y="3"/>
                  <a:pt x="130" y="19"/>
                  <a:pt x="104" y="28"/>
                </a:cubicBezTo>
                <a:cubicBezTo>
                  <a:pt x="91" y="37"/>
                  <a:pt x="78" y="43"/>
                  <a:pt x="66" y="52"/>
                </a:cubicBezTo>
                <a:cubicBezTo>
                  <a:pt x="57" y="59"/>
                  <a:pt x="38" y="74"/>
                  <a:pt x="38" y="74"/>
                </a:cubicBezTo>
                <a:cubicBezTo>
                  <a:pt x="34" y="92"/>
                  <a:pt x="20" y="97"/>
                  <a:pt x="4" y="100"/>
                </a:cubicBezTo>
                <a:cubicBezTo>
                  <a:pt x="3" y="102"/>
                  <a:pt x="0" y="104"/>
                  <a:pt x="0" y="106"/>
                </a:cubicBezTo>
                <a:cubicBezTo>
                  <a:pt x="1" y="118"/>
                  <a:pt x="12" y="129"/>
                  <a:pt x="16" y="140"/>
                </a:cubicBezTo>
                <a:cubicBezTo>
                  <a:pt x="18" y="145"/>
                  <a:pt x="18" y="152"/>
                  <a:pt x="22" y="156"/>
                </a:cubicBezTo>
                <a:cubicBezTo>
                  <a:pt x="30" y="165"/>
                  <a:pt x="45" y="162"/>
                  <a:pt x="56" y="164"/>
                </a:cubicBezTo>
                <a:cubicBezTo>
                  <a:pt x="69" y="162"/>
                  <a:pt x="81" y="161"/>
                  <a:pt x="94" y="158"/>
                </a:cubicBezTo>
                <a:cubicBezTo>
                  <a:pt x="97" y="157"/>
                  <a:pt x="99" y="155"/>
                  <a:pt x="102" y="154"/>
                </a:cubicBezTo>
                <a:cubicBezTo>
                  <a:pt x="108" y="152"/>
                  <a:pt x="120" y="148"/>
                  <a:pt x="120" y="148"/>
                </a:cubicBezTo>
                <a:cubicBezTo>
                  <a:pt x="132" y="139"/>
                  <a:pt x="153" y="135"/>
                  <a:pt x="168" y="132"/>
                </a:cubicBezTo>
                <a:cubicBezTo>
                  <a:pt x="181" y="111"/>
                  <a:pt x="182" y="103"/>
                  <a:pt x="206" y="100"/>
                </a:cubicBezTo>
                <a:cubicBezTo>
                  <a:pt x="227" y="91"/>
                  <a:pt x="233" y="66"/>
                  <a:pt x="252" y="62"/>
                </a:cubicBezTo>
                <a:cubicBezTo>
                  <a:pt x="263" y="53"/>
                  <a:pt x="259" y="57"/>
                  <a:pt x="264" y="52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00680" y="2994120"/>
            <a:ext cx="252360" cy="360360"/>
          </a:xfrm>
          <a:custGeom>
            <a:avLst/>
            <a:gdLst/>
            <a:ahLst/>
            <a:rect l="l" t="t" r="r" b="b"/>
            <a:pathLst>
              <a:path w="159" h="227">
                <a:moveTo>
                  <a:pt x="37" y="2"/>
                </a:moveTo>
                <a:cubicBezTo>
                  <a:pt x="25" y="4"/>
                  <a:pt x="24" y="8"/>
                  <a:pt x="17" y="18"/>
                </a:cubicBezTo>
                <a:cubicBezTo>
                  <a:pt x="10" y="67"/>
                  <a:pt x="0" y="133"/>
                  <a:pt x="33" y="174"/>
                </a:cubicBezTo>
                <a:cubicBezTo>
                  <a:pt x="35" y="183"/>
                  <a:pt x="47" y="196"/>
                  <a:pt x="47" y="196"/>
                </a:cubicBezTo>
                <a:cubicBezTo>
                  <a:pt x="50" y="205"/>
                  <a:pt x="60" y="212"/>
                  <a:pt x="69" y="214"/>
                </a:cubicBezTo>
                <a:cubicBezTo>
                  <a:pt x="88" y="227"/>
                  <a:pt x="107" y="219"/>
                  <a:pt x="131" y="218"/>
                </a:cubicBezTo>
                <a:cubicBezTo>
                  <a:pt x="139" y="201"/>
                  <a:pt x="136" y="183"/>
                  <a:pt x="147" y="168"/>
                </a:cubicBezTo>
                <a:cubicBezTo>
                  <a:pt x="153" y="146"/>
                  <a:pt x="156" y="136"/>
                  <a:pt x="159" y="110"/>
                </a:cubicBezTo>
                <a:cubicBezTo>
                  <a:pt x="137" y="80"/>
                  <a:pt x="123" y="48"/>
                  <a:pt x="89" y="28"/>
                </a:cubicBezTo>
                <a:cubicBezTo>
                  <a:pt x="75" y="5"/>
                  <a:pt x="79" y="6"/>
                  <a:pt x="53" y="0"/>
                </a:cubicBezTo>
                <a:cubicBezTo>
                  <a:pt x="43" y="1"/>
                  <a:pt x="21" y="0"/>
                  <a:pt x="15" y="12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84680" y="3425760"/>
            <a:ext cx="339840" cy="114480"/>
          </a:xfrm>
          <a:custGeom>
            <a:avLst/>
            <a:gdLst/>
            <a:ahLst/>
            <a:rect l="l" t="t" r="r" b="b"/>
            <a:pathLst>
              <a:path w="214" h="72">
                <a:moveTo>
                  <a:pt x="212" y="46"/>
                </a:moveTo>
                <a:cubicBezTo>
                  <a:pt x="196" y="51"/>
                  <a:pt x="182" y="60"/>
                  <a:pt x="166" y="64"/>
                </a:cubicBezTo>
                <a:cubicBezTo>
                  <a:pt x="156" y="66"/>
                  <a:pt x="136" y="70"/>
                  <a:pt x="136" y="70"/>
                </a:cubicBezTo>
                <a:cubicBezTo>
                  <a:pt x="121" y="68"/>
                  <a:pt x="101" y="72"/>
                  <a:pt x="92" y="60"/>
                </a:cubicBezTo>
                <a:cubicBezTo>
                  <a:pt x="86" y="52"/>
                  <a:pt x="89" y="38"/>
                  <a:pt x="76" y="36"/>
                </a:cubicBezTo>
                <a:cubicBezTo>
                  <a:pt x="57" y="34"/>
                  <a:pt x="39" y="33"/>
                  <a:pt x="20" y="32"/>
                </a:cubicBezTo>
                <a:cubicBezTo>
                  <a:pt x="13" y="25"/>
                  <a:pt x="8" y="25"/>
                  <a:pt x="0" y="20"/>
                </a:cubicBezTo>
                <a:cubicBezTo>
                  <a:pt x="12" y="4"/>
                  <a:pt x="45" y="5"/>
                  <a:pt x="64" y="2"/>
                </a:cubicBezTo>
                <a:cubicBezTo>
                  <a:pt x="106" y="3"/>
                  <a:pt x="150" y="0"/>
                  <a:pt x="192" y="4"/>
                </a:cubicBezTo>
                <a:cubicBezTo>
                  <a:pt x="197" y="11"/>
                  <a:pt x="203" y="17"/>
                  <a:pt x="208" y="24"/>
                </a:cubicBezTo>
                <a:cubicBezTo>
                  <a:pt x="212" y="39"/>
                  <a:pt x="214" y="44"/>
                  <a:pt x="208" y="66"/>
                </a:cubicBezTo>
                <a:cubicBezTo>
                  <a:pt x="207" y="71"/>
                  <a:pt x="196" y="54"/>
                  <a:pt x="196" y="54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4160" y="2536920"/>
            <a:ext cx="139680" cy="831600"/>
          </a:xfrm>
          <a:custGeom>
            <a:avLst/>
            <a:gdLst/>
            <a:ahLst/>
            <a:rect l="l" t="t" r="r" b="b"/>
            <a:pathLst>
              <a:path w="88" h="524">
                <a:moveTo>
                  <a:pt x="14" y="10"/>
                </a:moveTo>
                <a:cubicBezTo>
                  <a:pt x="16" y="174"/>
                  <a:pt x="0" y="339"/>
                  <a:pt x="20" y="502"/>
                </a:cubicBezTo>
                <a:cubicBezTo>
                  <a:pt x="23" y="524"/>
                  <a:pt x="75" y="494"/>
                  <a:pt x="80" y="472"/>
                </a:cubicBezTo>
                <a:cubicBezTo>
                  <a:pt x="71" y="68"/>
                  <a:pt x="88" y="342"/>
                  <a:pt x="56" y="82"/>
                </a:cubicBezTo>
                <a:cubicBezTo>
                  <a:pt x="53" y="58"/>
                  <a:pt x="62" y="31"/>
                  <a:pt x="50" y="10"/>
                </a:cubicBezTo>
                <a:cubicBezTo>
                  <a:pt x="44" y="0"/>
                  <a:pt x="26" y="10"/>
                  <a:pt x="14" y="10"/>
                </a:cubicBezTo>
                <a:close/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2680" y="1770120"/>
            <a:ext cx="809640" cy="857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36680" y="3281400"/>
            <a:ext cx="1150920" cy="1368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4320" y="5081760"/>
            <a:ext cx="809640" cy="569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05400" y="2128680"/>
            <a:ext cx="1079280" cy="936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6680" y="2994120"/>
            <a:ext cx="809640" cy="857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84280" y="47214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tri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92680" y="4794120"/>
            <a:ext cx="287280" cy="216000"/>
          </a:xfrm>
          <a:prstGeom prst="rect">
            <a:avLst/>
          </a:pr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43600" y="5010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re 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92680" y="5010120"/>
            <a:ext cx="287280" cy="216000"/>
          </a:xfrm>
          <a:prstGeom prst="rect">
            <a:avLst/>
          </a:prstGeom>
          <a:solidFill>
            <a:srgbClr val="800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1400" y="5297400"/>
            <a:ext cx="502920" cy="289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28280" y="529740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veau pays industrial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87960" y="4794120"/>
            <a:ext cx="432000" cy="216000"/>
          </a:xfrm>
          <a:prstGeom prst="rect">
            <a:avLst/>
          </a:pr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23840" y="4745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5040" y="5010120"/>
            <a:ext cx="432000" cy="36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80280" y="5081760"/>
            <a:ext cx="113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s émerg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28320" y="928800"/>
            <a:ext cx="1127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NPI d’A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1 Corée du s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2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3 singap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Times New Roman"/>
              </a:rPr>
              <a:t>4 hong ko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65760" y="1841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70480" y="2344680"/>
            <a:ext cx="257040" cy="2764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14840" y="328140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97400" y="256212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4040" y="833400"/>
            <a:ext cx="361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Times New Roman"/>
              </a:rPr>
              <a:t>Les grandes organisation économique rég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LENA (Association de libre Elevage Nord Améric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.E (Union Europé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ERCOSE ( marché commun du sud de l’Amer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EAN ‘association des Nation Unis Sud Est asiat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92320" y="2705040"/>
            <a:ext cx="1079640" cy="8650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633760"/>
            <a:ext cx="1695600" cy="2214360"/>
          </a:xfrm>
          <a:prstGeom prst="ellipse">
            <a:avLst/>
          </a:prstGeom>
          <a:noFill/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1193760"/>
            <a:ext cx="2868840" cy="1505160"/>
          </a:xfrm>
          <a:prstGeom prst="ellipse">
            <a:avLst/>
          </a:prstGeom>
          <a:noFill/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21400" y="2778120"/>
            <a:ext cx="1150920" cy="934920"/>
          </a:xfrm>
          <a:prstGeom prst="ellipse">
            <a:avLst/>
          </a:prstGeom>
          <a:noFill/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57520" y="1390680"/>
            <a:ext cx="863640" cy="1200240"/>
          </a:xfrm>
          <a:custGeom>
            <a:avLst/>
            <a:gdLst/>
            <a:ahLst/>
            <a:rect l="l" t="t" r="r" b="b"/>
            <a:pathLst>
              <a:path w="544" h="756">
                <a:moveTo>
                  <a:pt x="66" y="684"/>
                </a:moveTo>
                <a:cubicBezTo>
                  <a:pt x="34" y="619"/>
                  <a:pt x="72" y="703"/>
                  <a:pt x="36" y="552"/>
                </a:cubicBezTo>
                <a:cubicBezTo>
                  <a:pt x="31" y="529"/>
                  <a:pt x="19" y="508"/>
                  <a:pt x="12" y="486"/>
                </a:cubicBezTo>
                <a:cubicBezTo>
                  <a:pt x="7" y="468"/>
                  <a:pt x="4" y="450"/>
                  <a:pt x="0" y="432"/>
                </a:cubicBezTo>
                <a:cubicBezTo>
                  <a:pt x="4" y="414"/>
                  <a:pt x="6" y="395"/>
                  <a:pt x="12" y="378"/>
                </a:cubicBezTo>
                <a:cubicBezTo>
                  <a:pt x="14" y="371"/>
                  <a:pt x="23" y="367"/>
                  <a:pt x="24" y="360"/>
                </a:cubicBezTo>
                <a:cubicBezTo>
                  <a:pt x="34" y="291"/>
                  <a:pt x="18" y="257"/>
                  <a:pt x="48" y="198"/>
                </a:cubicBezTo>
                <a:cubicBezTo>
                  <a:pt x="62" y="170"/>
                  <a:pt x="145" y="135"/>
                  <a:pt x="180" y="126"/>
                </a:cubicBezTo>
                <a:cubicBezTo>
                  <a:pt x="213" y="101"/>
                  <a:pt x="244" y="87"/>
                  <a:pt x="282" y="72"/>
                </a:cubicBezTo>
                <a:cubicBezTo>
                  <a:pt x="329" y="25"/>
                  <a:pt x="336" y="10"/>
                  <a:pt x="408" y="0"/>
                </a:cubicBezTo>
                <a:cubicBezTo>
                  <a:pt x="421" y="69"/>
                  <a:pt x="466" y="181"/>
                  <a:pt x="384" y="222"/>
                </a:cubicBezTo>
                <a:cubicBezTo>
                  <a:pt x="359" y="264"/>
                  <a:pt x="355" y="248"/>
                  <a:pt x="318" y="276"/>
                </a:cubicBezTo>
                <a:cubicBezTo>
                  <a:pt x="314" y="284"/>
                  <a:pt x="312" y="293"/>
                  <a:pt x="306" y="300"/>
                </a:cubicBezTo>
                <a:cubicBezTo>
                  <a:pt x="301" y="306"/>
                  <a:pt x="291" y="306"/>
                  <a:pt x="288" y="312"/>
                </a:cubicBezTo>
                <a:cubicBezTo>
                  <a:pt x="283" y="323"/>
                  <a:pt x="270" y="351"/>
                  <a:pt x="282" y="348"/>
                </a:cubicBezTo>
                <a:cubicBezTo>
                  <a:pt x="299" y="344"/>
                  <a:pt x="303" y="321"/>
                  <a:pt x="312" y="306"/>
                </a:cubicBezTo>
                <a:cubicBezTo>
                  <a:pt x="331" y="273"/>
                  <a:pt x="349" y="238"/>
                  <a:pt x="366" y="204"/>
                </a:cubicBezTo>
                <a:cubicBezTo>
                  <a:pt x="374" y="149"/>
                  <a:pt x="369" y="157"/>
                  <a:pt x="420" y="144"/>
                </a:cubicBezTo>
                <a:cubicBezTo>
                  <a:pt x="443" y="147"/>
                  <a:pt x="467" y="146"/>
                  <a:pt x="486" y="162"/>
                </a:cubicBezTo>
                <a:cubicBezTo>
                  <a:pt x="509" y="181"/>
                  <a:pt x="516" y="238"/>
                  <a:pt x="522" y="264"/>
                </a:cubicBezTo>
                <a:cubicBezTo>
                  <a:pt x="530" y="343"/>
                  <a:pt x="544" y="401"/>
                  <a:pt x="528" y="486"/>
                </a:cubicBezTo>
                <a:cubicBezTo>
                  <a:pt x="526" y="497"/>
                  <a:pt x="513" y="503"/>
                  <a:pt x="504" y="510"/>
                </a:cubicBezTo>
                <a:cubicBezTo>
                  <a:pt x="422" y="572"/>
                  <a:pt x="385" y="589"/>
                  <a:pt x="288" y="600"/>
                </a:cubicBezTo>
                <a:cubicBezTo>
                  <a:pt x="257" y="626"/>
                  <a:pt x="241" y="639"/>
                  <a:pt x="204" y="654"/>
                </a:cubicBezTo>
                <a:cubicBezTo>
                  <a:pt x="190" y="668"/>
                  <a:pt x="176" y="682"/>
                  <a:pt x="162" y="696"/>
                </a:cubicBezTo>
                <a:cubicBezTo>
                  <a:pt x="155" y="703"/>
                  <a:pt x="153" y="715"/>
                  <a:pt x="144" y="720"/>
                </a:cubicBezTo>
                <a:cubicBezTo>
                  <a:pt x="133" y="726"/>
                  <a:pt x="120" y="724"/>
                  <a:pt x="108" y="726"/>
                </a:cubicBezTo>
                <a:cubicBezTo>
                  <a:pt x="102" y="730"/>
                  <a:pt x="96" y="733"/>
                  <a:pt x="90" y="738"/>
                </a:cubicBezTo>
                <a:cubicBezTo>
                  <a:pt x="83" y="743"/>
                  <a:pt x="80" y="756"/>
                  <a:pt x="72" y="756"/>
                </a:cubicBezTo>
                <a:cubicBezTo>
                  <a:pt x="66" y="756"/>
                  <a:pt x="69" y="744"/>
                  <a:pt x="66" y="738"/>
                </a:cubicBezTo>
                <a:cubicBezTo>
                  <a:pt x="63" y="732"/>
                  <a:pt x="59" y="725"/>
                  <a:pt x="54" y="720"/>
                </a:cubicBezTo>
                <a:cubicBezTo>
                  <a:pt x="49" y="715"/>
                  <a:pt x="34" y="715"/>
                  <a:pt x="36" y="708"/>
                </a:cubicBezTo>
                <a:cubicBezTo>
                  <a:pt x="40" y="696"/>
                  <a:pt x="56" y="692"/>
                  <a:pt x="66" y="684"/>
                </a:cubicBezTo>
                <a:close/>
              </a:path>
            </a:pathLst>
          </a:custGeom>
          <a:solidFill>
            <a:srgbClr val="800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55960" y="1409760"/>
            <a:ext cx="1020960" cy="1977840"/>
          </a:xfrm>
          <a:custGeom>
            <a:avLst/>
            <a:gdLst/>
            <a:ahLst/>
            <a:rect l="l" t="t" r="r" b="b"/>
            <a:pathLst>
              <a:path w="643" h="1246">
                <a:moveTo>
                  <a:pt x="96" y="24"/>
                </a:moveTo>
                <a:cubicBezTo>
                  <a:pt x="170" y="6"/>
                  <a:pt x="161" y="6"/>
                  <a:pt x="252" y="12"/>
                </a:cubicBezTo>
                <a:cubicBezTo>
                  <a:pt x="327" y="37"/>
                  <a:pt x="399" y="47"/>
                  <a:pt x="480" y="54"/>
                </a:cubicBezTo>
                <a:cubicBezTo>
                  <a:pt x="412" y="122"/>
                  <a:pt x="397" y="85"/>
                  <a:pt x="252" y="90"/>
                </a:cubicBezTo>
                <a:cubicBezTo>
                  <a:pt x="288" y="114"/>
                  <a:pt x="338" y="120"/>
                  <a:pt x="378" y="138"/>
                </a:cubicBezTo>
                <a:cubicBezTo>
                  <a:pt x="417" y="177"/>
                  <a:pt x="446" y="246"/>
                  <a:pt x="486" y="276"/>
                </a:cubicBezTo>
                <a:cubicBezTo>
                  <a:pt x="514" y="297"/>
                  <a:pt x="554" y="289"/>
                  <a:pt x="588" y="294"/>
                </a:cubicBezTo>
                <a:cubicBezTo>
                  <a:pt x="598" y="300"/>
                  <a:pt x="610" y="303"/>
                  <a:pt x="618" y="312"/>
                </a:cubicBezTo>
                <a:cubicBezTo>
                  <a:pt x="643" y="341"/>
                  <a:pt x="603" y="467"/>
                  <a:pt x="594" y="504"/>
                </a:cubicBezTo>
                <a:cubicBezTo>
                  <a:pt x="592" y="552"/>
                  <a:pt x="599" y="601"/>
                  <a:pt x="588" y="648"/>
                </a:cubicBezTo>
                <a:cubicBezTo>
                  <a:pt x="581" y="679"/>
                  <a:pt x="531" y="723"/>
                  <a:pt x="510" y="750"/>
                </a:cubicBezTo>
                <a:cubicBezTo>
                  <a:pt x="508" y="758"/>
                  <a:pt x="509" y="767"/>
                  <a:pt x="504" y="774"/>
                </a:cubicBezTo>
                <a:cubicBezTo>
                  <a:pt x="500" y="780"/>
                  <a:pt x="489" y="779"/>
                  <a:pt x="486" y="786"/>
                </a:cubicBezTo>
                <a:cubicBezTo>
                  <a:pt x="480" y="799"/>
                  <a:pt x="486" y="815"/>
                  <a:pt x="480" y="828"/>
                </a:cubicBezTo>
                <a:cubicBezTo>
                  <a:pt x="464" y="862"/>
                  <a:pt x="378" y="892"/>
                  <a:pt x="360" y="900"/>
                </a:cubicBezTo>
                <a:cubicBezTo>
                  <a:pt x="308" y="952"/>
                  <a:pt x="314" y="935"/>
                  <a:pt x="288" y="1014"/>
                </a:cubicBezTo>
                <a:cubicBezTo>
                  <a:pt x="264" y="1085"/>
                  <a:pt x="294" y="1157"/>
                  <a:pt x="216" y="1188"/>
                </a:cubicBezTo>
                <a:cubicBezTo>
                  <a:pt x="177" y="1246"/>
                  <a:pt x="184" y="1175"/>
                  <a:pt x="132" y="1158"/>
                </a:cubicBezTo>
                <a:cubicBezTo>
                  <a:pt x="119" y="1115"/>
                  <a:pt x="109" y="1075"/>
                  <a:pt x="78" y="1044"/>
                </a:cubicBezTo>
                <a:cubicBezTo>
                  <a:pt x="56" y="941"/>
                  <a:pt x="72" y="986"/>
                  <a:pt x="36" y="906"/>
                </a:cubicBezTo>
                <a:cubicBezTo>
                  <a:pt x="23" y="835"/>
                  <a:pt x="0" y="809"/>
                  <a:pt x="78" y="798"/>
                </a:cubicBezTo>
                <a:cubicBezTo>
                  <a:pt x="110" y="782"/>
                  <a:pt x="131" y="768"/>
                  <a:pt x="168" y="762"/>
                </a:cubicBezTo>
                <a:cubicBezTo>
                  <a:pt x="197" y="675"/>
                  <a:pt x="180" y="739"/>
                  <a:pt x="174" y="564"/>
                </a:cubicBezTo>
                <a:cubicBezTo>
                  <a:pt x="176" y="506"/>
                  <a:pt x="173" y="448"/>
                  <a:pt x="180" y="390"/>
                </a:cubicBezTo>
                <a:cubicBezTo>
                  <a:pt x="183" y="365"/>
                  <a:pt x="204" y="318"/>
                  <a:pt x="204" y="318"/>
                </a:cubicBezTo>
                <a:cubicBezTo>
                  <a:pt x="202" y="296"/>
                  <a:pt x="205" y="273"/>
                  <a:pt x="198" y="252"/>
                </a:cubicBezTo>
                <a:cubicBezTo>
                  <a:pt x="187" y="219"/>
                  <a:pt x="130" y="206"/>
                  <a:pt x="108" y="180"/>
                </a:cubicBezTo>
                <a:cubicBezTo>
                  <a:pt x="91" y="160"/>
                  <a:pt x="93" y="135"/>
                  <a:pt x="78" y="114"/>
                </a:cubicBezTo>
                <a:cubicBezTo>
                  <a:pt x="68" y="100"/>
                  <a:pt x="42" y="78"/>
                  <a:pt x="42" y="78"/>
                </a:cubicBezTo>
                <a:cubicBezTo>
                  <a:pt x="40" y="64"/>
                  <a:pt x="40" y="50"/>
                  <a:pt x="36" y="36"/>
                </a:cubicBezTo>
                <a:cubicBezTo>
                  <a:pt x="34" y="29"/>
                  <a:pt x="22" y="25"/>
                  <a:pt x="24" y="18"/>
                </a:cubicBezTo>
                <a:cubicBezTo>
                  <a:pt x="26" y="12"/>
                  <a:pt x="36" y="13"/>
                  <a:pt x="42" y="12"/>
                </a:cubicBezTo>
                <a:cubicBezTo>
                  <a:pt x="80" y="4"/>
                  <a:pt x="117" y="0"/>
                  <a:pt x="156" y="0"/>
                </a:cubicBezTo>
              </a:path>
            </a:pathLst>
          </a:custGeom>
          <a:solidFill>
            <a:srgbClr val="800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3480" y="2768760"/>
            <a:ext cx="870120" cy="1285560"/>
          </a:xfrm>
          <a:custGeom>
            <a:avLst/>
            <a:gdLst/>
            <a:ahLst/>
            <a:rect l="l" t="t" r="r" b="b"/>
            <a:pathLst>
              <a:path w="548" h="810">
                <a:moveTo>
                  <a:pt x="177" y="50"/>
                </a:moveTo>
                <a:cubicBezTo>
                  <a:pt x="188" y="61"/>
                  <a:pt x="194" y="78"/>
                  <a:pt x="207" y="86"/>
                </a:cubicBezTo>
                <a:cubicBezTo>
                  <a:pt x="218" y="93"/>
                  <a:pt x="232" y="91"/>
                  <a:pt x="243" y="98"/>
                </a:cubicBezTo>
                <a:cubicBezTo>
                  <a:pt x="290" y="126"/>
                  <a:pt x="352" y="144"/>
                  <a:pt x="405" y="152"/>
                </a:cubicBezTo>
                <a:cubicBezTo>
                  <a:pt x="434" y="162"/>
                  <a:pt x="430" y="181"/>
                  <a:pt x="441" y="206"/>
                </a:cubicBezTo>
                <a:cubicBezTo>
                  <a:pt x="469" y="268"/>
                  <a:pt x="503" y="327"/>
                  <a:pt x="525" y="392"/>
                </a:cubicBezTo>
                <a:cubicBezTo>
                  <a:pt x="531" y="452"/>
                  <a:pt x="548" y="597"/>
                  <a:pt x="525" y="626"/>
                </a:cubicBezTo>
                <a:cubicBezTo>
                  <a:pt x="498" y="659"/>
                  <a:pt x="441" y="618"/>
                  <a:pt x="399" y="614"/>
                </a:cubicBezTo>
                <a:cubicBezTo>
                  <a:pt x="299" y="581"/>
                  <a:pt x="418" y="580"/>
                  <a:pt x="255" y="590"/>
                </a:cubicBezTo>
                <a:cubicBezTo>
                  <a:pt x="249" y="598"/>
                  <a:pt x="245" y="608"/>
                  <a:pt x="237" y="614"/>
                </a:cubicBezTo>
                <a:cubicBezTo>
                  <a:pt x="232" y="618"/>
                  <a:pt x="223" y="616"/>
                  <a:pt x="219" y="620"/>
                </a:cubicBezTo>
                <a:cubicBezTo>
                  <a:pt x="215" y="624"/>
                  <a:pt x="217" y="633"/>
                  <a:pt x="213" y="638"/>
                </a:cubicBezTo>
                <a:cubicBezTo>
                  <a:pt x="205" y="648"/>
                  <a:pt x="192" y="653"/>
                  <a:pt x="183" y="662"/>
                </a:cubicBezTo>
                <a:cubicBezTo>
                  <a:pt x="146" y="699"/>
                  <a:pt x="123" y="739"/>
                  <a:pt x="81" y="770"/>
                </a:cubicBezTo>
                <a:cubicBezTo>
                  <a:pt x="45" y="716"/>
                  <a:pt x="104" y="810"/>
                  <a:pt x="63" y="704"/>
                </a:cubicBezTo>
                <a:cubicBezTo>
                  <a:pt x="58" y="692"/>
                  <a:pt x="47" y="684"/>
                  <a:pt x="39" y="674"/>
                </a:cubicBezTo>
                <a:cubicBezTo>
                  <a:pt x="28" y="628"/>
                  <a:pt x="0" y="576"/>
                  <a:pt x="51" y="542"/>
                </a:cubicBezTo>
                <a:cubicBezTo>
                  <a:pt x="53" y="536"/>
                  <a:pt x="53" y="529"/>
                  <a:pt x="57" y="524"/>
                </a:cubicBezTo>
                <a:cubicBezTo>
                  <a:pt x="62" y="518"/>
                  <a:pt x="75" y="519"/>
                  <a:pt x="75" y="512"/>
                </a:cubicBezTo>
                <a:cubicBezTo>
                  <a:pt x="79" y="459"/>
                  <a:pt x="69" y="446"/>
                  <a:pt x="51" y="410"/>
                </a:cubicBezTo>
                <a:cubicBezTo>
                  <a:pt x="55" y="311"/>
                  <a:pt x="29" y="198"/>
                  <a:pt x="153" y="182"/>
                </a:cubicBezTo>
                <a:cubicBezTo>
                  <a:pt x="201" y="176"/>
                  <a:pt x="249" y="174"/>
                  <a:pt x="297" y="170"/>
                </a:cubicBezTo>
                <a:cubicBezTo>
                  <a:pt x="236" y="133"/>
                  <a:pt x="185" y="94"/>
                  <a:pt x="135" y="44"/>
                </a:cubicBezTo>
                <a:cubicBezTo>
                  <a:pt x="120" y="0"/>
                  <a:pt x="164" y="38"/>
                  <a:pt x="189" y="44"/>
                </a:cubicBezTo>
                <a:cubicBezTo>
                  <a:pt x="215" y="95"/>
                  <a:pt x="185" y="46"/>
                  <a:pt x="219" y="80"/>
                </a:cubicBezTo>
                <a:cubicBezTo>
                  <a:pt x="220" y="81"/>
                  <a:pt x="215" y="80"/>
                  <a:pt x="213" y="80"/>
                </a:cubicBezTo>
              </a:path>
            </a:pathLst>
          </a:custGeom>
          <a:solidFill>
            <a:srgbClr val="80008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62400" y="1114560"/>
            <a:ext cx="452520" cy="496800"/>
          </a:xfrm>
          <a:custGeom>
            <a:avLst/>
            <a:gdLst/>
            <a:ahLst/>
            <a:rect l="l" t="t" r="r" b="b"/>
            <a:pathLst>
              <a:path w="285" h="313">
                <a:moveTo>
                  <a:pt x="180" y="0"/>
                </a:moveTo>
                <a:cubicBezTo>
                  <a:pt x="173" y="22"/>
                  <a:pt x="163" y="41"/>
                  <a:pt x="150" y="60"/>
                </a:cubicBezTo>
                <a:cubicBezTo>
                  <a:pt x="196" y="75"/>
                  <a:pt x="174" y="70"/>
                  <a:pt x="216" y="78"/>
                </a:cubicBezTo>
                <a:cubicBezTo>
                  <a:pt x="232" y="102"/>
                  <a:pt x="249" y="119"/>
                  <a:pt x="264" y="144"/>
                </a:cubicBezTo>
                <a:cubicBezTo>
                  <a:pt x="285" y="247"/>
                  <a:pt x="278" y="226"/>
                  <a:pt x="174" y="240"/>
                </a:cubicBezTo>
                <a:cubicBezTo>
                  <a:pt x="135" y="263"/>
                  <a:pt x="99" y="290"/>
                  <a:pt x="60" y="312"/>
                </a:cubicBezTo>
                <a:cubicBezTo>
                  <a:pt x="14" y="294"/>
                  <a:pt x="38" y="313"/>
                  <a:pt x="24" y="270"/>
                </a:cubicBezTo>
                <a:cubicBezTo>
                  <a:pt x="17" y="250"/>
                  <a:pt x="0" y="210"/>
                  <a:pt x="0" y="210"/>
                </a:cubicBezTo>
                <a:cubicBezTo>
                  <a:pt x="44" y="180"/>
                  <a:pt x="22" y="189"/>
                  <a:pt x="66" y="180"/>
                </a:cubicBezTo>
                <a:cubicBezTo>
                  <a:pt x="88" y="165"/>
                  <a:pt x="92" y="147"/>
                  <a:pt x="114" y="132"/>
                </a:cubicBezTo>
                <a:cubicBezTo>
                  <a:pt x="110" y="91"/>
                  <a:pt x="99" y="45"/>
                  <a:pt x="132" y="12"/>
                </a:cubicBezTo>
                <a:cubicBezTo>
                  <a:pt x="144" y="0"/>
                  <a:pt x="164" y="3"/>
                  <a:pt x="180" y="0"/>
                </a:cubicBezTo>
                <a:close/>
              </a:path>
            </a:pathLst>
          </a:custGeom>
          <a:solidFill>
            <a:srgbClr val="00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6680" y="2344680"/>
            <a:ext cx="647640" cy="569880"/>
          </a:xfrm>
          <a:prstGeom prst="ellipse">
            <a:avLst/>
          </a:prstGeom>
          <a:noFill/>
          <a:ln w="28440">
            <a:solidFill>
              <a:srgbClr val="99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5640" y="6894360"/>
            <a:ext cx="6743880" cy="2706840"/>
          </a:xfrm>
          <a:custGeom>
            <a:avLst/>
            <a:gdLst/>
            <a:ahLst/>
            <a:rect l="l" t="t" r="r" b="b"/>
            <a:pathLst>
              <a:path w="4248" h="1705">
                <a:moveTo>
                  <a:pt x="0" y="433"/>
                </a:moveTo>
                <a:cubicBezTo>
                  <a:pt x="135" y="445"/>
                  <a:pt x="66" y="442"/>
                  <a:pt x="294" y="427"/>
                </a:cubicBezTo>
                <a:cubicBezTo>
                  <a:pt x="337" y="424"/>
                  <a:pt x="420" y="403"/>
                  <a:pt x="420" y="403"/>
                </a:cubicBezTo>
                <a:cubicBezTo>
                  <a:pt x="521" y="353"/>
                  <a:pt x="776" y="390"/>
                  <a:pt x="810" y="391"/>
                </a:cubicBezTo>
                <a:cubicBezTo>
                  <a:pt x="830" y="398"/>
                  <a:pt x="854" y="396"/>
                  <a:pt x="870" y="409"/>
                </a:cubicBezTo>
                <a:cubicBezTo>
                  <a:pt x="875" y="413"/>
                  <a:pt x="872" y="422"/>
                  <a:pt x="876" y="427"/>
                </a:cubicBezTo>
                <a:cubicBezTo>
                  <a:pt x="891" y="450"/>
                  <a:pt x="903" y="448"/>
                  <a:pt x="930" y="457"/>
                </a:cubicBezTo>
                <a:cubicBezTo>
                  <a:pt x="974" y="472"/>
                  <a:pt x="1022" y="461"/>
                  <a:pt x="1068" y="463"/>
                </a:cubicBezTo>
                <a:cubicBezTo>
                  <a:pt x="1096" y="481"/>
                  <a:pt x="1119" y="482"/>
                  <a:pt x="1152" y="487"/>
                </a:cubicBezTo>
                <a:cubicBezTo>
                  <a:pt x="1270" y="483"/>
                  <a:pt x="1389" y="493"/>
                  <a:pt x="1506" y="481"/>
                </a:cubicBezTo>
                <a:cubicBezTo>
                  <a:pt x="1540" y="478"/>
                  <a:pt x="1571" y="456"/>
                  <a:pt x="1602" y="445"/>
                </a:cubicBezTo>
                <a:cubicBezTo>
                  <a:pt x="1644" y="430"/>
                  <a:pt x="1689" y="425"/>
                  <a:pt x="1734" y="421"/>
                </a:cubicBezTo>
                <a:cubicBezTo>
                  <a:pt x="1761" y="410"/>
                  <a:pt x="1783" y="403"/>
                  <a:pt x="1812" y="397"/>
                </a:cubicBezTo>
                <a:cubicBezTo>
                  <a:pt x="1837" y="381"/>
                  <a:pt x="1867" y="381"/>
                  <a:pt x="1890" y="361"/>
                </a:cubicBezTo>
                <a:cubicBezTo>
                  <a:pt x="1925" y="329"/>
                  <a:pt x="1929" y="304"/>
                  <a:pt x="1974" y="295"/>
                </a:cubicBezTo>
                <a:cubicBezTo>
                  <a:pt x="2108" y="300"/>
                  <a:pt x="2102" y="292"/>
                  <a:pt x="2184" y="313"/>
                </a:cubicBezTo>
                <a:cubicBezTo>
                  <a:pt x="2269" y="308"/>
                  <a:pt x="2304" y="336"/>
                  <a:pt x="2316" y="265"/>
                </a:cubicBezTo>
                <a:cubicBezTo>
                  <a:pt x="2320" y="271"/>
                  <a:pt x="2327" y="276"/>
                  <a:pt x="2328" y="283"/>
                </a:cubicBezTo>
                <a:cubicBezTo>
                  <a:pt x="2333" y="325"/>
                  <a:pt x="2317" y="371"/>
                  <a:pt x="2334" y="409"/>
                </a:cubicBezTo>
                <a:cubicBezTo>
                  <a:pt x="2341" y="424"/>
                  <a:pt x="2366" y="405"/>
                  <a:pt x="2382" y="403"/>
                </a:cubicBezTo>
                <a:cubicBezTo>
                  <a:pt x="2386" y="397"/>
                  <a:pt x="2388" y="389"/>
                  <a:pt x="2394" y="385"/>
                </a:cubicBezTo>
                <a:cubicBezTo>
                  <a:pt x="2405" y="378"/>
                  <a:pt x="2430" y="373"/>
                  <a:pt x="2430" y="373"/>
                </a:cubicBezTo>
                <a:cubicBezTo>
                  <a:pt x="2443" y="335"/>
                  <a:pt x="2401" y="321"/>
                  <a:pt x="2370" y="307"/>
                </a:cubicBezTo>
                <a:cubicBezTo>
                  <a:pt x="2358" y="302"/>
                  <a:pt x="2346" y="299"/>
                  <a:pt x="2334" y="295"/>
                </a:cubicBezTo>
                <a:cubicBezTo>
                  <a:pt x="2328" y="293"/>
                  <a:pt x="2316" y="289"/>
                  <a:pt x="2316" y="289"/>
                </a:cubicBezTo>
                <a:cubicBezTo>
                  <a:pt x="2337" y="226"/>
                  <a:pt x="2386" y="243"/>
                  <a:pt x="2454" y="235"/>
                </a:cubicBezTo>
                <a:cubicBezTo>
                  <a:pt x="2468" y="230"/>
                  <a:pt x="2483" y="230"/>
                  <a:pt x="2496" y="223"/>
                </a:cubicBezTo>
                <a:cubicBezTo>
                  <a:pt x="2559" y="187"/>
                  <a:pt x="2476" y="218"/>
                  <a:pt x="2532" y="199"/>
                </a:cubicBezTo>
                <a:cubicBezTo>
                  <a:pt x="2542" y="169"/>
                  <a:pt x="2541" y="128"/>
                  <a:pt x="2562" y="103"/>
                </a:cubicBezTo>
                <a:cubicBezTo>
                  <a:pt x="2596" y="63"/>
                  <a:pt x="2647" y="53"/>
                  <a:pt x="2694" y="37"/>
                </a:cubicBezTo>
                <a:cubicBezTo>
                  <a:pt x="2730" y="25"/>
                  <a:pt x="2757" y="7"/>
                  <a:pt x="2796" y="1"/>
                </a:cubicBezTo>
                <a:cubicBezTo>
                  <a:pt x="2822" y="3"/>
                  <a:pt x="2849" y="0"/>
                  <a:pt x="2874" y="7"/>
                </a:cubicBezTo>
                <a:cubicBezTo>
                  <a:pt x="2893" y="12"/>
                  <a:pt x="2887" y="76"/>
                  <a:pt x="2922" y="91"/>
                </a:cubicBezTo>
                <a:cubicBezTo>
                  <a:pt x="2972" y="112"/>
                  <a:pt x="3030" y="101"/>
                  <a:pt x="3084" y="103"/>
                </a:cubicBezTo>
                <a:cubicBezTo>
                  <a:pt x="3098" y="101"/>
                  <a:pt x="3113" y="103"/>
                  <a:pt x="3126" y="97"/>
                </a:cubicBezTo>
                <a:cubicBezTo>
                  <a:pt x="3133" y="94"/>
                  <a:pt x="3131" y="80"/>
                  <a:pt x="3138" y="79"/>
                </a:cubicBezTo>
                <a:cubicBezTo>
                  <a:pt x="3174" y="75"/>
                  <a:pt x="3210" y="83"/>
                  <a:pt x="3246" y="85"/>
                </a:cubicBezTo>
                <a:cubicBezTo>
                  <a:pt x="3298" y="92"/>
                  <a:pt x="3345" y="90"/>
                  <a:pt x="3396" y="73"/>
                </a:cubicBezTo>
                <a:cubicBezTo>
                  <a:pt x="3482" y="82"/>
                  <a:pt x="3496" y="78"/>
                  <a:pt x="3558" y="103"/>
                </a:cubicBezTo>
                <a:cubicBezTo>
                  <a:pt x="3573" y="149"/>
                  <a:pt x="3568" y="127"/>
                  <a:pt x="3576" y="169"/>
                </a:cubicBezTo>
                <a:cubicBezTo>
                  <a:pt x="3571" y="245"/>
                  <a:pt x="3576" y="293"/>
                  <a:pt x="3498" y="319"/>
                </a:cubicBezTo>
                <a:cubicBezTo>
                  <a:pt x="3427" y="390"/>
                  <a:pt x="3431" y="454"/>
                  <a:pt x="3330" y="505"/>
                </a:cubicBezTo>
                <a:cubicBezTo>
                  <a:pt x="3328" y="515"/>
                  <a:pt x="3313" y="565"/>
                  <a:pt x="3336" y="571"/>
                </a:cubicBezTo>
                <a:cubicBezTo>
                  <a:pt x="3371" y="580"/>
                  <a:pt x="3407" y="589"/>
                  <a:pt x="3438" y="607"/>
                </a:cubicBezTo>
                <a:cubicBezTo>
                  <a:pt x="3481" y="632"/>
                  <a:pt x="3505" y="661"/>
                  <a:pt x="3558" y="679"/>
                </a:cubicBezTo>
                <a:cubicBezTo>
                  <a:pt x="3582" y="687"/>
                  <a:pt x="3615" y="701"/>
                  <a:pt x="3636" y="715"/>
                </a:cubicBezTo>
                <a:cubicBezTo>
                  <a:pt x="3689" y="750"/>
                  <a:pt x="3699" y="766"/>
                  <a:pt x="3768" y="775"/>
                </a:cubicBezTo>
                <a:cubicBezTo>
                  <a:pt x="3785" y="788"/>
                  <a:pt x="3806" y="797"/>
                  <a:pt x="3822" y="811"/>
                </a:cubicBezTo>
                <a:cubicBezTo>
                  <a:pt x="3840" y="827"/>
                  <a:pt x="3853" y="848"/>
                  <a:pt x="3870" y="865"/>
                </a:cubicBezTo>
                <a:cubicBezTo>
                  <a:pt x="3882" y="938"/>
                  <a:pt x="3974" y="1046"/>
                  <a:pt x="4044" y="1069"/>
                </a:cubicBezTo>
                <a:cubicBezTo>
                  <a:pt x="3879" y="1078"/>
                  <a:pt x="3715" y="1080"/>
                  <a:pt x="3552" y="1051"/>
                </a:cubicBezTo>
                <a:cubicBezTo>
                  <a:pt x="3515" y="1026"/>
                  <a:pt x="3483" y="1012"/>
                  <a:pt x="3438" y="1003"/>
                </a:cubicBezTo>
                <a:cubicBezTo>
                  <a:pt x="3410" y="1005"/>
                  <a:pt x="3382" y="1004"/>
                  <a:pt x="3354" y="1009"/>
                </a:cubicBezTo>
                <a:cubicBezTo>
                  <a:pt x="3336" y="1012"/>
                  <a:pt x="3321" y="1044"/>
                  <a:pt x="3312" y="1051"/>
                </a:cubicBezTo>
                <a:cubicBezTo>
                  <a:pt x="3285" y="1072"/>
                  <a:pt x="3245" y="1085"/>
                  <a:pt x="3216" y="1105"/>
                </a:cubicBezTo>
                <a:cubicBezTo>
                  <a:pt x="3186" y="1126"/>
                  <a:pt x="3157" y="1158"/>
                  <a:pt x="3132" y="1183"/>
                </a:cubicBezTo>
                <a:cubicBezTo>
                  <a:pt x="3143" y="1215"/>
                  <a:pt x="3173" y="1239"/>
                  <a:pt x="3192" y="1267"/>
                </a:cubicBezTo>
                <a:cubicBezTo>
                  <a:pt x="3194" y="1289"/>
                  <a:pt x="3194" y="1311"/>
                  <a:pt x="3198" y="1333"/>
                </a:cubicBezTo>
                <a:cubicBezTo>
                  <a:pt x="3200" y="1342"/>
                  <a:pt x="3209" y="1348"/>
                  <a:pt x="3210" y="1357"/>
                </a:cubicBezTo>
                <a:cubicBezTo>
                  <a:pt x="3221" y="1440"/>
                  <a:pt x="3197" y="1530"/>
                  <a:pt x="3258" y="1591"/>
                </a:cubicBezTo>
                <a:cubicBezTo>
                  <a:pt x="3275" y="1676"/>
                  <a:pt x="3408" y="1683"/>
                  <a:pt x="3480" y="1687"/>
                </a:cubicBezTo>
                <a:cubicBezTo>
                  <a:pt x="3560" y="1692"/>
                  <a:pt x="3640" y="1695"/>
                  <a:pt x="3720" y="1699"/>
                </a:cubicBezTo>
                <a:cubicBezTo>
                  <a:pt x="3776" y="1701"/>
                  <a:pt x="3832" y="1703"/>
                  <a:pt x="3888" y="1705"/>
                </a:cubicBezTo>
                <a:cubicBezTo>
                  <a:pt x="3964" y="1701"/>
                  <a:pt x="4041" y="1703"/>
                  <a:pt x="4116" y="1693"/>
                </a:cubicBezTo>
                <a:cubicBezTo>
                  <a:pt x="4122" y="1692"/>
                  <a:pt x="4119" y="1680"/>
                  <a:pt x="4122" y="1675"/>
                </a:cubicBezTo>
                <a:cubicBezTo>
                  <a:pt x="4139" y="1647"/>
                  <a:pt x="4168" y="1626"/>
                  <a:pt x="4182" y="1597"/>
                </a:cubicBezTo>
                <a:cubicBezTo>
                  <a:pt x="4191" y="1579"/>
                  <a:pt x="4196" y="1560"/>
                  <a:pt x="4206" y="1543"/>
                </a:cubicBezTo>
                <a:cubicBezTo>
                  <a:pt x="4218" y="1522"/>
                  <a:pt x="4248" y="1483"/>
                  <a:pt x="4248" y="148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48:41Z</dcterms:created>
  <dc:creator>IBM</dc:creator>
  <dc:description/>
  <dc:language>en-US</dc:language>
  <cp:lastModifiedBy>Hugues</cp:lastModifiedBy>
  <dcterms:modified xsi:type="dcterms:W3CDTF">2011-10-11T11:38:56Z</dcterms:modified>
  <cp:revision>17</cp:revision>
  <dc:subject/>
  <dc:title>Présentation PowerPoint</dc:title>
</cp:coreProperties>
</file>