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14113" cy="8002588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1F72-56B4-4A66-B087-ACBBE08C8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49240" y="2311200"/>
            <a:ext cx="961704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49240" y="4818600"/>
            <a:ext cx="961704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6AEB-7673-46C4-81D0-CE431D3A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9240" y="2311200"/>
            <a:ext cx="46929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77280" y="2311200"/>
            <a:ext cx="46929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9240" y="4818600"/>
            <a:ext cx="46929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77280" y="4818600"/>
            <a:ext cx="46929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9C6F-6FEC-4E5E-9064-216DE2B53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49240" y="2311200"/>
            <a:ext cx="30963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00760" y="2311200"/>
            <a:ext cx="30963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352280" y="2311200"/>
            <a:ext cx="30963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49240" y="4818600"/>
            <a:ext cx="30963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00760" y="4818600"/>
            <a:ext cx="30963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352280" y="4818600"/>
            <a:ext cx="30963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9E56-CA03-4F47-A762-BB5B2F09A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49240" y="2311200"/>
            <a:ext cx="96170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E3EE-9BC3-4E2B-9A47-CC765264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49240" y="2311200"/>
            <a:ext cx="9617040" cy="4800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5907-C02F-417E-8496-CA1C975B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9240" y="2311200"/>
            <a:ext cx="4692960" cy="4800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77280" y="2311200"/>
            <a:ext cx="4692960" cy="4800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AD72-9B29-4EE9-8278-23747662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B7DB-DCB3-4658-81CA-C52C2CAD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9240" y="711360"/>
            <a:ext cx="961704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DDB7-0F1F-4D40-9ED0-A4D6A57C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9240" y="2311200"/>
            <a:ext cx="46929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77280" y="2311200"/>
            <a:ext cx="4692960" cy="4800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49240" y="4818600"/>
            <a:ext cx="46929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4943-1E40-4804-B5BE-85192AD8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49240" y="2311200"/>
            <a:ext cx="4692960" cy="4800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77280" y="2311200"/>
            <a:ext cx="46929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77280" y="4818600"/>
            <a:ext cx="46929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58DD-3FA7-4733-BE59-3C6E66C8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49240" y="2311200"/>
            <a:ext cx="46929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77280" y="2311200"/>
            <a:ext cx="469296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49240" y="4818600"/>
            <a:ext cx="9617040" cy="22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E811-9210-4E3E-929C-1D7E9275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9240" y="711360"/>
            <a:ext cx="9617040" cy="13334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9240" y="2311200"/>
            <a:ext cx="9617040" cy="4800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 fontScale="95000"/>
          </a:bodyPr>
          <a:p>
            <a:pPr marL="393480" indent="-393480">
              <a:spcBef>
                <a:spcPts val="975"/>
              </a:spcBef>
              <a:buClr>
                <a:srgbClr val="000000"/>
              </a:buClr>
              <a:buFont typeface="Times New Roman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326880">
              <a:spcBef>
                <a:spcPts val="975"/>
              </a:spcBef>
              <a:buClr>
                <a:srgbClr val="000000"/>
              </a:buClr>
              <a:buFont typeface="Times New Roman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0400" indent="-262080">
              <a:spcBef>
                <a:spcPts val="975"/>
              </a:spcBef>
              <a:buClr>
                <a:srgbClr val="000000"/>
              </a:buClr>
              <a:buFont typeface="Times New Roman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3" marL="1835280" indent="-262440">
              <a:spcBef>
                <a:spcPts val="975"/>
              </a:spcBef>
              <a:buClr>
                <a:srgbClr val="000000"/>
              </a:buClr>
              <a:buFont typeface="Times New Roman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4" marL="2358720" indent="-260640">
              <a:spcBef>
                <a:spcPts val="975"/>
              </a:spcBef>
              <a:buClr>
                <a:srgbClr val="000000"/>
              </a:buClr>
              <a:buFont typeface="Times New Roman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5" marL="2358720" indent="-260640">
              <a:spcBef>
                <a:spcPts val="975"/>
              </a:spcBef>
              <a:buClr>
                <a:srgbClr val="000000"/>
              </a:buClr>
              <a:buFont typeface="Times New Roman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6" marL="2358720" indent="-260640">
              <a:spcBef>
                <a:spcPts val="975"/>
              </a:spcBef>
              <a:buClr>
                <a:srgbClr val="000000"/>
              </a:buClr>
              <a:buFont typeface="Times New Roman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48880" y="7289640"/>
            <a:ext cx="2357640" cy="5335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  <a:defRPr b="0" lang="en-US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65320" y="7289640"/>
            <a:ext cx="3584520" cy="5335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  <a:defRPr b="0" lang="en-US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09000" y="7289640"/>
            <a:ext cx="2357280" cy="5335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indent="0" algn="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  <a:defRPr b="0" lang="en-US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fld id="{D6921419-9241-4C51-8AAF-5D6C9E696BE8}" type="slidenum"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7040" y="-31680"/>
            <a:ext cx="10688760" cy="7772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921560" y="46080"/>
            <a:ext cx="246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 n°1 : L’Organisation du Mo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65600" y="6761160"/>
            <a:ext cx="182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égend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e nord sud  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10120" y="7095960"/>
            <a:ext cx="5032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9474120" y="5153040"/>
          <a:ext cx="4537080" cy="1698480"/>
        </p:xfrm>
        <a:graphic>
          <a:graphicData uri="http://schemas.openxmlformats.org/drawingml/2006/table">
            <a:tbl>
              <a:tblPr/>
              <a:tblGrid>
                <a:gridCol w="2251080"/>
                <a:gridCol w="2286000"/>
              </a:tblGrid>
              <a:tr h="655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mite nord s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850"/>
                        </a:spcBef>
                        <a:tabLst>
                          <a:tab algn="l" pos="0"/>
                          <a:tab algn="l" pos="1103400"/>
                          <a:tab algn="l" pos="2206800"/>
                          <a:tab algn="l" pos="3309840"/>
                          <a:tab algn="l" pos="4413240"/>
                          <a:tab algn="l" pos="5516640"/>
                          <a:tab algn="l" pos="6620040"/>
                          <a:tab algn="l" pos="7723080"/>
                          <a:tab algn="l" pos="8826480"/>
                          <a:tab algn="l" pos="992988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 pays Dévelloppés : les Nord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 pays en voie de Dévellopement : les S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s 3 pôle de la puissance mondial : la tri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s pays emergen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s autre pays dévellopp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 PMA pays les moin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1488960" y="1017720"/>
            <a:ext cx="917640" cy="684000"/>
          </a:xfrm>
          <a:custGeom>
            <a:avLst/>
            <a:gdLst/>
            <a:ahLst/>
            <a:rect l="l" t="t" r="r" b="b"/>
            <a:pathLst>
              <a:path w="579" h="430">
                <a:moveTo>
                  <a:pt x="24" y="70"/>
                </a:moveTo>
                <a:cubicBezTo>
                  <a:pt x="41" y="66"/>
                  <a:pt x="40" y="55"/>
                  <a:pt x="54" y="46"/>
                </a:cubicBezTo>
                <a:cubicBezTo>
                  <a:pt x="61" y="25"/>
                  <a:pt x="74" y="30"/>
                  <a:pt x="96" y="28"/>
                </a:cubicBezTo>
                <a:cubicBezTo>
                  <a:pt x="127" y="25"/>
                  <a:pt x="159" y="20"/>
                  <a:pt x="189" y="10"/>
                </a:cubicBezTo>
                <a:cubicBezTo>
                  <a:pt x="280" y="12"/>
                  <a:pt x="327" y="0"/>
                  <a:pt x="396" y="34"/>
                </a:cubicBezTo>
                <a:cubicBezTo>
                  <a:pt x="410" y="91"/>
                  <a:pt x="399" y="71"/>
                  <a:pt x="405" y="181"/>
                </a:cubicBezTo>
                <a:cubicBezTo>
                  <a:pt x="406" y="206"/>
                  <a:pt x="405" y="230"/>
                  <a:pt x="429" y="235"/>
                </a:cubicBezTo>
                <a:cubicBezTo>
                  <a:pt x="443" y="258"/>
                  <a:pt x="448" y="285"/>
                  <a:pt x="474" y="295"/>
                </a:cubicBezTo>
                <a:cubicBezTo>
                  <a:pt x="483" y="304"/>
                  <a:pt x="491" y="309"/>
                  <a:pt x="504" y="313"/>
                </a:cubicBezTo>
                <a:cubicBezTo>
                  <a:pt x="510" y="322"/>
                  <a:pt x="557" y="368"/>
                  <a:pt x="567" y="373"/>
                </a:cubicBezTo>
                <a:cubicBezTo>
                  <a:pt x="569" y="385"/>
                  <a:pt x="570" y="397"/>
                  <a:pt x="573" y="409"/>
                </a:cubicBezTo>
                <a:cubicBezTo>
                  <a:pt x="574" y="412"/>
                  <a:pt x="579" y="417"/>
                  <a:pt x="576" y="418"/>
                </a:cubicBezTo>
                <a:cubicBezTo>
                  <a:pt x="573" y="420"/>
                  <a:pt x="570" y="414"/>
                  <a:pt x="567" y="412"/>
                </a:cubicBezTo>
                <a:cubicBezTo>
                  <a:pt x="545" y="379"/>
                  <a:pt x="577" y="396"/>
                  <a:pt x="498" y="388"/>
                </a:cubicBezTo>
                <a:cubicBezTo>
                  <a:pt x="463" y="379"/>
                  <a:pt x="431" y="356"/>
                  <a:pt x="396" y="346"/>
                </a:cubicBezTo>
                <a:cubicBezTo>
                  <a:pt x="349" y="315"/>
                  <a:pt x="358" y="320"/>
                  <a:pt x="297" y="313"/>
                </a:cubicBezTo>
                <a:cubicBezTo>
                  <a:pt x="249" y="316"/>
                  <a:pt x="241" y="321"/>
                  <a:pt x="204" y="328"/>
                </a:cubicBezTo>
                <a:cubicBezTo>
                  <a:pt x="199" y="333"/>
                  <a:pt x="191" y="334"/>
                  <a:pt x="186" y="340"/>
                </a:cubicBezTo>
                <a:cubicBezTo>
                  <a:pt x="183" y="343"/>
                  <a:pt x="185" y="348"/>
                  <a:pt x="183" y="352"/>
                </a:cubicBezTo>
                <a:cubicBezTo>
                  <a:pt x="181" y="356"/>
                  <a:pt x="178" y="360"/>
                  <a:pt x="174" y="364"/>
                </a:cubicBezTo>
                <a:cubicBezTo>
                  <a:pt x="150" y="388"/>
                  <a:pt x="181" y="350"/>
                  <a:pt x="156" y="379"/>
                </a:cubicBezTo>
                <a:cubicBezTo>
                  <a:pt x="142" y="396"/>
                  <a:pt x="132" y="418"/>
                  <a:pt x="114" y="430"/>
                </a:cubicBezTo>
                <a:cubicBezTo>
                  <a:pt x="92" y="400"/>
                  <a:pt x="121" y="392"/>
                  <a:pt x="141" y="379"/>
                </a:cubicBezTo>
                <a:cubicBezTo>
                  <a:pt x="110" y="370"/>
                  <a:pt x="79" y="362"/>
                  <a:pt x="48" y="352"/>
                </a:cubicBezTo>
                <a:cubicBezTo>
                  <a:pt x="45" y="339"/>
                  <a:pt x="37" y="332"/>
                  <a:pt x="30" y="319"/>
                </a:cubicBezTo>
                <a:cubicBezTo>
                  <a:pt x="27" y="313"/>
                  <a:pt x="18" y="301"/>
                  <a:pt x="18" y="301"/>
                </a:cubicBezTo>
                <a:cubicBezTo>
                  <a:pt x="17" y="297"/>
                  <a:pt x="17" y="293"/>
                  <a:pt x="15" y="289"/>
                </a:cubicBezTo>
                <a:cubicBezTo>
                  <a:pt x="14" y="286"/>
                  <a:pt x="7" y="283"/>
                  <a:pt x="9" y="280"/>
                </a:cubicBezTo>
                <a:cubicBezTo>
                  <a:pt x="20" y="266"/>
                  <a:pt x="33" y="265"/>
                  <a:pt x="48" y="262"/>
                </a:cubicBezTo>
                <a:cubicBezTo>
                  <a:pt x="87" y="233"/>
                  <a:pt x="72" y="254"/>
                  <a:pt x="84" y="184"/>
                </a:cubicBezTo>
                <a:cubicBezTo>
                  <a:pt x="79" y="182"/>
                  <a:pt x="74" y="179"/>
                  <a:pt x="69" y="178"/>
                </a:cubicBezTo>
                <a:cubicBezTo>
                  <a:pt x="47" y="175"/>
                  <a:pt x="24" y="177"/>
                  <a:pt x="3" y="172"/>
                </a:cubicBezTo>
                <a:cubicBezTo>
                  <a:pt x="0" y="171"/>
                  <a:pt x="7" y="166"/>
                  <a:pt x="9" y="163"/>
                </a:cubicBezTo>
                <a:cubicBezTo>
                  <a:pt x="18" y="147"/>
                  <a:pt x="23" y="143"/>
                  <a:pt x="39" y="133"/>
                </a:cubicBezTo>
                <a:cubicBezTo>
                  <a:pt x="54" y="135"/>
                  <a:pt x="66" y="138"/>
                  <a:pt x="81" y="142"/>
                </a:cubicBezTo>
                <a:cubicBezTo>
                  <a:pt x="71" y="132"/>
                  <a:pt x="61" y="129"/>
                  <a:pt x="48" y="121"/>
                </a:cubicBezTo>
                <a:cubicBezTo>
                  <a:pt x="37" y="105"/>
                  <a:pt x="20" y="90"/>
                  <a:pt x="6" y="76"/>
                </a:cubicBezTo>
              </a:path>
            </a:pathLst>
          </a:custGeom>
          <a:solidFill>
            <a:srgbClr val="0080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52760" y="1943280"/>
            <a:ext cx="1452600" cy="834840"/>
          </a:xfrm>
          <a:custGeom>
            <a:avLst/>
            <a:gdLst/>
            <a:ahLst/>
            <a:rect l="l" t="t" r="r" b="b"/>
            <a:pathLst>
              <a:path w="915" h="526">
                <a:moveTo>
                  <a:pt x="0" y="0"/>
                </a:moveTo>
                <a:cubicBezTo>
                  <a:pt x="156" y="13"/>
                  <a:pt x="312" y="12"/>
                  <a:pt x="468" y="18"/>
                </a:cubicBezTo>
                <a:cubicBezTo>
                  <a:pt x="495" y="27"/>
                  <a:pt x="524" y="26"/>
                  <a:pt x="552" y="33"/>
                </a:cubicBezTo>
                <a:cubicBezTo>
                  <a:pt x="567" y="55"/>
                  <a:pt x="591" y="54"/>
                  <a:pt x="615" y="57"/>
                </a:cubicBezTo>
                <a:cubicBezTo>
                  <a:pt x="632" y="69"/>
                  <a:pt x="652" y="76"/>
                  <a:pt x="669" y="87"/>
                </a:cubicBezTo>
                <a:cubicBezTo>
                  <a:pt x="679" y="102"/>
                  <a:pt x="672" y="94"/>
                  <a:pt x="693" y="108"/>
                </a:cubicBezTo>
                <a:cubicBezTo>
                  <a:pt x="696" y="110"/>
                  <a:pt x="702" y="114"/>
                  <a:pt x="702" y="114"/>
                </a:cubicBezTo>
                <a:cubicBezTo>
                  <a:pt x="751" y="110"/>
                  <a:pt x="800" y="105"/>
                  <a:pt x="849" y="102"/>
                </a:cubicBezTo>
                <a:cubicBezTo>
                  <a:pt x="852" y="100"/>
                  <a:pt x="856" y="99"/>
                  <a:pt x="858" y="96"/>
                </a:cubicBezTo>
                <a:cubicBezTo>
                  <a:pt x="861" y="92"/>
                  <a:pt x="856" y="82"/>
                  <a:pt x="861" y="81"/>
                </a:cubicBezTo>
                <a:cubicBezTo>
                  <a:pt x="879" y="77"/>
                  <a:pt x="897" y="83"/>
                  <a:pt x="915" y="84"/>
                </a:cubicBezTo>
                <a:cubicBezTo>
                  <a:pt x="912" y="110"/>
                  <a:pt x="913" y="121"/>
                  <a:pt x="888" y="129"/>
                </a:cubicBezTo>
                <a:cubicBezTo>
                  <a:pt x="879" y="143"/>
                  <a:pt x="869" y="155"/>
                  <a:pt x="855" y="162"/>
                </a:cubicBezTo>
                <a:cubicBezTo>
                  <a:pt x="843" y="186"/>
                  <a:pt x="794" y="225"/>
                  <a:pt x="771" y="243"/>
                </a:cubicBezTo>
                <a:cubicBezTo>
                  <a:pt x="769" y="249"/>
                  <a:pt x="761" y="252"/>
                  <a:pt x="759" y="258"/>
                </a:cubicBezTo>
                <a:cubicBezTo>
                  <a:pt x="746" y="302"/>
                  <a:pt x="756" y="348"/>
                  <a:pt x="720" y="384"/>
                </a:cubicBezTo>
                <a:cubicBezTo>
                  <a:pt x="717" y="400"/>
                  <a:pt x="712" y="413"/>
                  <a:pt x="708" y="429"/>
                </a:cubicBezTo>
                <a:cubicBezTo>
                  <a:pt x="712" y="476"/>
                  <a:pt x="712" y="482"/>
                  <a:pt x="723" y="516"/>
                </a:cubicBezTo>
                <a:cubicBezTo>
                  <a:pt x="722" y="519"/>
                  <a:pt x="723" y="525"/>
                  <a:pt x="720" y="525"/>
                </a:cubicBezTo>
                <a:cubicBezTo>
                  <a:pt x="712" y="526"/>
                  <a:pt x="696" y="519"/>
                  <a:pt x="696" y="519"/>
                </a:cubicBezTo>
                <a:cubicBezTo>
                  <a:pt x="688" y="507"/>
                  <a:pt x="685" y="483"/>
                  <a:pt x="675" y="474"/>
                </a:cubicBezTo>
                <a:cubicBezTo>
                  <a:pt x="666" y="467"/>
                  <a:pt x="649" y="465"/>
                  <a:pt x="639" y="459"/>
                </a:cubicBezTo>
                <a:cubicBezTo>
                  <a:pt x="631" y="454"/>
                  <a:pt x="615" y="444"/>
                  <a:pt x="615" y="444"/>
                </a:cubicBezTo>
                <a:cubicBezTo>
                  <a:pt x="476" y="451"/>
                  <a:pt x="531" y="443"/>
                  <a:pt x="468" y="459"/>
                </a:cubicBezTo>
                <a:cubicBezTo>
                  <a:pt x="455" y="479"/>
                  <a:pt x="450" y="471"/>
                  <a:pt x="438" y="453"/>
                </a:cubicBezTo>
                <a:cubicBezTo>
                  <a:pt x="436" y="450"/>
                  <a:pt x="432" y="451"/>
                  <a:pt x="429" y="450"/>
                </a:cubicBezTo>
                <a:cubicBezTo>
                  <a:pt x="407" y="428"/>
                  <a:pt x="374" y="430"/>
                  <a:pt x="345" y="423"/>
                </a:cubicBezTo>
                <a:cubicBezTo>
                  <a:pt x="340" y="418"/>
                  <a:pt x="332" y="416"/>
                  <a:pt x="327" y="411"/>
                </a:cubicBezTo>
                <a:cubicBezTo>
                  <a:pt x="322" y="406"/>
                  <a:pt x="322" y="395"/>
                  <a:pt x="315" y="393"/>
                </a:cubicBezTo>
                <a:cubicBezTo>
                  <a:pt x="292" y="387"/>
                  <a:pt x="270" y="379"/>
                  <a:pt x="246" y="375"/>
                </a:cubicBezTo>
                <a:cubicBezTo>
                  <a:pt x="211" y="352"/>
                  <a:pt x="169" y="374"/>
                  <a:pt x="132" y="381"/>
                </a:cubicBezTo>
                <a:cubicBezTo>
                  <a:pt x="102" y="374"/>
                  <a:pt x="134" y="385"/>
                  <a:pt x="108" y="336"/>
                </a:cubicBezTo>
                <a:cubicBezTo>
                  <a:pt x="104" y="329"/>
                  <a:pt x="88" y="326"/>
                  <a:pt x="81" y="324"/>
                </a:cubicBezTo>
                <a:cubicBezTo>
                  <a:pt x="73" y="300"/>
                  <a:pt x="85" y="328"/>
                  <a:pt x="69" y="312"/>
                </a:cubicBezTo>
                <a:cubicBezTo>
                  <a:pt x="39" y="282"/>
                  <a:pt x="64" y="292"/>
                  <a:pt x="42" y="285"/>
                </a:cubicBezTo>
                <a:cubicBezTo>
                  <a:pt x="37" y="277"/>
                  <a:pt x="30" y="258"/>
                  <a:pt x="30" y="258"/>
                </a:cubicBezTo>
                <a:cubicBezTo>
                  <a:pt x="25" y="225"/>
                  <a:pt x="27" y="187"/>
                  <a:pt x="15" y="156"/>
                </a:cubicBezTo>
                <a:cubicBezTo>
                  <a:pt x="10" y="102"/>
                  <a:pt x="3" y="58"/>
                  <a:pt x="0" y="0"/>
                </a:cubicBezTo>
                <a:close/>
              </a:path>
            </a:pathLst>
          </a:cu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96040" y="1471680"/>
            <a:ext cx="1236600" cy="942840"/>
          </a:xfrm>
          <a:custGeom>
            <a:avLst/>
            <a:gdLst/>
            <a:ahLst/>
            <a:rect l="l" t="t" r="r" b="b"/>
            <a:pathLst>
              <a:path w="779" h="594">
                <a:moveTo>
                  <a:pt x="36" y="450"/>
                </a:moveTo>
                <a:cubicBezTo>
                  <a:pt x="0" y="498"/>
                  <a:pt x="22" y="575"/>
                  <a:pt x="78" y="594"/>
                </a:cubicBezTo>
                <a:cubicBezTo>
                  <a:pt x="103" y="588"/>
                  <a:pt x="121" y="578"/>
                  <a:pt x="147" y="573"/>
                </a:cubicBezTo>
                <a:cubicBezTo>
                  <a:pt x="162" y="563"/>
                  <a:pt x="160" y="546"/>
                  <a:pt x="171" y="531"/>
                </a:cubicBezTo>
                <a:cubicBezTo>
                  <a:pt x="178" y="510"/>
                  <a:pt x="197" y="487"/>
                  <a:pt x="219" y="480"/>
                </a:cubicBezTo>
                <a:cubicBezTo>
                  <a:pt x="235" y="464"/>
                  <a:pt x="248" y="461"/>
                  <a:pt x="270" y="456"/>
                </a:cubicBezTo>
                <a:cubicBezTo>
                  <a:pt x="299" y="437"/>
                  <a:pt x="294" y="437"/>
                  <a:pt x="360" y="453"/>
                </a:cubicBezTo>
                <a:cubicBezTo>
                  <a:pt x="364" y="454"/>
                  <a:pt x="370" y="488"/>
                  <a:pt x="372" y="492"/>
                </a:cubicBezTo>
                <a:cubicBezTo>
                  <a:pt x="377" y="503"/>
                  <a:pt x="388" y="511"/>
                  <a:pt x="396" y="519"/>
                </a:cubicBezTo>
                <a:cubicBezTo>
                  <a:pt x="399" y="522"/>
                  <a:pt x="405" y="528"/>
                  <a:pt x="405" y="528"/>
                </a:cubicBezTo>
                <a:cubicBezTo>
                  <a:pt x="410" y="549"/>
                  <a:pt x="418" y="543"/>
                  <a:pt x="438" y="537"/>
                </a:cubicBezTo>
                <a:cubicBezTo>
                  <a:pt x="430" y="505"/>
                  <a:pt x="422" y="505"/>
                  <a:pt x="396" y="492"/>
                </a:cubicBezTo>
                <a:cubicBezTo>
                  <a:pt x="380" y="471"/>
                  <a:pt x="363" y="451"/>
                  <a:pt x="348" y="429"/>
                </a:cubicBezTo>
                <a:cubicBezTo>
                  <a:pt x="354" y="416"/>
                  <a:pt x="353" y="410"/>
                  <a:pt x="372" y="420"/>
                </a:cubicBezTo>
                <a:cubicBezTo>
                  <a:pt x="407" y="439"/>
                  <a:pt x="404" y="462"/>
                  <a:pt x="429" y="483"/>
                </a:cubicBezTo>
                <a:cubicBezTo>
                  <a:pt x="438" y="491"/>
                  <a:pt x="459" y="504"/>
                  <a:pt x="459" y="504"/>
                </a:cubicBezTo>
                <a:cubicBezTo>
                  <a:pt x="468" y="518"/>
                  <a:pt x="472" y="531"/>
                  <a:pt x="486" y="540"/>
                </a:cubicBezTo>
                <a:cubicBezTo>
                  <a:pt x="493" y="553"/>
                  <a:pt x="496" y="584"/>
                  <a:pt x="513" y="588"/>
                </a:cubicBezTo>
                <a:cubicBezTo>
                  <a:pt x="529" y="591"/>
                  <a:pt x="545" y="592"/>
                  <a:pt x="561" y="594"/>
                </a:cubicBezTo>
                <a:cubicBezTo>
                  <a:pt x="587" y="577"/>
                  <a:pt x="547" y="546"/>
                  <a:pt x="573" y="525"/>
                </a:cubicBezTo>
                <a:cubicBezTo>
                  <a:pt x="585" y="515"/>
                  <a:pt x="618" y="516"/>
                  <a:pt x="618" y="516"/>
                </a:cubicBezTo>
                <a:cubicBezTo>
                  <a:pt x="635" y="481"/>
                  <a:pt x="617" y="433"/>
                  <a:pt x="612" y="396"/>
                </a:cubicBezTo>
                <a:cubicBezTo>
                  <a:pt x="633" y="394"/>
                  <a:pt x="668" y="393"/>
                  <a:pt x="693" y="387"/>
                </a:cubicBezTo>
                <a:cubicBezTo>
                  <a:pt x="714" y="382"/>
                  <a:pt x="730" y="372"/>
                  <a:pt x="753" y="369"/>
                </a:cubicBezTo>
                <a:cubicBezTo>
                  <a:pt x="779" y="360"/>
                  <a:pt x="773" y="350"/>
                  <a:pt x="777" y="324"/>
                </a:cubicBezTo>
                <a:cubicBezTo>
                  <a:pt x="765" y="312"/>
                  <a:pt x="752" y="300"/>
                  <a:pt x="738" y="291"/>
                </a:cubicBezTo>
                <a:cubicBezTo>
                  <a:pt x="729" y="277"/>
                  <a:pt x="727" y="261"/>
                  <a:pt x="720" y="246"/>
                </a:cubicBezTo>
                <a:cubicBezTo>
                  <a:pt x="717" y="231"/>
                  <a:pt x="713" y="220"/>
                  <a:pt x="705" y="207"/>
                </a:cubicBezTo>
                <a:cubicBezTo>
                  <a:pt x="699" y="172"/>
                  <a:pt x="701" y="138"/>
                  <a:pt x="690" y="105"/>
                </a:cubicBezTo>
                <a:cubicBezTo>
                  <a:pt x="689" y="91"/>
                  <a:pt x="689" y="6"/>
                  <a:pt x="672" y="0"/>
                </a:cubicBezTo>
                <a:cubicBezTo>
                  <a:pt x="651" y="21"/>
                  <a:pt x="637" y="27"/>
                  <a:pt x="609" y="36"/>
                </a:cubicBezTo>
                <a:cubicBezTo>
                  <a:pt x="599" y="46"/>
                  <a:pt x="591" y="51"/>
                  <a:pt x="579" y="57"/>
                </a:cubicBezTo>
                <a:cubicBezTo>
                  <a:pt x="566" y="76"/>
                  <a:pt x="550" y="83"/>
                  <a:pt x="528" y="87"/>
                </a:cubicBezTo>
                <a:cubicBezTo>
                  <a:pt x="522" y="93"/>
                  <a:pt x="514" y="95"/>
                  <a:pt x="510" y="102"/>
                </a:cubicBezTo>
                <a:cubicBezTo>
                  <a:pt x="507" y="107"/>
                  <a:pt x="506" y="114"/>
                  <a:pt x="504" y="120"/>
                </a:cubicBezTo>
                <a:cubicBezTo>
                  <a:pt x="503" y="123"/>
                  <a:pt x="501" y="129"/>
                  <a:pt x="501" y="129"/>
                </a:cubicBezTo>
                <a:cubicBezTo>
                  <a:pt x="493" y="194"/>
                  <a:pt x="457" y="200"/>
                  <a:pt x="399" y="204"/>
                </a:cubicBezTo>
                <a:cubicBezTo>
                  <a:pt x="350" y="201"/>
                  <a:pt x="360" y="204"/>
                  <a:pt x="330" y="189"/>
                </a:cubicBezTo>
                <a:cubicBezTo>
                  <a:pt x="326" y="147"/>
                  <a:pt x="338" y="137"/>
                  <a:pt x="294" y="132"/>
                </a:cubicBezTo>
                <a:cubicBezTo>
                  <a:pt x="287" y="135"/>
                  <a:pt x="276" y="134"/>
                  <a:pt x="273" y="141"/>
                </a:cubicBezTo>
                <a:cubicBezTo>
                  <a:pt x="246" y="217"/>
                  <a:pt x="291" y="199"/>
                  <a:pt x="258" y="210"/>
                </a:cubicBezTo>
                <a:cubicBezTo>
                  <a:pt x="254" y="222"/>
                  <a:pt x="232" y="239"/>
                  <a:pt x="219" y="243"/>
                </a:cubicBezTo>
                <a:cubicBezTo>
                  <a:pt x="212" y="264"/>
                  <a:pt x="223" y="239"/>
                  <a:pt x="204" y="258"/>
                </a:cubicBezTo>
                <a:cubicBezTo>
                  <a:pt x="195" y="267"/>
                  <a:pt x="199" y="280"/>
                  <a:pt x="186" y="288"/>
                </a:cubicBezTo>
                <a:cubicBezTo>
                  <a:pt x="177" y="306"/>
                  <a:pt x="167" y="331"/>
                  <a:pt x="147" y="336"/>
                </a:cubicBezTo>
                <a:cubicBezTo>
                  <a:pt x="153" y="355"/>
                  <a:pt x="155" y="358"/>
                  <a:pt x="171" y="369"/>
                </a:cubicBezTo>
                <a:cubicBezTo>
                  <a:pt x="173" y="379"/>
                  <a:pt x="177" y="399"/>
                  <a:pt x="177" y="399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81000" y="1663560"/>
            <a:ext cx="9496440" cy="3803760"/>
          </a:xfrm>
          <a:custGeom>
            <a:avLst/>
            <a:gdLst/>
            <a:ahLst/>
            <a:rect l="l" t="t" r="r" b="b"/>
            <a:pathLst>
              <a:path w="5982" h="2396">
                <a:moveTo>
                  <a:pt x="0" y="452"/>
                </a:moveTo>
                <a:cubicBezTo>
                  <a:pt x="84" y="440"/>
                  <a:pt x="143" y="489"/>
                  <a:pt x="216" y="518"/>
                </a:cubicBezTo>
                <a:cubicBezTo>
                  <a:pt x="361" y="576"/>
                  <a:pt x="369" y="571"/>
                  <a:pt x="516" y="602"/>
                </a:cubicBezTo>
                <a:cubicBezTo>
                  <a:pt x="631" y="594"/>
                  <a:pt x="779" y="567"/>
                  <a:pt x="900" y="578"/>
                </a:cubicBezTo>
                <a:cubicBezTo>
                  <a:pt x="1054" y="629"/>
                  <a:pt x="1224" y="580"/>
                  <a:pt x="1386" y="572"/>
                </a:cubicBezTo>
                <a:cubicBezTo>
                  <a:pt x="1411" y="578"/>
                  <a:pt x="1435" y="597"/>
                  <a:pt x="1458" y="602"/>
                </a:cubicBezTo>
                <a:cubicBezTo>
                  <a:pt x="1526" y="618"/>
                  <a:pt x="1613" y="625"/>
                  <a:pt x="1680" y="638"/>
                </a:cubicBezTo>
                <a:cubicBezTo>
                  <a:pt x="1722" y="680"/>
                  <a:pt x="1700" y="670"/>
                  <a:pt x="1740" y="680"/>
                </a:cubicBezTo>
                <a:cubicBezTo>
                  <a:pt x="1772" y="701"/>
                  <a:pt x="1890" y="746"/>
                  <a:pt x="1818" y="674"/>
                </a:cubicBezTo>
                <a:cubicBezTo>
                  <a:pt x="2020" y="593"/>
                  <a:pt x="2241" y="581"/>
                  <a:pt x="2454" y="560"/>
                </a:cubicBezTo>
                <a:cubicBezTo>
                  <a:pt x="2484" y="548"/>
                  <a:pt x="2513" y="544"/>
                  <a:pt x="2544" y="536"/>
                </a:cubicBezTo>
                <a:cubicBezTo>
                  <a:pt x="2554" y="530"/>
                  <a:pt x="2563" y="522"/>
                  <a:pt x="2574" y="518"/>
                </a:cubicBezTo>
                <a:cubicBezTo>
                  <a:pt x="2585" y="514"/>
                  <a:pt x="2599" y="517"/>
                  <a:pt x="2610" y="512"/>
                </a:cubicBezTo>
                <a:cubicBezTo>
                  <a:pt x="2618" y="509"/>
                  <a:pt x="2620" y="498"/>
                  <a:pt x="2628" y="494"/>
                </a:cubicBezTo>
                <a:cubicBezTo>
                  <a:pt x="2637" y="489"/>
                  <a:pt x="2648" y="490"/>
                  <a:pt x="2658" y="488"/>
                </a:cubicBezTo>
                <a:cubicBezTo>
                  <a:pt x="2677" y="412"/>
                  <a:pt x="2843" y="468"/>
                  <a:pt x="2874" y="470"/>
                </a:cubicBezTo>
                <a:cubicBezTo>
                  <a:pt x="2930" y="473"/>
                  <a:pt x="2986" y="474"/>
                  <a:pt x="3042" y="476"/>
                </a:cubicBezTo>
                <a:cubicBezTo>
                  <a:pt x="3127" y="512"/>
                  <a:pt x="3221" y="505"/>
                  <a:pt x="3312" y="518"/>
                </a:cubicBezTo>
                <a:cubicBezTo>
                  <a:pt x="3370" y="561"/>
                  <a:pt x="3364" y="559"/>
                  <a:pt x="3450" y="566"/>
                </a:cubicBezTo>
                <a:cubicBezTo>
                  <a:pt x="3474" y="582"/>
                  <a:pt x="3488" y="583"/>
                  <a:pt x="3498" y="554"/>
                </a:cubicBezTo>
                <a:cubicBezTo>
                  <a:pt x="3489" y="493"/>
                  <a:pt x="3493" y="511"/>
                  <a:pt x="3438" y="500"/>
                </a:cubicBezTo>
                <a:cubicBezTo>
                  <a:pt x="3418" y="487"/>
                  <a:pt x="3399" y="484"/>
                  <a:pt x="3384" y="464"/>
                </a:cubicBezTo>
                <a:cubicBezTo>
                  <a:pt x="3375" y="453"/>
                  <a:pt x="3360" y="428"/>
                  <a:pt x="3360" y="428"/>
                </a:cubicBezTo>
                <a:cubicBezTo>
                  <a:pt x="3383" y="394"/>
                  <a:pt x="3430" y="394"/>
                  <a:pt x="3468" y="386"/>
                </a:cubicBezTo>
                <a:cubicBezTo>
                  <a:pt x="3486" y="364"/>
                  <a:pt x="3491" y="340"/>
                  <a:pt x="3516" y="332"/>
                </a:cubicBezTo>
                <a:cubicBezTo>
                  <a:pt x="3566" y="282"/>
                  <a:pt x="3488" y="353"/>
                  <a:pt x="3624" y="296"/>
                </a:cubicBezTo>
                <a:cubicBezTo>
                  <a:pt x="3642" y="288"/>
                  <a:pt x="3650" y="265"/>
                  <a:pt x="3666" y="254"/>
                </a:cubicBezTo>
                <a:cubicBezTo>
                  <a:pt x="3680" y="211"/>
                  <a:pt x="3698" y="232"/>
                  <a:pt x="3660" y="194"/>
                </a:cubicBezTo>
                <a:cubicBezTo>
                  <a:pt x="3648" y="164"/>
                  <a:pt x="3640" y="132"/>
                  <a:pt x="3624" y="104"/>
                </a:cubicBezTo>
                <a:cubicBezTo>
                  <a:pt x="3567" y="4"/>
                  <a:pt x="3512" y="23"/>
                  <a:pt x="3654" y="32"/>
                </a:cubicBezTo>
                <a:cubicBezTo>
                  <a:pt x="3662" y="34"/>
                  <a:pt x="3670" y="35"/>
                  <a:pt x="3678" y="38"/>
                </a:cubicBezTo>
                <a:cubicBezTo>
                  <a:pt x="3685" y="41"/>
                  <a:pt x="3689" y="47"/>
                  <a:pt x="3696" y="50"/>
                </a:cubicBezTo>
                <a:cubicBezTo>
                  <a:pt x="3710" y="55"/>
                  <a:pt x="3767" y="61"/>
                  <a:pt x="3774" y="62"/>
                </a:cubicBezTo>
                <a:cubicBezTo>
                  <a:pt x="3820" y="92"/>
                  <a:pt x="3861" y="78"/>
                  <a:pt x="3918" y="74"/>
                </a:cubicBezTo>
                <a:cubicBezTo>
                  <a:pt x="3992" y="0"/>
                  <a:pt x="4198" y="55"/>
                  <a:pt x="4242" y="56"/>
                </a:cubicBezTo>
                <a:cubicBezTo>
                  <a:pt x="4254" y="64"/>
                  <a:pt x="4266" y="72"/>
                  <a:pt x="4278" y="80"/>
                </a:cubicBezTo>
                <a:cubicBezTo>
                  <a:pt x="4284" y="84"/>
                  <a:pt x="4285" y="93"/>
                  <a:pt x="4290" y="98"/>
                </a:cubicBezTo>
                <a:cubicBezTo>
                  <a:pt x="4297" y="105"/>
                  <a:pt x="4305" y="112"/>
                  <a:pt x="4314" y="116"/>
                </a:cubicBezTo>
                <a:cubicBezTo>
                  <a:pt x="4325" y="122"/>
                  <a:pt x="4375" y="127"/>
                  <a:pt x="4380" y="128"/>
                </a:cubicBezTo>
                <a:cubicBezTo>
                  <a:pt x="4597" y="122"/>
                  <a:pt x="4715" y="120"/>
                  <a:pt x="4896" y="104"/>
                </a:cubicBezTo>
                <a:cubicBezTo>
                  <a:pt x="4947" y="79"/>
                  <a:pt x="4953" y="98"/>
                  <a:pt x="4974" y="140"/>
                </a:cubicBezTo>
                <a:cubicBezTo>
                  <a:pt x="4976" y="132"/>
                  <a:pt x="4980" y="124"/>
                  <a:pt x="4980" y="116"/>
                </a:cubicBezTo>
                <a:cubicBezTo>
                  <a:pt x="4980" y="97"/>
                  <a:pt x="4963" y="75"/>
                  <a:pt x="4986" y="110"/>
                </a:cubicBezTo>
                <a:cubicBezTo>
                  <a:pt x="4994" y="143"/>
                  <a:pt x="5013" y="195"/>
                  <a:pt x="5046" y="206"/>
                </a:cubicBezTo>
                <a:cubicBezTo>
                  <a:pt x="5056" y="235"/>
                  <a:pt x="5071" y="259"/>
                  <a:pt x="5046" y="290"/>
                </a:cubicBezTo>
                <a:cubicBezTo>
                  <a:pt x="5038" y="300"/>
                  <a:pt x="5022" y="298"/>
                  <a:pt x="5010" y="302"/>
                </a:cubicBezTo>
                <a:cubicBezTo>
                  <a:pt x="4979" y="333"/>
                  <a:pt x="4955" y="367"/>
                  <a:pt x="4932" y="404"/>
                </a:cubicBezTo>
                <a:cubicBezTo>
                  <a:pt x="4932" y="404"/>
                  <a:pt x="4882" y="427"/>
                  <a:pt x="4878" y="428"/>
                </a:cubicBezTo>
                <a:cubicBezTo>
                  <a:pt x="4857" y="460"/>
                  <a:pt x="4830" y="487"/>
                  <a:pt x="4818" y="524"/>
                </a:cubicBezTo>
                <a:cubicBezTo>
                  <a:pt x="4823" y="579"/>
                  <a:pt x="4824" y="593"/>
                  <a:pt x="4842" y="638"/>
                </a:cubicBezTo>
                <a:cubicBezTo>
                  <a:pt x="4826" y="643"/>
                  <a:pt x="4808" y="642"/>
                  <a:pt x="4794" y="650"/>
                </a:cubicBezTo>
                <a:cubicBezTo>
                  <a:pt x="4788" y="654"/>
                  <a:pt x="4787" y="663"/>
                  <a:pt x="4782" y="668"/>
                </a:cubicBezTo>
                <a:cubicBezTo>
                  <a:pt x="4777" y="673"/>
                  <a:pt x="4770" y="676"/>
                  <a:pt x="4764" y="680"/>
                </a:cubicBezTo>
                <a:cubicBezTo>
                  <a:pt x="4743" y="763"/>
                  <a:pt x="4753" y="712"/>
                  <a:pt x="4746" y="836"/>
                </a:cubicBezTo>
                <a:cubicBezTo>
                  <a:pt x="4812" y="853"/>
                  <a:pt x="4709" y="830"/>
                  <a:pt x="4848" y="830"/>
                </a:cubicBezTo>
                <a:cubicBezTo>
                  <a:pt x="4886" y="830"/>
                  <a:pt x="4924" y="838"/>
                  <a:pt x="4962" y="842"/>
                </a:cubicBezTo>
                <a:cubicBezTo>
                  <a:pt x="5015" y="863"/>
                  <a:pt x="5070" y="884"/>
                  <a:pt x="5124" y="902"/>
                </a:cubicBezTo>
                <a:cubicBezTo>
                  <a:pt x="5136" y="914"/>
                  <a:pt x="5145" y="930"/>
                  <a:pt x="5160" y="938"/>
                </a:cubicBezTo>
                <a:cubicBezTo>
                  <a:pt x="5168" y="942"/>
                  <a:pt x="5177" y="944"/>
                  <a:pt x="5184" y="950"/>
                </a:cubicBezTo>
                <a:cubicBezTo>
                  <a:pt x="5216" y="975"/>
                  <a:pt x="5238" y="1013"/>
                  <a:pt x="5274" y="1034"/>
                </a:cubicBezTo>
                <a:cubicBezTo>
                  <a:pt x="5305" y="1052"/>
                  <a:pt x="5348" y="1077"/>
                  <a:pt x="5376" y="1100"/>
                </a:cubicBezTo>
                <a:cubicBezTo>
                  <a:pt x="5440" y="1152"/>
                  <a:pt x="5394" y="1134"/>
                  <a:pt x="5436" y="1148"/>
                </a:cubicBezTo>
                <a:cubicBezTo>
                  <a:pt x="5459" y="1171"/>
                  <a:pt x="5477" y="1204"/>
                  <a:pt x="5508" y="1214"/>
                </a:cubicBezTo>
                <a:cubicBezTo>
                  <a:pt x="5522" y="1257"/>
                  <a:pt x="5502" y="1205"/>
                  <a:pt x="5532" y="1250"/>
                </a:cubicBezTo>
                <a:cubicBezTo>
                  <a:pt x="5542" y="1264"/>
                  <a:pt x="5550" y="1287"/>
                  <a:pt x="5556" y="1304"/>
                </a:cubicBezTo>
                <a:cubicBezTo>
                  <a:pt x="5553" y="1339"/>
                  <a:pt x="5573" y="1484"/>
                  <a:pt x="5514" y="1514"/>
                </a:cubicBezTo>
                <a:cubicBezTo>
                  <a:pt x="5352" y="1494"/>
                  <a:pt x="5194" y="1450"/>
                  <a:pt x="5034" y="1418"/>
                </a:cubicBezTo>
                <a:cubicBezTo>
                  <a:pt x="4972" y="1424"/>
                  <a:pt x="4909" y="1425"/>
                  <a:pt x="4848" y="1436"/>
                </a:cubicBezTo>
                <a:cubicBezTo>
                  <a:pt x="4838" y="1438"/>
                  <a:pt x="4833" y="1449"/>
                  <a:pt x="4824" y="1454"/>
                </a:cubicBezTo>
                <a:cubicBezTo>
                  <a:pt x="4792" y="1472"/>
                  <a:pt x="4756" y="1488"/>
                  <a:pt x="4722" y="1502"/>
                </a:cubicBezTo>
                <a:cubicBezTo>
                  <a:pt x="4666" y="1558"/>
                  <a:pt x="4633" y="1638"/>
                  <a:pt x="4608" y="1712"/>
                </a:cubicBezTo>
                <a:cubicBezTo>
                  <a:pt x="4596" y="1797"/>
                  <a:pt x="4579" y="1878"/>
                  <a:pt x="4602" y="1964"/>
                </a:cubicBezTo>
                <a:cubicBezTo>
                  <a:pt x="4617" y="2018"/>
                  <a:pt x="4619" y="2007"/>
                  <a:pt x="4662" y="2066"/>
                </a:cubicBezTo>
                <a:cubicBezTo>
                  <a:pt x="4671" y="2078"/>
                  <a:pt x="4672" y="2095"/>
                  <a:pt x="4680" y="2108"/>
                </a:cubicBezTo>
                <a:cubicBezTo>
                  <a:pt x="4700" y="2141"/>
                  <a:pt x="4734" y="2168"/>
                  <a:pt x="4758" y="2198"/>
                </a:cubicBezTo>
                <a:cubicBezTo>
                  <a:pt x="4806" y="2260"/>
                  <a:pt x="4869" y="2323"/>
                  <a:pt x="4950" y="2336"/>
                </a:cubicBezTo>
                <a:cubicBezTo>
                  <a:pt x="5003" y="2371"/>
                  <a:pt x="5128" y="2382"/>
                  <a:pt x="5190" y="2384"/>
                </a:cubicBezTo>
                <a:cubicBezTo>
                  <a:pt x="5404" y="2389"/>
                  <a:pt x="5618" y="2392"/>
                  <a:pt x="5832" y="2396"/>
                </a:cubicBezTo>
                <a:cubicBezTo>
                  <a:pt x="5926" y="2387"/>
                  <a:pt x="5876" y="2390"/>
                  <a:pt x="5982" y="239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78120" y="1839960"/>
            <a:ext cx="7658280" cy="3432240"/>
          </a:xfrm>
          <a:custGeom>
            <a:avLst/>
            <a:gdLst/>
            <a:ahLst/>
            <a:rect l="l" t="t" r="r" b="b"/>
            <a:pathLst>
              <a:path w="4824" h="2162">
                <a:moveTo>
                  <a:pt x="0" y="446"/>
                </a:moveTo>
                <a:cubicBezTo>
                  <a:pt x="62" y="450"/>
                  <a:pt x="124" y="453"/>
                  <a:pt x="186" y="458"/>
                </a:cubicBezTo>
                <a:cubicBezTo>
                  <a:pt x="207" y="460"/>
                  <a:pt x="210" y="472"/>
                  <a:pt x="228" y="482"/>
                </a:cubicBezTo>
                <a:cubicBezTo>
                  <a:pt x="269" y="505"/>
                  <a:pt x="311" y="513"/>
                  <a:pt x="354" y="530"/>
                </a:cubicBezTo>
                <a:cubicBezTo>
                  <a:pt x="410" y="521"/>
                  <a:pt x="430" y="522"/>
                  <a:pt x="474" y="500"/>
                </a:cubicBezTo>
                <a:cubicBezTo>
                  <a:pt x="492" y="502"/>
                  <a:pt x="511" y="499"/>
                  <a:pt x="528" y="506"/>
                </a:cubicBezTo>
                <a:cubicBezTo>
                  <a:pt x="539" y="510"/>
                  <a:pt x="543" y="524"/>
                  <a:pt x="552" y="530"/>
                </a:cubicBezTo>
                <a:cubicBezTo>
                  <a:pt x="568" y="541"/>
                  <a:pt x="587" y="549"/>
                  <a:pt x="606" y="554"/>
                </a:cubicBezTo>
                <a:cubicBezTo>
                  <a:pt x="628" y="560"/>
                  <a:pt x="650" y="561"/>
                  <a:pt x="672" y="566"/>
                </a:cubicBezTo>
                <a:cubicBezTo>
                  <a:pt x="678" y="570"/>
                  <a:pt x="683" y="577"/>
                  <a:pt x="690" y="578"/>
                </a:cubicBezTo>
                <a:cubicBezTo>
                  <a:pt x="740" y="586"/>
                  <a:pt x="668" y="548"/>
                  <a:pt x="720" y="542"/>
                </a:cubicBezTo>
                <a:cubicBezTo>
                  <a:pt x="825" y="531"/>
                  <a:pt x="932" y="538"/>
                  <a:pt x="1038" y="536"/>
                </a:cubicBezTo>
                <a:cubicBezTo>
                  <a:pt x="1133" y="509"/>
                  <a:pt x="1017" y="539"/>
                  <a:pt x="1176" y="518"/>
                </a:cubicBezTo>
                <a:cubicBezTo>
                  <a:pt x="1232" y="511"/>
                  <a:pt x="1280" y="492"/>
                  <a:pt x="1338" y="488"/>
                </a:cubicBezTo>
                <a:cubicBezTo>
                  <a:pt x="1404" y="484"/>
                  <a:pt x="1470" y="484"/>
                  <a:pt x="1536" y="482"/>
                </a:cubicBezTo>
                <a:cubicBezTo>
                  <a:pt x="1618" y="441"/>
                  <a:pt x="1486" y="504"/>
                  <a:pt x="1596" y="464"/>
                </a:cubicBezTo>
                <a:cubicBezTo>
                  <a:pt x="1685" y="432"/>
                  <a:pt x="1564" y="456"/>
                  <a:pt x="1662" y="440"/>
                </a:cubicBezTo>
                <a:cubicBezTo>
                  <a:pt x="1688" y="423"/>
                  <a:pt x="1702" y="421"/>
                  <a:pt x="1716" y="392"/>
                </a:cubicBezTo>
                <a:cubicBezTo>
                  <a:pt x="1824" y="396"/>
                  <a:pt x="1932" y="399"/>
                  <a:pt x="2040" y="404"/>
                </a:cubicBezTo>
                <a:cubicBezTo>
                  <a:pt x="2268" y="415"/>
                  <a:pt x="1986" y="397"/>
                  <a:pt x="2106" y="428"/>
                </a:cubicBezTo>
                <a:cubicBezTo>
                  <a:pt x="2137" y="436"/>
                  <a:pt x="2202" y="440"/>
                  <a:pt x="2202" y="440"/>
                </a:cubicBezTo>
                <a:cubicBezTo>
                  <a:pt x="2220" y="446"/>
                  <a:pt x="2238" y="452"/>
                  <a:pt x="2256" y="458"/>
                </a:cubicBezTo>
                <a:cubicBezTo>
                  <a:pt x="2268" y="462"/>
                  <a:pt x="2292" y="470"/>
                  <a:pt x="2292" y="470"/>
                </a:cubicBezTo>
                <a:cubicBezTo>
                  <a:pt x="2332" y="468"/>
                  <a:pt x="2376" y="481"/>
                  <a:pt x="2412" y="464"/>
                </a:cubicBezTo>
                <a:cubicBezTo>
                  <a:pt x="2426" y="457"/>
                  <a:pt x="2392" y="440"/>
                  <a:pt x="2382" y="428"/>
                </a:cubicBezTo>
                <a:cubicBezTo>
                  <a:pt x="2345" y="386"/>
                  <a:pt x="2336" y="376"/>
                  <a:pt x="2280" y="368"/>
                </a:cubicBezTo>
                <a:cubicBezTo>
                  <a:pt x="2278" y="360"/>
                  <a:pt x="2279" y="350"/>
                  <a:pt x="2274" y="344"/>
                </a:cubicBezTo>
                <a:cubicBezTo>
                  <a:pt x="2270" y="339"/>
                  <a:pt x="2256" y="344"/>
                  <a:pt x="2256" y="338"/>
                </a:cubicBezTo>
                <a:cubicBezTo>
                  <a:pt x="2256" y="314"/>
                  <a:pt x="2325" y="299"/>
                  <a:pt x="2340" y="296"/>
                </a:cubicBezTo>
                <a:cubicBezTo>
                  <a:pt x="2426" y="244"/>
                  <a:pt x="2317" y="305"/>
                  <a:pt x="2400" y="272"/>
                </a:cubicBezTo>
                <a:cubicBezTo>
                  <a:pt x="2432" y="259"/>
                  <a:pt x="2463" y="239"/>
                  <a:pt x="2490" y="218"/>
                </a:cubicBezTo>
                <a:cubicBezTo>
                  <a:pt x="2516" y="165"/>
                  <a:pt x="2483" y="224"/>
                  <a:pt x="2532" y="170"/>
                </a:cubicBezTo>
                <a:cubicBezTo>
                  <a:pt x="2591" y="105"/>
                  <a:pt x="2588" y="95"/>
                  <a:pt x="2682" y="86"/>
                </a:cubicBezTo>
                <a:cubicBezTo>
                  <a:pt x="2719" y="74"/>
                  <a:pt x="2714" y="42"/>
                  <a:pt x="2736" y="20"/>
                </a:cubicBezTo>
                <a:cubicBezTo>
                  <a:pt x="2748" y="8"/>
                  <a:pt x="2768" y="8"/>
                  <a:pt x="2784" y="2"/>
                </a:cubicBezTo>
                <a:cubicBezTo>
                  <a:pt x="2902" y="4"/>
                  <a:pt x="3020" y="0"/>
                  <a:pt x="3138" y="8"/>
                </a:cubicBezTo>
                <a:cubicBezTo>
                  <a:pt x="3158" y="9"/>
                  <a:pt x="3167" y="37"/>
                  <a:pt x="3186" y="44"/>
                </a:cubicBezTo>
                <a:cubicBezTo>
                  <a:pt x="3211" y="53"/>
                  <a:pt x="3238" y="55"/>
                  <a:pt x="3264" y="62"/>
                </a:cubicBezTo>
                <a:cubicBezTo>
                  <a:pt x="3497" y="57"/>
                  <a:pt x="3633" y="30"/>
                  <a:pt x="3870" y="20"/>
                </a:cubicBezTo>
                <a:cubicBezTo>
                  <a:pt x="3854" y="16"/>
                  <a:pt x="3838" y="4"/>
                  <a:pt x="3822" y="8"/>
                </a:cubicBezTo>
                <a:cubicBezTo>
                  <a:pt x="3812" y="10"/>
                  <a:pt x="3839" y="19"/>
                  <a:pt x="3846" y="26"/>
                </a:cubicBezTo>
                <a:cubicBezTo>
                  <a:pt x="3851" y="31"/>
                  <a:pt x="3855" y="38"/>
                  <a:pt x="3858" y="44"/>
                </a:cubicBezTo>
                <a:cubicBezTo>
                  <a:pt x="3874" y="77"/>
                  <a:pt x="3915" y="95"/>
                  <a:pt x="3942" y="122"/>
                </a:cubicBezTo>
                <a:cubicBezTo>
                  <a:pt x="3963" y="205"/>
                  <a:pt x="3953" y="181"/>
                  <a:pt x="3948" y="326"/>
                </a:cubicBezTo>
                <a:cubicBezTo>
                  <a:pt x="3906" y="323"/>
                  <a:pt x="3840" y="307"/>
                  <a:pt x="3798" y="314"/>
                </a:cubicBezTo>
                <a:cubicBezTo>
                  <a:pt x="3786" y="322"/>
                  <a:pt x="3774" y="330"/>
                  <a:pt x="3762" y="338"/>
                </a:cubicBezTo>
                <a:cubicBezTo>
                  <a:pt x="3750" y="346"/>
                  <a:pt x="3753" y="366"/>
                  <a:pt x="3750" y="380"/>
                </a:cubicBezTo>
                <a:cubicBezTo>
                  <a:pt x="3743" y="412"/>
                  <a:pt x="3734" y="444"/>
                  <a:pt x="3726" y="476"/>
                </a:cubicBezTo>
                <a:cubicBezTo>
                  <a:pt x="3723" y="527"/>
                  <a:pt x="3726" y="593"/>
                  <a:pt x="3696" y="638"/>
                </a:cubicBezTo>
                <a:cubicBezTo>
                  <a:pt x="3689" y="665"/>
                  <a:pt x="3683" y="689"/>
                  <a:pt x="3678" y="716"/>
                </a:cubicBezTo>
                <a:cubicBezTo>
                  <a:pt x="3680" y="730"/>
                  <a:pt x="3672" y="751"/>
                  <a:pt x="3684" y="758"/>
                </a:cubicBezTo>
                <a:cubicBezTo>
                  <a:pt x="3705" y="771"/>
                  <a:pt x="3732" y="760"/>
                  <a:pt x="3756" y="764"/>
                </a:cubicBezTo>
                <a:cubicBezTo>
                  <a:pt x="3790" y="770"/>
                  <a:pt x="3830" y="783"/>
                  <a:pt x="3864" y="794"/>
                </a:cubicBezTo>
                <a:cubicBezTo>
                  <a:pt x="3880" y="818"/>
                  <a:pt x="3914" y="829"/>
                  <a:pt x="3942" y="836"/>
                </a:cubicBezTo>
                <a:cubicBezTo>
                  <a:pt x="4008" y="880"/>
                  <a:pt x="3907" y="815"/>
                  <a:pt x="3984" y="854"/>
                </a:cubicBezTo>
                <a:cubicBezTo>
                  <a:pt x="4009" y="866"/>
                  <a:pt x="4018" y="887"/>
                  <a:pt x="4044" y="896"/>
                </a:cubicBezTo>
                <a:cubicBezTo>
                  <a:pt x="4071" y="936"/>
                  <a:pt x="4114" y="949"/>
                  <a:pt x="4152" y="974"/>
                </a:cubicBezTo>
                <a:cubicBezTo>
                  <a:pt x="4201" y="1007"/>
                  <a:pt x="4163" y="992"/>
                  <a:pt x="4200" y="1004"/>
                </a:cubicBezTo>
                <a:cubicBezTo>
                  <a:pt x="4222" y="1069"/>
                  <a:pt x="4281" y="1091"/>
                  <a:pt x="4332" y="1130"/>
                </a:cubicBezTo>
                <a:cubicBezTo>
                  <a:pt x="4368" y="1157"/>
                  <a:pt x="4332" y="1142"/>
                  <a:pt x="4368" y="1154"/>
                </a:cubicBezTo>
                <a:cubicBezTo>
                  <a:pt x="4376" y="1160"/>
                  <a:pt x="4383" y="1168"/>
                  <a:pt x="4392" y="1172"/>
                </a:cubicBezTo>
                <a:cubicBezTo>
                  <a:pt x="4399" y="1176"/>
                  <a:pt x="4409" y="1173"/>
                  <a:pt x="4416" y="1178"/>
                </a:cubicBezTo>
                <a:cubicBezTo>
                  <a:pt x="4440" y="1195"/>
                  <a:pt x="4458" y="1220"/>
                  <a:pt x="4482" y="1238"/>
                </a:cubicBezTo>
                <a:cubicBezTo>
                  <a:pt x="4488" y="1263"/>
                  <a:pt x="4500" y="1285"/>
                  <a:pt x="4506" y="1310"/>
                </a:cubicBezTo>
                <a:cubicBezTo>
                  <a:pt x="4499" y="1485"/>
                  <a:pt x="4530" y="1463"/>
                  <a:pt x="4380" y="1454"/>
                </a:cubicBezTo>
                <a:cubicBezTo>
                  <a:pt x="4364" y="1407"/>
                  <a:pt x="4308" y="1415"/>
                  <a:pt x="4266" y="1412"/>
                </a:cubicBezTo>
                <a:cubicBezTo>
                  <a:pt x="4254" y="1408"/>
                  <a:pt x="4242" y="1403"/>
                  <a:pt x="4230" y="1400"/>
                </a:cubicBezTo>
                <a:cubicBezTo>
                  <a:pt x="4218" y="1397"/>
                  <a:pt x="4206" y="1397"/>
                  <a:pt x="4194" y="1394"/>
                </a:cubicBezTo>
                <a:cubicBezTo>
                  <a:pt x="4170" y="1387"/>
                  <a:pt x="4146" y="1368"/>
                  <a:pt x="4122" y="1358"/>
                </a:cubicBezTo>
                <a:cubicBezTo>
                  <a:pt x="4069" y="1279"/>
                  <a:pt x="3988" y="1331"/>
                  <a:pt x="3882" y="1334"/>
                </a:cubicBezTo>
                <a:cubicBezTo>
                  <a:pt x="3857" y="1340"/>
                  <a:pt x="3834" y="1350"/>
                  <a:pt x="3810" y="1358"/>
                </a:cubicBezTo>
                <a:cubicBezTo>
                  <a:pt x="3780" y="1388"/>
                  <a:pt x="3755" y="1416"/>
                  <a:pt x="3714" y="1430"/>
                </a:cubicBezTo>
                <a:cubicBezTo>
                  <a:pt x="3658" y="1474"/>
                  <a:pt x="3658" y="1471"/>
                  <a:pt x="3594" y="1484"/>
                </a:cubicBezTo>
                <a:cubicBezTo>
                  <a:pt x="3554" y="1544"/>
                  <a:pt x="3581" y="1620"/>
                  <a:pt x="3564" y="1688"/>
                </a:cubicBezTo>
                <a:cubicBezTo>
                  <a:pt x="3556" y="1765"/>
                  <a:pt x="3553" y="1740"/>
                  <a:pt x="3606" y="1772"/>
                </a:cubicBezTo>
                <a:cubicBezTo>
                  <a:pt x="3628" y="1799"/>
                  <a:pt x="3649" y="1824"/>
                  <a:pt x="3678" y="1844"/>
                </a:cubicBezTo>
                <a:cubicBezTo>
                  <a:pt x="3700" y="1896"/>
                  <a:pt x="3725" y="1953"/>
                  <a:pt x="3756" y="2000"/>
                </a:cubicBezTo>
                <a:cubicBezTo>
                  <a:pt x="3765" y="2037"/>
                  <a:pt x="3835" y="2076"/>
                  <a:pt x="3870" y="2084"/>
                </a:cubicBezTo>
                <a:cubicBezTo>
                  <a:pt x="3907" y="2093"/>
                  <a:pt x="3946" y="2091"/>
                  <a:pt x="3984" y="2096"/>
                </a:cubicBezTo>
                <a:cubicBezTo>
                  <a:pt x="4094" y="2110"/>
                  <a:pt x="3889" y="2091"/>
                  <a:pt x="4068" y="2120"/>
                </a:cubicBezTo>
                <a:cubicBezTo>
                  <a:pt x="4126" y="2129"/>
                  <a:pt x="4184" y="2130"/>
                  <a:pt x="4242" y="2138"/>
                </a:cubicBezTo>
                <a:cubicBezTo>
                  <a:pt x="4295" y="2156"/>
                  <a:pt x="4342" y="2158"/>
                  <a:pt x="4398" y="2162"/>
                </a:cubicBezTo>
                <a:cubicBezTo>
                  <a:pt x="4566" y="2157"/>
                  <a:pt x="4611" y="2153"/>
                  <a:pt x="4746" y="2126"/>
                </a:cubicBezTo>
                <a:cubicBezTo>
                  <a:pt x="4781" y="2103"/>
                  <a:pt x="4757" y="2114"/>
                  <a:pt x="4824" y="211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42840" y="2368440"/>
            <a:ext cx="1800360" cy="146160"/>
          </a:xfrm>
          <a:custGeom>
            <a:avLst/>
            <a:gdLst/>
            <a:ahLst/>
            <a:rect l="l" t="t" r="r" b="b"/>
            <a:pathLst>
              <a:path w="1134" h="92">
                <a:moveTo>
                  <a:pt x="1134" y="92"/>
                </a:moveTo>
                <a:cubicBezTo>
                  <a:pt x="894" y="29"/>
                  <a:pt x="1059" y="63"/>
                  <a:pt x="630" y="50"/>
                </a:cubicBezTo>
                <a:cubicBezTo>
                  <a:pt x="594" y="44"/>
                  <a:pt x="549" y="10"/>
                  <a:pt x="516" y="8"/>
                </a:cubicBezTo>
                <a:cubicBezTo>
                  <a:pt x="391" y="0"/>
                  <a:pt x="129" y="2"/>
                  <a:pt x="0" y="2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105760" y="3352680"/>
            <a:ext cx="216000" cy="216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11720" y="1011240"/>
            <a:ext cx="1278000" cy="1407960"/>
          </a:xfrm>
          <a:custGeom>
            <a:avLst/>
            <a:gdLst/>
            <a:ahLst/>
            <a:rect l="l" t="t" r="r" b="b"/>
            <a:pathLst>
              <a:path w="805" h="887">
                <a:moveTo>
                  <a:pt x="227" y="353"/>
                </a:moveTo>
                <a:cubicBezTo>
                  <a:pt x="159" y="358"/>
                  <a:pt x="135" y="345"/>
                  <a:pt x="107" y="401"/>
                </a:cubicBezTo>
                <a:cubicBezTo>
                  <a:pt x="108" y="430"/>
                  <a:pt x="0" y="811"/>
                  <a:pt x="161" y="851"/>
                </a:cubicBezTo>
                <a:cubicBezTo>
                  <a:pt x="188" y="871"/>
                  <a:pt x="212" y="869"/>
                  <a:pt x="239" y="887"/>
                </a:cubicBezTo>
                <a:cubicBezTo>
                  <a:pt x="261" y="883"/>
                  <a:pt x="284" y="884"/>
                  <a:pt x="305" y="875"/>
                </a:cubicBezTo>
                <a:cubicBezTo>
                  <a:pt x="314" y="871"/>
                  <a:pt x="313" y="809"/>
                  <a:pt x="317" y="797"/>
                </a:cubicBezTo>
                <a:cubicBezTo>
                  <a:pt x="324" y="774"/>
                  <a:pt x="363" y="760"/>
                  <a:pt x="383" y="755"/>
                </a:cubicBezTo>
                <a:cubicBezTo>
                  <a:pt x="406" y="761"/>
                  <a:pt x="421" y="772"/>
                  <a:pt x="443" y="779"/>
                </a:cubicBezTo>
                <a:cubicBezTo>
                  <a:pt x="488" y="839"/>
                  <a:pt x="562" y="834"/>
                  <a:pt x="629" y="851"/>
                </a:cubicBezTo>
                <a:cubicBezTo>
                  <a:pt x="660" y="872"/>
                  <a:pt x="691" y="858"/>
                  <a:pt x="719" y="839"/>
                </a:cubicBezTo>
                <a:cubicBezTo>
                  <a:pt x="723" y="795"/>
                  <a:pt x="719" y="743"/>
                  <a:pt x="767" y="731"/>
                </a:cubicBezTo>
                <a:cubicBezTo>
                  <a:pt x="771" y="725"/>
                  <a:pt x="774" y="718"/>
                  <a:pt x="779" y="713"/>
                </a:cubicBezTo>
                <a:cubicBezTo>
                  <a:pt x="784" y="708"/>
                  <a:pt x="797" y="708"/>
                  <a:pt x="797" y="701"/>
                </a:cubicBezTo>
                <a:cubicBezTo>
                  <a:pt x="797" y="695"/>
                  <a:pt x="785" y="696"/>
                  <a:pt x="779" y="695"/>
                </a:cubicBezTo>
                <a:cubicBezTo>
                  <a:pt x="763" y="692"/>
                  <a:pt x="747" y="691"/>
                  <a:pt x="731" y="689"/>
                </a:cubicBezTo>
                <a:cubicBezTo>
                  <a:pt x="708" y="681"/>
                  <a:pt x="697" y="666"/>
                  <a:pt x="677" y="653"/>
                </a:cubicBezTo>
                <a:cubicBezTo>
                  <a:pt x="663" y="625"/>
                  <a:pt x="648" y="603"/>
                  <a:pt x="617" y="593"/>
                </a:cubicBezTo>
                <a:cubicBezTo>
                  <a:pt x="610" y="572"/>
                  <a:pt x="602" y="565"/>
                  <a:pt x="635" y="551"/>
                </a:cubicBezTo>
                <a:cubicBezTo>
                  <a:pt x="654" y="543"/>
                  <a:pt x="695" y="539"/>
                  <a:pt x="695" y="539"/>
                </a:cubicBezTo>
                <a:cubicBezTo>
                  <a:pt x="721" y="522"/>
                  <a:pt x="722" y="496"/>
                  <a:pt x="755" y="485"/>
                </a:cubicBezTo>
                <a:cubicBezTo>
                  <a:pt x="761" y="460"/>
                  <a:pt x="770" y="441"/>
                  <a:pt x="785" y="419"/>
                </a:cubicBezTo>
                <a:cubicBezTo>
                  <a:pt x="779" y="417"/>
                  <a:pt x="771" y="418"/>
                  <a:pt x="767" y="413"/>
                </a:cubicBezTo>
                <a:cubicBezTo>
                  <a:pt x="760" y="405"/>
                  <a:pt x="760" y="392"/>
                  <a:pt x="755" y="383"/>
                </a:cubicBezTo>
                <a:cubicBezTo>
                  <a:pt x="747" y="368"/>
                  <a:pt x="735" y="355"/>
                  <a:pt x="725" y="341"/>
                </a:cubicBezTo>
                <a:cubicBezTo>
                  <a:pt x="741" y="299"/>
                  <a:pt x="759" y="265"/>
                  <a:pt x="797" y="239"/>
                </a:cubicBezTo>
                <a:cubicBezTo>
                  <a:pt x="805" y="214"/>
                  <a:pt x="805" y="206"/>
                  <a:pt x="779" y="197"/>
                </a:cubicBezTo>
                <a:cubicBezTo>
                  <a:pt x="768" y="152"/>
                  <a:pt x="776" y="101"/>
                  <a:pt x="755" y="59"/>
                </a:cubicBezTo>
                <a:cubicBezTo>
                  <a:pt x="752" y="53"/>
                  <a:pt x="715" y="36"/>
                  <a:pt x="713" y="35"/>
                </a:cubicBezTo>
                <a:cubicBezTo>
                  <a:pt x="701" y="0"/>
                  <a:pt x="688" y="5"/>
                  <a:pt x="653" y="11"/>
                </a:cubicBezTo>
                <a:cubicBezTo>
                  <a:pt x="640" y="62"/>
                  <a:pt x="658" y="10"/>
                  <a:pt x="629" y="53"/>
                </a:cubicBezTo>
                <a:cubicBezTo>
                  <a:pt x="614" y="76"/>
                  <a:pt x="614" y="98"/>
                  <a:pt x="593" y="119"/>
                </a:cubicBezTo>
                <a:cubicBezTo>
                  <a:pt x="590" y="135"/>
                  <a:pt x="594" y="157"/>
                  <a:pt x="581" y="167"/>
                </a:cubicBezTo>
                <a:cubicBezTo>
                  <a:pt x="571" y="174"/>
                  <a:pt x="545" y="179"/>
                  <a:pt x="545" y="179"/>
                </a:cubicBezTo>
                <a:cubicBezTo>
                  <a:pt x="540" y="193"/>
                  <a:pt x="530" y="206"/>
                  <a:pt x="527" y="221"/>
                </a:cubicBezTo>
                <a:cubicBezTo>
                  <a:pt x="523" y="239"/>
                  <a:pt x="528" y="258"/>
                  <a:pt x="521" y="275"/>
                </a:cubicBezTo>
                <a:cubicBezTo>
                  <a:pt x="514" y="291"/>
                  <a:pt x="494" y="297"/>
                  <a:pt x="485" y="311"/>
                </a:cubicBezTo>
                <a:cubicBezTo>
                  <a:pt x="491" y="353"/>
                  <a:pt x="497" y="395"/>
                  <a:pt x="503" y="437"/>
                </a:cubicBezTo>
                <a:cubicBezTo>
                  <a:pt x="504" y="445"/>
                  <a:pt x="517" y="461"/>
                  <a:pt x="509" y="461"/>
                </a:cubicBezTo>
                <a:cubicBezTo>
                  <a:pt x="495" y="461"/>
                  <a:pt x="485" y="445"/>
                  <a:pt x="473" y="437"/>
                </a:cubicBezTo>
                <a:cubicBezTo>
                  <a:pt x="463" y="406"/>
                  <a:pt x="462" y="396"/>
                  <a:pt x="437" y="371"/>
                </a:cubicBezTo>
                <a:cubicBezTo>
                  <a:pt x="377" y="431"/>
                  <a:pt x="355" y="399"/>
                  <a:pt x="239" y="395"/>
                </a:cubicBezTo>
                <a:cubicBezTo>
                  <a:pt x="220" y="387"/>
                  <a:pt x="200" y="377"/>
                  <a:pt x="179" y="377"/>
                </a:cubicBezTo>
              </a:path>
            </a:pathLst>
          </a:custGeom>
          <a:solidFill>
            <a:srgbClr val="008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802480" y="1984320"/>
            <a:ext cx="21564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77280" y="2467080"/>
            <a:ext cx="257040" cy="650880"/>
          </a:xfrm>
          <a:custGeom>
            <a:avLst/>
            <a:gdLst/>
            <a:ahLst/>
            <a:rect l="l" t="t" r="r" b="b"/>
            <a:pathLst>
              <a:path w="162" h="410">
                <a:moveTo>
                  <a:pt x="162" y="0"/>
                </a:moveTo>
                <a:cubicBezTo>
                  <a:pt x="135" y="21"/>
                  <a:pt x="126" y="46"/>
                  <a:pt x="96" y="66"/>
                </a:cubicBezTo>
                <a:cubicBezTo>
                  <a:pt x="69" y="107"/>
                  <a:pt x="103" y="58"/>
                  <a:pt x="54" y="114"/>
                </a:cubicBezTo>
                <a:cubicBezTo>
                  <a:pt x="36" y="134"/>
                  <a:pt x="41" y="147"/>
                  <a:pt x="18" y="162"/>
                </a:cubicBezTo>
                <a:cubicBezTo>
                  <a:pt x="12" y="184"/>
                  <a:pt x="0" y="205"/>
                  <a:pt x="0" y="228"/>
                </a:cubicBezTo>
                <a:cubicBezTo>
                  <a:pt x="0" y="275"/>
                  <a:pt x="41" y="318"/>
                  <a:pt x="66" y="354"/>
                </a:cubicBezTo>
                <a:cubicBezTo>
                  <a:pt x="79" y="373"/>
                  <a:pt x="92" y="410"/>
                  <a:pt x="120" y="396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880480" y="2104920"/>
            <a:ext cx="365040" cy="486000"/>
          </a:xfrm>
          <a:custGeom>
            <a:avLst/>
            <a:gdLst/>
            <a:ahLst/>
            <a:rect l="l" t="t" r="r" b="b"/>
            <a:pathLst>
              <a:path w="230" h="306">
                <a:moveTo>
                  <a:pt x="175" y="0"/>
                </a:moveTo>
                <a:cubicBezTo>
                  <a:pt x="169" y="11"/>
                  <a:pt x="167" y="24"/>
                  <a:pt x="160" y="35"/>
                </a:cubicBezTo>
                <a:cubicBezTo>
                  <a:pt x="159" y="42"/>
                  <a:pt x="154" y="54"/>
                  <a:pt x="154" y="54"/>
                </a:cubicBezTo>
                <a:cubicBezTo>
                  <a:pt x="153" y="66"/>
                  <a:pt x="148" y="76"/>
                  <a:pt x="145" y="87"/>
                </a:cubicBezTo>
                <a:cubicBezTo>
                  <a:pt x="144" y="111"/>
                  <a:pt x="148" y="143"/>
                  <a:pt x="130" y="161"/>
                </a:cubicBezTo>
                <a:cubicBezTo>
                  <a:pt x="128" y="172"/>
                  <a:pt x="123" y="178"/>
                  <a:pt x="112" y="180"/>
                </a:cubicBezTo>
                <a:cubicBezTo>
                  <a:pt x="107" y="184"/>
                  <a:pt x="102" y="185"/>
                  <a:pt x="96" y="186"/>
                </a:cubicBezTo>
                <a:cubicBezTo>
                  <a:pt x="87" y="195"/>
                  <a:pt x="77" y="207"/>
                  <a:pt x="64" y="212"/>
                </a:cubicBezTo>
                <a:cubicBezTo>
                  <a:pt x="54" y="222"/>
                  <a:pt x="59" y="220"/>
                  <a:pt x="49" y="222"/>
                </a:cubicBezTo>
                <a:cubicBezTo>
                  <a:pt x="42" y="225"/>
                  <a:pt x="32" y="230"/>
                  <a:pt x="25" y="231"/>
                </a:cubicBezTo>
                <a:cubicBezTo>
                  <a:pt x="20" y="235"/>
                  <a:pt x="17" y="240"/>
                  <a:pt x="12" y="245"/>
                </a:cubicBezTo>
                <a:cubicBezTo>
                  <a:pt x="10" y="251"/>
                  <a:pt x="6" y="257"/>
                  <a:pt x="4" y="263"/>
                </a:cubicBezTo>
                <a:cubicBezTo>
                  <a:pt x="3" y="268"/>
                  <a:pt x="1" y="273"/>
                  <a:pt x="0" y="278"/>
                </a:cubicBezTo>
                <a:cubicBezTo>
                  <a:pt x="6" y="284"/>
                  <a:pt x="10" y="292"/>
                  <a:pt x="18" y="294"/>
                </a:cubicBezTo>
                <a:cubicBezTo>
                  <a:pt x="25" y="303"/>
                  <a:pt x="24" y="305"/>
                  <a:pt x="37" y="306"/>
                </a:cubicBezTo>
                <a:cubicBezTo>
                  <a:pt x="75" y="295"/>
                  <a:pt x="92" y="246"/>
                  <a:pt x="133" y="239"/>
                </a:cubicBezTo>
                <a:cubicBezTo>
                  <a:pt x="141" y="230"/>
                  <a:pt x="149" y="222"/>
                  <a:pt x="159" y="216"/>
                </a:cubicBezTo>
                <a:cubicBezTo>
                  <a:pt x="162" y="197"/>
                  <a:pt x="165" y="182"/>
                  <a:pt x="171" y="164"/>
                </a:cubicBezTo>
                <a:cubicBezTo>
                  <a:pt x="172" y="151"/>
                  <a:pt x="174" y="142"/>
                  <a:pt x="177" y="129"/>
                </a:cubicBezTo>
                <a:cubicBezTo>
                  <a:pt x="165" y="122"/>
                  <a:pt x="161" y="110"/>
                  <a:pt x="154" y="99"/>
                </a:cubicBezTo>
                <a:cubicBezTo>
                  <a:pt x="156" y="77"/>
                  <a:pt x="152" y="71"/>
                  <a:pt x="172" y="68"/>
                </a:cubicBezTo>
                <a:cubicBezTo>
                  <a:pt x="180" y="65"/>
                  <a:pt x="187" y="63"/>
                  <a:pt x="195" y="62"/>
                </a:cubicBezTo>
                <a:cubicBezTo>
                  <a:pt x="205" y="57"/>
                  <a:pt x="216" y="55"/>
                  <a:pt x="226" y="51"/>
                </a:cubicBezTo>
                <a:cubicBezTo>
                  <a:pt x="230" y="42"/>
                  <a:pt x="227" y="42"/>
                  <a:pt x="219" y="41"/>
                </a:cubicBezTo>
                <a:cubicBezTo>
                  <a:pt x="210" y="36"/>
                  <a:pt x="202" y="31"/>
                  <a:pt x="193" y="27"/>
                </a:cubicBezTo>
                <a:cubicBezTo>
                  <a:pt x="188" y="20"/>
                  <a:pt x="183" y="14"/>
                  <a:pt x="174" y="14"/>
                </a:cubicBezTo>
              </a:path>
            </a:pathLst>
          </a:cu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85840" y="847800"/>
            <a:ext cx="2413080" cy="1392120"/>
          </a:xfrm>
          <a:custGeom>
            <a:avLst/>
            <a:gdLst/>
            <a:ahLst/>
            <a:rect l="l" t="t" r="r" b="b"/>
            <a:pathLst>
              <a:path w="1520" h="877">
                <a:moveTo>
                  <a:pt x="30" y="132"/>
                </a:moveTo>
                <a:cubicBezTo>
                  <a:pt x="93" y="139"/>
                  <a:pt x="144" y="155"/>
                  <a:pt x="204" y="132"/>
                </a:cubicBezTo>
                <a:cubicBezTo>
                  <a:pt x="211" y="129"/>
                  <a:pt x="211" y="119"/>
                  <a:pt x="216" y="114"/>
                </a:cubicBezTo>
                <a:cubicBezTo>
                  <a:pt x="216" y="114"/>
                  <a:pt x="287" y="29"/>
                  <a:pt x="300" y="18"/>
                </a:cubicBezTo>
                <a:cubicBezTo>
                  <a:pt x="313" y="7"/>
                  <a:pt x="332" y="6"/>
                  <a:pt x="348" y="0"/>
                </a:cubicBezTo>
                <a:cubicBezTo>
                  <a:pt x="590" y="5"/>
                  <a:pt x="826" y="20"/>
                  <a:pt x="1068" y="24"/>
                </a:cubicBezTo>
                <a:cubicBezTo>
                  <a:pt x="1163" y="119"/>
                  <a:pt x="1280" y="196"/>
                  <a:pt x="1362" y="306"/>
                </a:cubicBezTo>
                <a:cubicBezTo>
                  <a:pt x="1355" y="877"/>
                  <a:pt x="1520" y="817"/>
                  <a:pt x="1044" y="792"/>
                </a:cubicBezTo>
                <a:cubicBezTo>
                  <a:pt x="1027" y="791"/>
                  <a:pt x="1012" y="779"/>
                  <a:pt x="996" y="774"/>
                </a:cubicBezTo>
                <a:cubicBezTo>
                  <a:pt x="899" y="698"/>
                  <a:pt x="895" y="713"/>
                  <a:pt x="738" y="696"/>
                </a:cubicBezTo>
                <a:cubicBezTo>
                  <a:pt x="579" y="654"/>
                  <a:pt x="421" y="652"/>
                  <a:pt x="258" y="636"/>
                </a:cubicBezTo>
                <a:cubicBezTo>
                  <a:pt x="244" y="630"/>
                  <a:pt x="228" y="627"/>
                  <a:pt x="216" y="618"/>
                </a:cubicBezTo>
                <a:cubicBezTo>
                  <a:pt x="211" y="614"/>
                  <a:pt x="214" y="604"/>
                  <a:pt x="210" y="600"/>
                </a:cubicBezTo>
                <a:cubicBezTo>
                  <a:pt x="206" y="596"/>
                  <a:pt x="198" y="596"/>
                  <a:pt x="192" y="594"/>
                </a:cubicBezTo>
                <a:cubicBezTo>
                  <a:pt x="133" y="502"/>
                  <a:pt x="158" y="537"/>
                  <a:pt x="120" y="486"/>
                </a:cubicBezTo>
                <a:cubicBezTo>
                  <a:pt x="104" y="422"/>
                  <a:pt x="115" y="363"/>
                  <a:pt x="48" y="330"/>
                </a:cubicBezTo>
                <a:cubicBezTo>
                  <a:pt x="31" y="280"/>
                  <a:pt x="17" y="230"/>
                  <a:pt x="0" y="180"/>
                </a:cubicBezTo>
                <a:cubicBezTo>
                  <a:pt x="2" y="156"/>
                  <a:pt x="1" y="132"/>
                  <a:pt x="6" y="108"/>
                </a:cubicBezTo>
                <a:cubicBezTo>
                  <a:pt x="7" y="102"/>
                  <a:pt x="8" y="122"/>
                  <a:pt x="12" y="126"/>
                </a:cubicBezTo>
                <a:cubicBezTo>
                  <a:pt x="18" y="132"/>
                  <a:pt x="28" y="135"/>
                  <a:pt x="36" y="138"/>
                </a:cubicBezTo>
                <a:cubicBezTo>
                  <a:pt x="39" y="139"/>
                  <a:pt x="32" y="134"/>
                  <a:pt x="30" y="132"/>
                </a:cubicBezTo>
                <a:close/>
              </a:path>
            </a:pathLst>
          </a:custGeom>
          <a:solidFill>
            <a:srgbClr val="8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34120" y="657360"/>
            <a:ext cx="4111560" cy="1552320"/>
          </a:xfrm>
          <a:custGeom>
            <a:avLst/>
            <a:gdLst/>
            <a:ahLst/>
            <a:rect l="l" t="t" r="r" b="b"/>
            <a:pathLst>
              <a:path w="2590" h="978">
                <a:moveTo>
                  <a:pt x="309" y="978"/>
                </a:moveTo>
                <a:cubicBezTo>
                  <a:pt x="289" y="948"/>
                  <a:pt x="262" y="961"/>
                  <a:pt x="231" y="948"/>
                </a:cubicBezTo>
                <a:cubicBezTo>
                  <a:pt x="176" y="925"/>
                  <a:pt x="115" y="889"/>
                  <a:pt x="57" y="870"/>
                </a:cubicBezTo>
                <a:cubicBezTo>
                  <a:pt x="57" y="870"/>
                  <a:pt x="0" y="830"/>
                  <a:pt x="3" y="810"/>
                </a:cubicBezTo>
                <a:cubicBezTo>
                  <a:pt x="6" y="793"/>
                  <a:pt x="64" y="776"/>
                  <a:pt x="75" y="774"/>
                </a:cubicBezTo>
                <a:cubicBezTo>
                  <a:pt x="102" y="729"/>
                  <a:pt x="130" y="694"/>
                  <a:pt x="147" y="642"/>
                </a:cubicBezTo>
                <a:cubicBezTo>
                  <a:pt x="133" y="570"/>
                  <a:pt x="128" y="585"/>
                  <a:pt x="141" y="498"/>
                </a:cubicBezTo>
                <a:cubicBezTo>
                  <a:pt x="137" y="432"/>
                  <a:pt x="128" y="405"/>
                  <a:pt x="117" y="348"/>
                </a:cubicBezTo>
                <a:cubicBezTo>
                  <a:pt x="139" y="315"/>
                  <a:pt x="173" y="311"/>
                  <a:pt x="207" y="294"/>
                </a:cubicBezTo>
                <a:cubicBezTo>
                  <a:pt x="252" y="339"/>
                  <a:pt x="243" y="337"/>
                  <a:pt x="237" y="414"/>
                </a:cubicBezTo>
                <a:cubicBezTo>
                  <a:pt x="318" y="430"/>
                  <a:pt x="375" y="374"/>
                  <a:pt x="441" y="336"/>
                </a:cubicBezTo>
                <a:cubicBezTo>
                  <a:pt x="468" y="321"/>
                  <a:pt x="501" y="316"/>
                  <a:pt x="531" y="312"/>
                </a:cubicBezTo>
                <a:cubicBezTo>
                  <a:pt x="585" y="276"/>
                  <a:pt x="628" y="275"/>
                  <a:pt x="693" y="270"/>
                </a:cubicBezTo>
                <a:cubicBezTo>
                  <a:pt x="703" y="266"/>
                  <a:pt x="713" y="260"/>
                  <a:pt x="723" y="258"/>
                </a:cubicBezTo>
                <a:cubicBezTo>
                  <a:pt x="739" y="254"/>
                  <a:pt x="756" y="257"/>
                  <a:pt x="771" y="252"/>
                </a:cubicBezTo>
                <a:cubicBezTo>
                  <a:pt x="893" y="211"/>
                  <a:pt x="738" y="239"/>
                  <a:pt x="855" y="222"/>
                </a:cubicBezTo>
                <a:cubicBezTo>
                  <a:pt x="902" y="198"/>
                  <a:pt x="947" y="175"/>
                  <a:pt x="999" y="162"/>
                </a:cubicBezTo>
                <a:cubicBezTo>
                  <a:pt x="1023" y="144"/>
                  <a:pt x="1038" y="123"/>
                  <a:pt x="1059" y="102"/>
                </a:cubicBezTo>
                <a:cubicBezTo>
                  <a:pt x="1061" y="72"/>
                  <a:pt x="1036" y="19"/>
                  <a:pt x="1065" y="12"/>
                </a:cubicBezTo>
                <a:cubicBezTo>
                  <a:pt x="1119" y="0"/>
                  <a:pt x="1169" y="48"/>
                  <a:pt x="1221" y="66"/>
                </a:cubicBezTo>
                <a:cubicBezTo>
                  <a:pt x="1291" y="90"/>
                  <a:pt x="1345" y="108"/>
                  <a:pt x="1419" y="114"/>
                </a:cubicBezTo>
                <a:cubicBezTo>
                  <a:pt x="1512" y="135"/>
                  <a:pt x="1599" y="145"/>
                  <a:pt x="1695" y="150"/>
                </a:cubicBezTo>
                <a:cubicBezTo>
                  <a:pt x="1741" y="160"/>
                  <a:pt x="1787" y="169"/>
                  <a:pt x="1833" y="180"/>
                </a:cubicBezTo>
                <a:cubicBezTo>
                  <a:pt x="1862" y="187"/>
                  <a:pt x="1890" y="212"/>
                  <a:pt x="1917" y="216"/>
                </a:cubicBezTo>
                <a:cubicBezTo>
                  <a:pt x="2032" y="234"/>
                  <a:pt x="2160" y="246"/>
                  <a:pt x="2277" y="258"/>
                </a:cubicBezTo>
                <a:cubicBezTo>
                  <a:pt x="2393" y="328"/>
                  <a:pt x="2379" y="318"/>
                  <a:pt x="2547" y="324"/>
                </a:cubicBezTo>
                <a:cubicBezTo>
                  <a:pt x="2553" y="330"/>
                  <a:pt x="2558" y="337"/>
                  <a:pt x="2565" y="342"/>
                </a:cubicBezTo>
                <a:cubicBezTo>
                  <a:pt x="2570" y="346"/>
                  <a:pt x="2583" y="342"/>
                  <a:pt x="2583" y="348"/>
                </a:cubicBezTo>
                <a:cubicBezTo>
                  <a:pt x="2590" y="438"/>
                  <a:pt x="2521" y="457"/>
                  <a:pt x="2451" y="480"/>
                </a:cubicBezTo>
                <a:cubicBezTo>
                  <a:pt x="2431" y="496"/>
                  <a:pt x="2400" y="527"/>
                  <a:pt x="2379" y="540"/>
                </a:cubicBezTo>
                <a:cubicBezTo>
                  <a:pt x="2324" y="573"/>
                  <a:pt x="2361" y="534"/>
                  <a:pt x="2319" y="564"/>
                </a:cubicBezTo>
                <a:cubicBezTo>
                  <a:pt x="2280" y="592"/>
                  <a:pt x="2326" y="577"/>
                  <a:pt x="2271" y="588"/>
                </a:cubicBezTo>
                <a:cubicBezTo>
                  <a:pt x="2243" y="602"/>
                  <a:pt x="2217" y="620"/>
                  <a:pt x="2187" y="630"/>
                </a:cubicBezTo>
                <a:cubicBezTo>
                  <a:pt x="2186" y="631"/>
                  <a:pt x="2143" y="664"/>
                  <a:pt x="2139" y="672"/>
                </a:cubicBezTo>
                <a:cubicBezTo>
                  <a:pt x="2127" y="698"/>
                  <a:pt x="2129" y="732"/>
                  <a:pt x="2109" y="756"/>
                </a:cubicBezTo>
                <a:cubicBezTo>
                  <a:pt x="2107" y="759"/>
                  <a:pt x="2061" y="778"/>
                  <a:pt x="2055" y="780"/>
                </a:cubicBezTo>
                <a:cubicBezTo>
                  <a:pt x="2051" y="772"/>
                  <a:pt x="2043" y="765"/>
                  <a:pt x="2043" y="756"/>
                </a:cubicBezTo>
                <a:cubicBezTo>
                  <a:pt x="2043" y="698"/>
                  <a:pt x="2098" y="614"/>
                  <a:pt x="2151" y="588"/>
                </a:cubicBezTo>
                <a:cubicBezTo>
                  <a:pt x="2153" y="582"/>
                  <a:pt x="2163" y="571"/>
                  <a:pt x="2157" y="570"/>
                </a:cubicBezTo>
                <a:cubicBezTo>
                  <a:pt x="2115" y="561"/>
                  <a:pt x="2042" y="592"/>
                  <a:pt x="2001" y="606"/>
                </a:cubicBezTo>
                <a:cubicBezTo>
                  <a:pt x="1974" y="633"/>
                  <a:pt x="1844" y="646"/>
                  <a:pt x="1809" y="654"/>
                </a:cubicBezTo>
                <a:cubicBezTo>
                  <a:pt x="1801" y="881"/>
                  <a:pt x="1847" y="786"/>
                  <a:pt x="1767" y="840"/>
                </a:cubicBezTo>
                <a:cubicBezTo>
                  <a:pt x="1751" y="838"/>
                  <a:pt x="1734" y="840"/>
                  <a:pt x="1719" y="834"/>
                </a:cubicBezTo>
                <a:cubicBezTo>
                  <a:pt x="1688" y="823"/>
                  <a:pt x="1712" y="804"/>
                  <a:pt x="1677" y="792"/>
                </a:cubicBezTo>
                <a:cubicBezTo>
                  <a:pt x="1642" y="748"/>
                  <a:pt x="1590" y="770"/>
                  <a:pt x="1533" y="768"/>
                </a:cubicBezTo>
                <a:cubicBezTo>
                  <a:pt x="1433" y="765"/>
                  <a:pt x="1333" y="764"/>
                  <a:pt x="1233" y="762"/>
                </a:cubicBezTo>
                <a:cubicBezTo>
                  <a:pt x="1102" y="718"/>
                  <a:pt x="1223" y="755"/>
                  <a:pt x="903" y="732"/>
                </a:cubicBezTo>
                <a:cubicBezTo>
                  <a:pt x="820" y="726"/>
                  <a:pt x="678" y="684"/>
                  <a:pt x="627" y="672"/>
                </a:cubicBezTo>
                <a:cubicBezTo>
                  <a:pt x="586" y="647"/>
                  <a:pt x="540" y="639"/>
                  <a:pt x="495" y="624"/>
                </a:cubicBezTo>
                <a:cubicBezTo>
                  <a:pt x="461" y="626"/>
                  <a:pt x="425" y="618"/>
                  <a:pt x="393" y="630"/>
                </a:cubicBezTo>
                <a:cubicBezTo>
                  <a:pt x="381" y="634"/>
                  <a:pt x="383" y="653"/>
                  <a:pt x="381" y="666"/>
                </a:cubicBezTo>
                <a:cubicBezTo>
                  <a:pt x="375" y="714"/>
                  <a:pt x="378" y="763"/>
                  <a:pt x="369" y="810"/>
                </a:cubicBezTo>
                <a:cubicBezTo>
                  <a:pt x="358" y="869"/>
                  <a:pt x="348" y="841"/>
                  <a:pt x="333" y="876"/>
                </a:cubicBezTo>
                <a:cubicBezTo>
                  <a:pt x="314" y="920"/>
                  <a:pt x="336" y="907"/>
                  <a:pt x="303" y="918"/>
                </a:cubicBezTo>
                <a:cubicBezTo>
                  <a:pt x="227" y="893"/>
                  <a:pt x="280" y="906"/>
                  <a:pt x="141" y="906"/>
                </a:cubicBezTo>
              </a:path>
            </a:pathLst>
          </a:custGeom>
          <a:solidFill>
            <a:srgbClr val="8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90720" y="2590920"/>
            <a:ext cx="754200" cy="511200"/>
          </a:xfrm>
          <a:custGeom>
            <a:avLst/>
            <a:gdLst/>
            <a:ahLst/>
            <a:rect l="l" t="t" r="r" b="b"/>
            <a:pathLst>
              <a:path w="475" h="322">
                <a:moveTo>
                  <a:pt x="270" y="54"/>
                </a:moveTo>
                <a:cubicBezTo>
                  <a:pt x="276" y="82"/>
                  <a:pt x="288" y="99"/>
                  <a:pt x="294" y="126"/>
                </a:cubicBezTo>
                <a:cubicBezTo>
                  <a:pt x="304" y="169"/>
                  <a:pt x="299" y="215"/>
                  <a:pt x="336" y="240"/>
                </a:cubicBezTo>
                <a:cubicBezTo>
                  <a:pt x="417" y="235"/>
                  <a:pt x="421" y="250"/>
                  <a:pt x="456" y="198"/>
                </a:cubicBezTo>
                <a:cubicBezTo>
                  <a:pt x="454" y="224"/>
                  <a:pt x="475" y="268"/>
                  <a:pt x="450" y="276"/>
                </a:cubicBezTo>
                <a:cubicBezTo>
                  <a:pt x="317" y="322"/>
                  <a:pt x="294" y="302"/>
                  <a:pt x="228" y="258"/>
                </a:cubicBezTo>
                <a:cubicBezTo>
                  <a:pt x="202" y="220"/>
                  <a:pt x="172" y="190"/>
                  <a:pt x="150" y="150"/>
                </a:cubicBezTo>
                <a:cubicBezTo>
                  <a:pt x="144" y="140"/>
                  <a:pt x="139" y="129"/>
                  <a:pt x="132" y="120"/>
                </a:cubicBezTo>
                <a:cubicBezTo>
                  <a:pt x="121" y="107"/>
                  <a:pt x="96" y="84"/>
                  <a:pt x="96" y="84"/>
                </a:cubicBezTo>
                <a:cubicBezTo>
                  <a:pt x="83" y="46"/>
                  <a:pt x="50" y="21"/>
                  <a:pt x="18" y="0"/>
                </a:cubicBezTo>
                <a:cubicBezTo>
                  <a:pt x="37" y="29"/>
                  <a:pt x="43" y="65"/>
                  <a:pt x="72" y="84"/>
                </a:cubicBezTo>
                <a:cubicBezTo>
                  <a:pt x="86" y="105"/>
                  <a:pt x="83" y="118"/>
                  <a:pt x="108" y="126"/>
                </a:cubicBezTo>
                <a:cubicBezTo>
                  <a:pt x="126" y="154"/>
                  <a:pt x="145" y="184"/>
                  <a:pt x="156" y="216"/>
                </a:cubicBezTo>
                <a:cubicBezTo>
                  <a:pt x="123" y="238"/>
                  <a:pt x="129" y="215"/>
                  <a:pt x="96" y="204"/>
                </a:cubicBezTo>
                <a:cubicBezTo>
                  <a:pt x="78" y="150"/>
                  <a:pt x="68" y="76"/>
                  <a:pt x="18" y="42"/>
                </a:cubicBezTo>
                <a:cubicBezTo>
                  <a:pt x="16" y="36"/>
                  <a:pt x="15" y="30"/>
                  <a:pt x="12" y="24"/>
                </a:cubicBezTo>
                <a:cubicBezTo>
                  <a:pt x="9" y="18"/>
                  <a:pt x="0" y="6"/>
                  <a:pt x="0" y="6"/>
                </a:cubicBezTo>
              </a:path>
            </a:pathLst>
          </a:cu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73760" y="1120680"/>
            <a:ext cx="382680" cy="533520"/>
          </a:xfrm>
          <a:custGeom>
            <a:avLst/>
            <a:gdLst/>
            <a:ahLst/>
            <a:rect l="l" t="t" r="r" b="b"/>
            <a:pathLst>
              <a:path w="241" h="336">
                <a:moveTo>
                  <a:pt x="241" y="0"/>
                </a:moveTo>
                <a:cubicBezTo>
                  <a:pt x="235" y="19"/>
                  <a:pt x="181" y="81"/>
                  <a:pt x="163" y="96"/>
                </a:cubicBezTo>
                <a:cubicBezTo>
                  <a:pt x="144" y="113"/>
                  <a:pt x="143" y="103"/>
                  <a:pt x="127" y="126"/>
                </a:cubicBezTo>
                <a:cubicBezTo>
                  <a:pt x="122" y="133"/>
                  <a:pt x="121" y="143"/>
                  <a:pt x="115" y="150"/>
                </a:cubicBezTo>
                <a:cubicBezTo>
                  <a:pt x="104" y="163"/>
                  <a:pt x="91" y="174"/>
                  <a:pt x="79" y="186"/>
                </a:cubicBezTo>
                <a:cubicBezTo>
                  <a:pt x="73" y="192"/>
                  <a:pt x="61" y="204"/>
                  <a:pt x="61" y="204"/>
                </a:cubicBezTo>
                <a:cubicBezTo>
                  <a:pt x="52" y="232"/>
                  <a:pt x="40" y="260"/>
                  <a:pt x="31" y="288"/>
                </a:cubicBezTo>
                <a:cubicBezTo>
                  <a:pt x="26" y="304"/>
                  <a:pt x="19" y="336"/>
                  <a:pt x="19" y="336"/>
                </a:cubicBezTo>
                <a:cubicBezTo>
                  <a:pt x="10" y="251"/>
                  <a:pt x="0" y="156"/>
                  <a:pt x="91" y="126"/>
                </a:cubicBezTo>
                <a:cubicBezTo>
                  <a:pt x="107" y="101"/>
                  <a:pt x="121" y="84"/>
                  <a:pt x="145" y="66"/>
                </a:cubicBezTo>
                <a:cubicBezTo>
                  <a:pt x="165" y="26"/>
                  <a:pt x="192" y="0"/>
                  <a:pt x="241" y="0"/>
                </a:cubicBezTo>
                <a:close/>
              </a:path>
            </a:pathLst>
          </a:custGeom>
          <a:solidFill>
            <a:srgbClr val="80008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4840" y="3855960"/>
            <a:ext cx="1074600" cy="963720"/>
          </a:xfrm>
          <a:custGeom>
            <a:avLst/>
            <a:gdLst/>
            <a:ahLst/>
            <a:rect l="l" t="t" r="r" b="b"/>
            <a:pathLst>
              <a:path w="677" h="607">
                <a:moveTo>
                  <a:pt x="465" y="96"/>
                </a:moveTo>
                <a:cubicBezTo>
                  <a:pt x="492" y="140"/>
                  <a:pt x="530" y="177"/>
                  <a:pt x="555" y="222"/>
                </a:cubicBezTo>
                <a:cubicBezTo>
                  <a:pt x="576" y="260"/>
                  <a:pt x="591" y="306"/>
                  <a:pt x="621" y="336"/>
                </a:cubicBezTo>
                <a:cubicBezTo>
                  <a:pt x="628" y="369"/>
                  <a:pt x="644" y="389"/>
                  <a:pt x="657" y="420"/>
                </a:cubicBezTo>
                <a:cubicBezTo>
                  <a:pt x="664" y="494"/>
                  <a:pt x="677" y="525"/>
                  <a:pt x="663" y="600"/>
                </a:cubicBezTo>
                <a:cubicBezTo>
                  <a:pt x="551" y="598"/>
                  <a:pt x="438" y="607"/>
                  <a:pt x="327" y="594"/>
                </a:cubicBezTo>
                <a:cubicBezTo>
                  <a:pt x="303" y="591"/>
                  <a:pt x="290" y="560"/>
                  <a:pt x="267" y="552"/>
                </a:cubicBezTo>
                <a:cubicBezTo>
                  <a:pt x="187" y="525"/>
                  <a:pt x="244" y="541"/>
                  <a:pt x="93" y="528"/>
                </a:cubicBezTo>
                <a:cubicBezTo>
                  <a:pt x="75" y="510"/>
                  <a:pt x="71" y="495"/>
                  <a:pt x="57" y="474"/>
                </a:cubicBezTo>
                <a:cubicBezTo>
                  <a:pt x="32" y="373"/>
                  <a:pt x="0" y="382"/>
                  <a:pt x="57" y="216"/>
                </a:cubicBezTo>
                <a:cubicBezTo>
                  <a:pt x="63" y="199"/>
                  <a:pt x="93" y="212"/>
                  <a:pt x="111" y="210"/>
                </a:cubicBezTo>
                <a:cubicBezTo>
                  <a:pt x="153" y="180"/>
                  <a:pt x="199" y="148"/>
                  <a:pt x="237" y="114"/>
                </a:cubicBezTo>
                <a:cubicBezTo>
                  <a:pt x="284" y="72"/>
                  <a:pt x="341" y="16"/>
                  <a:pt x="405" y="0"/>
                </a:cubicBezTo>
                <a:cubicBezTo>
                  <a:pt x="417" y="8"/>
                  <a:pt x="433" y="12"/>
                  <a:pt x="441" y="24"/>
                </a:cubicBezTo>
                <a:cubicBezTo>
                  <a:pt x="449" y="36"/>
                  <a:pt x="442" y="53"/>
                  <a:pt x="447" y="66"/>
                </a:cubicBezTo>
                <a:cubicBezTo>
                  <a:pt x="453" y="81"/>
                  <a:pt x="513" y="153"/>
                  <a:pt x="483" y="168"/>
                </a:cubicBezTo>
              </a:path>
            </a:pathLst>
          </a:custGeom>
          <a:solidFill>
            <a:srgbClr val="8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57760" y="3424320"/>
            <a:ext cx="1000080" cy="1198440"/>
          </a:xfrm>
          <a:custGeom>
            <a:avLst/>
            <a:gdLst/>
            <a:ahLst/>
            <a:rect l="l" t="t" r="r" b="b"/>
            <a:pathLst>
              <a:path w="630" h="755">
                <a:moveTo>
                  <a:pt x="318" y="66"/>
                </a:moveTo>
                <a:cubicBezTo>
                  <a:pt x="255" y="61"/>
                  <a:pt x="257" y="77"/>
                  <a:pt x="228" y="42"/>
                </a:cubicBezTo>
                <a:cubicBezTo>
                  <a:pt x="214" y="26"/>
                  <a:pt x="180" y="0"/>
                  <a:pt x="180" y="0"/>
                </a:cubicBezTo>
                <a:cubicBezTo>
                  <a:pt x="91" y="36"/>
                  <a:pt x="19" y="110"/>
                  <a:pt x="0" y="204"/>
                </a:cubicBezTo>
                <a:cubicBezTo>
                  <a:pt x="6" y="240"/>
                  <a:pt x="0" y="280"/>
                  <a:pt x="18" y="312"/>
                </a:cubicBezTo>
                <a:cubicBezTo>
                  <a:pt x="26" y="326"/>
                  <a:pt x="51" y="318"/>
                  <a:pt x="66" y="324"/>
                </a:cubicBezTo>
                <a:cubicBezTo>
                  <a:pt x="117" y="344"/>
                  <a:pt x="168" y="344"/>
                  <a:pt x="222" y="348"/>
                </a:cubicBezTo>
                <a:cubicBezTo>
                  <a:pt x="232" y="419"/>
                  <a:pt x="239" y="487"/>
                  <a:pt x="252" y="558"/>
                </a:cubicBezTo>
                <a:cubicBezTo>
                  <a:pt x="253" y="564"/>
                  <a:pt x="252" y="573"/>
                  <a:pt x="258" y="576"/>
                </a:cubicBezTo>
                <a:cubicBezTo>
                  <a:pt x="272" y="584"/>
                  <a:pt x="290" y="584"/>
                  <a:pt x="306" y="588"/>
                </a:cubicBezTo>
                <a:cubicBezTo>
                  <a:pt x="333" y="629"/>
                  <a:pt x="324" y="607"/>
                  <a:pt x="312" y="696"/>
                </a:cubicBezTo>
                <a:cubicBezTo>
                  <a:pt x="305" y="746"/>
                  <a:pt x="283" y="755"/>
                  <a:pt x="318" y="732"/>
                </a:cubicBezTo>
                <a:cubicBezTo>
                  <a:pt x="326" y="684"/>
                  <a:pt x="334" y="597"/>
                  <a:pt x="366" y="552"/>
                </a:cubicBezTo>
                <a:cubicBezTo>
                  <a:pt x="378" y="536"/>
                  <a:pt x="396" y="526"/>
                  <a:pt x="408" y="510"/>
                </a:cubicBezTo>
                <a:cubicBezTo>
                  <a:pt x="467" y="433"/>
                  <a:pt x="416" y="464"/>
                  <a:pt x="468" y="438"/>
                </a:cubicBezTo>
                <a:cubicBezTo>
                  <a:pt x="499" y="399"/>
                  <a:pt x="551" y="372"/>
                  <a:pt x="576" y="330"/>
                </a:cubicBezTo>
                <a:cubicBezTo>
                  <a:pt x="597" y="295"/>
                  <a:pt x="583" y="304"/>
                  <a:pt x="612" y="294"/>
                </a:cubicBezTo>
                <a:cubicBezTo>
                  <a:pt x="617" y="280"/>
                  <a:pt x="630" y="267"/>
                  <a:pt x="630" y="252"/>
                </a:cubicBezTo>
                <a:cubicBezTo>
                  <a:pt x="630" y="245"/>
                  <a:pt x="625" y="237"/>
                  <a:pt x="618" y="234"/>
                </a:cubicBezTo>
                <a:cubicBezTo>
                  <a:pt x="588" y="221"/>
                  <a:pt x="533" y="210"/>
                  <a:pt x="498" y="198"/>
                </a:cubicBezTo>
                <a:cubicBezTo>
                  <a:pt x="452" y="129"/>
                  <a:pt x="392" y="73"/>
                  <a:pt x="318" y="36"/>
                </a:cubicBezTo>
                <a:cubicBezTo>
                  <a:pt x="242" y="47"/>
                  <a:pt x="276" y="28"/>
                  <a:pt x="276" y="144"/>
                </a:cubicBezTo>
              </a:path>
            </a:pathLst>
          </a:custGeom>
          <a:solidFill>
            <a:srgbClr val="ff0000">
              <a:alpha val="40000"/>
            </a:srgbClr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0520" y="4067280"/>
            <a:ext cx="218880" cy="1216080"/>
          </a:xfrm>
          <a:custGeom>
            <a:avLst/>
            <a:gdLst/>
            <a:ahLst/>
            <a:rect l="l" t="t" r="r" b="b"/>
            <a:pathLst>
              <a:path w="138" h="766">
                <a:moveTo>
                  <a:pt x="102" y="30"/>
                </a:moveTo>
                <a:cubicBezTo>
                  <a:pt x="106" y="44"/>
                  <a:pt x="109" y="58"/>
                  <a:pt x="114" y="72"/>
                </a:cubicBezTo>
                <a:cubicBezTo>
                  <a:pt x="117" y="79"/>
                  <a:pt x="124" y="83"/>
                  <a:pt x="126" y="90"/>
                </a:cubicBezTo>
                <a:cubicBezTo>
                  <a:pt x="131" y="106"/>
                  <a:pt x="138" y="193"/>
                  <a:pt x="138" y="198"/>
                </a:cubicBezTo>
                <a:cubicBezTo>
                  <a:pt x="132" y="237"/>
                  <a:pt x="111" y="262"/>
                  <a:pt x="102" y="300"/>
                </a:cubicBezTo>
                <a:cubicBezTo>
                  <a:pt x="95" y="366"/>
                  <a:pt x="76" y="428"/>
                  <a:pt x="60" y="492"/>
                </a:cubicBezTo>
                <a:cubicBezTo>
                  <a:pt x="58" y="578"/>
                  <a:pt x="59" y="664"/>
                  <a:pt x="54" y="750"/>
                </a:cubicBezTo>
                <a:cubicBezTo>
                  <a:pt x="53" y="766"/>
                  <a:pt x="54" y="717"/>
                  <a:pt x="48" y="702"/>
                </a:cubicBezTo>
                <a:cubicBezTo>
                  <a:pt x="45" y="695"/>
                  <a:pt x="36" y="694"/>
                  <a:pt x="30" y="690"/>
                </a:cubicBezTo>
                <a:cubicBezTo>
                  <a:pt x="0" y="629"/>
                  <a:pt x="32" y="395"/>
                  <a:pt x="54" y="306"/>
                </a:cubicBezTo>
                <a:cubicBezTo>
                  <a:pt x="48" y="215"/>
                  <a:pt x="30" y="94"/>
                  <a:pt x="30" y="0"/>
                </a:cubicBezTo>
              </a:path>
            </a:pathLst>
          </a:custGeom>
          <a:solidFill>
            <a:srgbClr val="ff0000">
              <a:alpha val="50000"/>
            </a:srgbClr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761200" y="6904080"/>
            <a:ext cx="1143720" cy="276480"/>
          </a:xfrm>
          <a:prstGeom prst="rect">
            <a:avLst/>
          </a:pr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 autres PV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41880" y="4276800"/>
            <a:ext cx="478080" cy="428400"/>
          </a:xfrm>
          <a:custGeom>
            <a:avLst/>
            <a:gdLst/>
            <a:ahLst/>
            <a:rect l="l" t="t" r="r" b="b"/>
            <a:pathLst>
              <a:path w="301" h="270">
                <a:moveTo>
                  <a:pt x="22" y="108"/>
                </a:moveTo>
                <a:cubicBezTo>
                  <a:pt x="176" y="98"/>
                  <a:pt x="73" y="114"/>
                  <a:pt x="136" y="72"/>
                </a:cubicBezTo>
                <a:cubicBezTo>
                  <a:pt x="138" y="64"/>
                  <a:pt x="137" y="55"/>
                  <a:pt x="142" y="48"/>
                </a:cubicBezTo>
                <a:cubicBezTo>
                  <a:pt x="151" y="34"/>
                  <a:pt x="237" y="6"/>
                  <a:pt x="256" y="0"/>
                </a:cubicBezTo>
                <a:cubicBezTo>
                  <a:pt x="301" y="67"/>
                  <a:pt x="283" y="167"/>
                  <a:pt x="208" y="192"/>
                </a:cubicBezTo>
                <a:cubicBezTo>
                  <a:pt x="202" y="200"/>
                  <a:pt x="198" y="209"/>
                  <a:pt x="190" y="216"/>
                </a:cubicBezTo>
                <a:cubicBezTo>
                  <a:pt x="183" y="222"/>
                  <a:pt x="172" y="222"/>
                  <a:pt x="166" y="228"/>
                </a:cubicBezTo>
                <a:cubicBezTo>
                  <a:pt x="162" y="232"/>
                  <a:pt x="164" y="241"/>
                  <a:pt x="160" y="246"/>
                </a:cubicBezTo>
                <a:cubicBezTo>
                  <a:pt x="153" y="255"/>
                  <a:pt x="144" y="262"/>
                  <a:pt x="136" y="270"/>
                </a:cubicBezTo>
                <a:cubicBezTo>
                  <a:pt x="124" y="262"/>
                  <a:pt x="112" y="254"/>
                  <a:pt x="100" y="246"/>
                </a:cubicBezTo>
                <a:cubicBezTo>
                  <a:pt x="78" y="232"/>
                  <a:pt x="35" y="263"/>
                  <a:pt x="22" y="240"/>
                </a:cubicBezTo>
                <a:cubicBezTo>
                  <a:pt x="0" y="202"/>
                  <a:pt x="22" y="152"/>
                  <a:pt x="22" y="108"/>
                </a:cubicBezTo>
                <a:close/>
              </a:path>
            </a:pathLst>
          </a:custGeom>
          <a:solidFill>
            <a:srgbClr val="ff0000">
              <a:alpha val="50000"/>
            </a:srgbClr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493040" y="1952640"/>
            <a:ext cx="1508040" cy="917640"/>
          </a:xfrm>
          <a:custGeom>
            <a:avLst/>
            <a:gdLst/>
            <a:ahLst/>
            <a:rect l="l" t="t" r="r" b="b"/>
            <a:pathLst>
              <a:path w="950" h="578">
                <a:moveTo>
                  <a:pt x="230" y="6"/>
                </a:moveTo>
                <a:cubicBezTo>
                  <a:pt x="265" y="29"/>
                  <a:pt x="256" y="34"/>
                  <a:pt x="302" y="42"/>
                </a:cubicBezTo>
                <a:cubicBezTo>
                  <a:pt x="347" y="72"/>
                  <a:pt x="290" y="37"/>
                  <a:pt x="344" y="60"/>
                </a:cubicBezTo>
                <a:cubicBezTo>
                  <a:pt x="367" y="70"/>
                  <a:pt x="384" y="90"/>
                  <a:pt x="404" y="102"/>
                </a:cubicBezTo>
                <a:cubicBezTo>
                  <a:pt x="411" y="106"/>
                  <a:pt x="420" y="106"/>
                  <a:pt x="428" y="108"/>
                </a:cubicBezTo>
                <a:cubicBezTo>
                  <a:pt x="440" y="112"/>
                  <a:pt x="464" y="120"/>
                  <a:pt x="464" y="120"/>
                </a:cubicBezTo>
                <a:cubicBezTo>
                  <a:pt x="524" y="118"/>
                  <a:pt x="584" y="118"/>
                  <a:pt x="644" y="114"/>
                </a:cubicBezTo>
                <a:cubicBezTo>
                  <a:pt x="650" y="114"/>
                  <a:pt x="660" y="114"/>
                  <a:pt x="662" y="108"/>
                </a:cubicBezTo>
                <a:cubicBezTo>
                  <a:pt x="682" y="27"/>
                  <a:pt x="642" y="21"/>
                  <a:pt x="704" y="0"/>
                </a:cubicBezTo>
                <a:cubicBezTo>
                  <a:pt x="768" y="5"/>
                  <a:pt x="801" y="17"/>
                  <a:pt x="860" y="24"/>
                </a:cubicBezTo>
                <a:cubicBezTo>
                  <a:pt x="891" y="36"/>
                  <a:pt x="918" y="49"/>
                  <a:pt x="950" y="60"/>
                </a:cubicBezTo>
                <a:cubicBezTo>
                  <a:pt x="941" y="88"/>
                  <a:pt x="924" y="78"/>
                  <a:pt x="902" y="96"/>
                </a:cubicBezTo>
                <a:cubicBezTo>
                  <a:pt x="871" y="122"/>
                  <a:pt x="869" y="112"/>
                  <a:pt x="836" y="126"/>
                </a:cubicBezTo>
                <a:cubicBezTo>
                  <a:pt x="804" y="140"/>
                  <a:pt x="773" y="157"/>
                  <a:pt x="740" y="168"/>
                </a:cubicBezTo>
                <a:cubicBezTo>
                  <a:pt x="717" y="191"/>
                  <a:pt x="705" y="214"/>
                  <a:pt x="686" y="240"/>
                </a:cubicBezTo>
                <a:cubicBezTo>
                  <a:pt x="673" y="305"/>
                  <a:pt x="701" y="387"/>
                  <a:pt x="668" y="444"/>
                </a:cubicBezTo>
                <a:cubicBezTo>
                  <a:pt x="657" y="464"/>
                  <a:pt x="616" y="482"/>
                  <a:pt x="596" y="492"/>
                </a:cubicBezTo>
                <a:cubicBezTo>
                  <a:pt x="580" y="517"/>
                  <a:pt x="571" y="527"/>
                  <a:pt x="542" y="534"/>
                </a:cubicBezTo>
                <a:cubicBezTo>
                  <a:pt x="513" y="578"/>
                  <a:pt x="524" y="573"/>
                  <a:pt x="422" y="540"/>
                </a:cubicBezTo>
                <a:cubicBezTo>
                  <a:pt x="398" y="532"/>
                  <a:pt x="353" y="469"/>
                  <a:pt x="338" y="456"/>
                </a:cubicBezTo>
                <a:cubicBezTo>
                  <a:pt x="290" y="413"/>
                  <a:pt x="211" y="431"/>
                  <a:pt x="146" y="426"/>
                </a:cubicBezTo>
                <a:cubicBezTo>
                  <a:pt x="132" y="384"/>
                  <a:pt x="153" y="433"/>
                  <a:pt x="116" y="396"/>
                </a:cubicBezTo>
                <a:cubicBezTo>
                  <a:pt x="112" y="392"/>
                  <a:pt x="114" y="383"/>
                  <a:pt x="110" y="378"/>
                </a:cubicBezTo>
                <a:cubicBezTo>
                  <a:pt x="91" y="349"/>
                  <a:pt x="55" y="331"/>
                  <a:pt x="26" y="312"/>
                </a:cubicBezTo>
                <a:cubicBezTo>
                  <a:pt x="33" y="171"/>
                  <a:pt x="0" y="186"/>
                  <a:pt x="104" y="174"/>
                </a:cubicBezTo>
                <a:cubicBezTo>
                  <a:pt x="127" y="127"/>
                  <a:pt x="129" y="126"/>
                  <a:pt x="164" y="84"/>
                </a:cubicBezTo>
                <a:cubicBezTo>
                  <a:pt x="184" y="59"/>
                  <a:pt x="201" y="21"/>
                  <a:pt x="230" y="6"/>
                </a:cubicBezTo>
                <a:close/>
              </a:path>
            </a:pathLst>
          </a:custGeom>
          <a:solidFill>
            <a:srgbClr val="ff0000">
              <a:alpha val="30000"/>
            </a:srgbClr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986600" y="3181320"/>
            <a:ext cx="1395360" cy="760320"/>
          </a:xfrm>
          <a:custGeom>
            <a:avLst/>
            <a:gdLst/>
            <a:ahLst/>
            <a:rect l="l" t="t" r="r" b="b"/>
            <a:pathLst>
              <a:path w="879" h="479">
                <a:moveTo>
                  <a:pt x="105" y="0"/>
                </a:moveTo>
                <a:cubicBezTo>
                  <a:pt x="65" y="6"/>
                  <a:pt x="54" y="4"/>
                  <a:pt x="33" y="36"/>
                </a:cubicBezTo>
                <a:cubicBezTo>
                  <a:pt x="23" y="74"/>
                  <a:pt x="11" y="111"/>
                  <a:pt x="3" y="150"/>
                </a:cubicBezTo>
                <a:cubicBezTo>
                  <a:pt x="5" y="190"/>
                  <a:pt x="0" y="231"/>
                  <a:pt x="9" y="270"/>
                </a:cubicBezTo>
                <a:cubicBezTo>
                  <a:pt x="12" y="283"/>
                  <a:pt x="68" y="315"/>
                  <a:pt x="81" y="324"/>
                </a:cubicBezTo>
                <a:cubicBezTo>
                  <a:pt x="98" y="349"/>
                  <a:pt x="110" y="342"/>
                  <a:pt x="135" y="354"/>
                </a:cubicBezTo>
                <a:cubicBezTo>
                  <a:pt x="169" y="371"/>
                  <a:pt x="200" y="387"/>
                  <a:pt x="237" y="396"/>
                </a:cubicBezTo>
                <a:cubicBezTo>
                  <a:pt x="278" y="437"/>
                  <a:pt x="352" y="436"/>
                  <a:pt x="405" y="444"/>
                </a:cubicBezTo>
                <a:cubicBezTo>
                  <a:pt x="511" y="479"/>
                  <a:pt x="547" y="428"/>
                  <a:pt x="627" y="408"/>
                </a:cubicBezTo>
                <a:cubicBezTo>
                  <a:pt x="679" y="410"/>
                  <a:pt x="731" y="407"/>
                  <a:pt x="783" y="414"/>
                </a:cubicBezTo>
                <a:cubicBezTo>
                  <a:pt x="791" y="415"/>
                  <a:pt x="794" y="427"/>
                  <a:pt x="801" y="432"/>
                </a:cubicBezTo>
                <a:cubicBezTo>
                  <a:pt x="831" y="455"/>
                  <a:pt x="845" y="457"/>
                  <a:pt x="879" y="468"/>
                </a:cubicBezTo>
                <a:cubicBezTo>
                  <a:pt x="877" y="458"/>
                  <a:pt x="878" y="447"/>
                  <a:pt x="873" y="438"/>
                </a:cubicBezTo>
                <a:cubicBezTo>
                  <a:pt x="869" y="432"/>
                  <a:pt x="860" y="432"/>
                  <a:pt x="855" y="426"/>
                </a:cubicBezTo>
                <a:cubicBezTo>
                  <a:pt x="851" y="421"/>
                  <a:pt x="853" y="412"/>
                  <a:pt x="849" y="408"/>
                </a:cubicBezTo>
                <a:cubicBezTo>
                  <a:pt x="836" y="395"/>
                  <a:pt x="795" y="366"/>
                  <a:pt x="777" y="360"/>
                </a:cubicBezTo>
                <a:cubicBezTo>
                  <a:pt x="762" y="329"/>
                  <a:pt x="743" y="326"/>
                  <a:pt x="711" y="318"/>
                </a:cubicBezTo>
                <a:cubicBezTo>
                  <a:pt x="659" y="305"/>
                  <a:pt x="607" y="292"/>
                  <a:pt x="555" y="282"/>
                </a:cubicBezTo>
                <a:cubicBezTo>
                  <a:pt x="547" y="258"/>
                  <a:pt x="532" y="259"/>
                  <a:pt x="513" y="240"/>
                </a:cubicBezTo>
                <a:cubicBezTo>
                  <a:pt x="497" y="192"/>
                  <a:pt x="503" y="137"/>
                  <a:pt x="483" y="90"/>
                </a:cubicBezTo>
                <a:cubicBezTo>
                  <a:pt x="478" y="78"/>
                  <a:pt x="447" y="78"/>
                  <a:pt x="447" y="78"/>
                </a:cubicBezTo>
                <a:cubicBezTo>
                  <a:pt x="433" y="36"/>
                  <a:pt x="343" y="25"/>
                  <a:pt x="303" y="18"/>
                </a:cubicBezTo>
                <a:cubicBezTo>
                  <a:pt x="262" y="26"/>
                  <a:pt x="223" y="38"/>
                  <a:pt x="183" y="48"/>
                </a:cubicBezTo>
                <a:cubicBezTo>
                  <a:pt x="88" y="36"/>
                  <a:pt x="161" y="61"/>
                  <a:pt x="129" y="12"/>
                </a:cubicBezTo>
                <a:cubicBezTo>
                  <a:pt x="124" y="5"/>
                  <a:pt x="111" y="6"/>
                  <a:pt x="105" y="0"/>
                </a:cubicBezTo>
                <a:close/>
              </a:path>
            </a:pathLst>
          </a:custGeom>
          <a:solidFill>
            <a:srgbClr val="ff0000">
              <a:alpha val="50000"/>
            </a:srgbClr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34280" y="2514600"/>
            <a:ext cx="542880" cy="828720"/>
          </a:xfrm>
          <a:custGeom>
            <a:avLst/>
            <a:gdLst/>
            <a:ahLst/>
            <a:rect l="l" t="t" r="r" b="b"/>
            <a:pathLst>
              <a:path w="342" h="522">
                <a:moveTo>
                  <a:pt x="156" y="0"/>
                </a:moveTo>
                <a:cubicBezTo>
                  <a:pt x="162" y="32"/>
                  <a:pt x="166" y="43"/>
                  <a:pt x="198" y="54"/>
                </a:cubicBezTo>
                <a:cubicBezTo>
                  <a:pt x="209" y="65"/>
                  <a:pt x="217" y="79"/>
                  <a:pt x="228" y="90"/>
                </a:cubicBezTo>
                <a:cubicBezTo>
                  <a:pt x="250" y="112"/>
                  <a:pt x="283" y="121"/>
                  <a:pt x="306" y="144"/>
                </a:cubicBezTo>
                <a:cubicBezTo>
                  <a:pt x="320" y="201"/>
                  <a:pt x="303" y="185"/>
                  <a:pt x="342" y="204"/>
                </a:cubicBezTo>
                <a:cubicBezTo>
                  <a:pt x="301" y="231"/>
                  <a:pt x="301" y="296"/>
                  <a:pt x="252" y="312"/>
                </a:cubicBezTo>
                <a:cubicBezTo>
                  <a:pt x="212" y="352"/>
                  <a:pt x="216" y="357"/>
                  <a:pt x="186" y="396"/>
                </a:cubicBezTo>
                <a:cubicBezTo>
                  <a:pt x="175" y="438"/>
                  <a:pt x="167" y="478"/>
                  <a:pt x="162" y="522"/>
                </a:cubicBezTo>
                <a:cubicBezTo>
                  <a:pt x="150" y="514"/>
                  <a:pt x="138" y="506"/>
                  <a:pt x="126" y="498"/>
                </a:cubicBezTo>
                <a:cubicBezTo>
                  <a:pt x="120" y="494"/>
                  <a:pt x="108" y="486"/>
                  <a:pt x="108" y="486"/>
                </a:cubicBezTo>
                <a:cubicBezTo>
                  <a:pt x="77" y="440"/>
                  <a:pt x="71" y="387"/>
                  <a:pt x="54" y="336"/>
                </a:cubicBezTo>
                <a:cubicBezTo>
                  <a:pt x="52" y="320"/>
                  <a:pt x="52" y="304"/>
                  <a:pt x="48" y="288"/>
                </a:cubicBezTo>
                <a:cubicBezTo>
                  <a:pt x="43" y="270"/>
                  <a:pt x="26" y="257"/>
                  <a:pt x="18" y="240"/>
                </a:cubicBezTo>
                <a:cubicBezTo>
                  <a:pt x="14" y="231"/>
                  <a:pt x="8" y="206"/>
                  <a:pt x="6" y="198"/>
                </a:cubicBezTo>
                <a:cubicBezTo>
                  <a:pt x="20" y="155"/>
                  <a:pt x="0" y="204"/>
                  <a:pt x="30" y="168"/>
                </a:cubicBezTo>
                <a:cubicBezTo>
                  <a:pt x="49" y="145"/>
                  <a:pt x="42" y="132"/>
                  <a:pt x="66" y="108"/>
                </a:cubicBezTo>
                <a:cubicBezTo>
                  <a:pt x="74" y="76"/>
                  <a:pt x="76" y="68"/>
                  <a:pt x="108" y="60"/>
                </a:cubicBezTo>
                <a:cubicBezTo>
                  <a:pt x="127" y="31"/>
                  <a:pt x="138" y="36"/>
                  <a:pt x="174" y="36"/>
                </a:cubicBezTo>
              </a:path>
            </a:pathLst>
          </a:custGeom>
          <a:solidFill>
            <a:srgbClr val="ff0000">
              <a:alpha val="40000"/>
            </a:srgbClr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19720" y="2855880"/>
            <a:ext cx="403200" cy="611280"/>
          </a:xfrm>
          <a:custGeom>
            <a:avLst/>
            <a:gdLst/>
            <a:ahLst/>
            <a:rect l="l" t="t" r="r" b="b"/>
            <a:pathLst>
              <a:path w="254" h="385">
                <a:moveTo>
                  <a:pt x="48" y="19"/>
                </a:moveTo>
                <a:cubicBezTo>
                  <a:pt x="84" y="17"/>
                  <a:pt x="120" y="16"/>
                  <a:pt x="156" y="13"/>
                </a:cubicBezTo>
                <a:cubicBezTo>
                  <a:pt x="170" y="12"/>
                  <a:pt x="186" y="0"/>
                  <a:pt x="198" y="7"/>
                </a:cubicBezTo>
                <a:cubicBezTo>
                  <a:pt x="209" y="13"/>
                  <a:pt x="198" y="40"/>
                  <a:pt x="210" y="43"/>
                </a:cubicBezTo>
                <a:cubicBezTo>
                  <a:pt x="218" y="45"/>
                  <a:pt x="226" y="47"/>
                  <a:pt x="234" y="49"/>
                </a:cubicBezTo>
                <a:cubicBezTo>
                  <a:pt x="254" y="80"/>
                  <a:pt x="248" y="109"/>
                  <a:pt x="228" y="139"/>
                </a:cubicBezTo>
                <a:cubicBezTo>
                  <a:pt x="220" y="171"/>
                  <a:pt x="212" y="218"/>
                  <a:pt x="180" y="229"/>
                </a:cubicBezTo>
                <a:cubicBezTo>
                  <a:pt x="162" y="282"/>
                  <a:pt x="160" y="244"/>
                  <a:pt x="168" y="319"/>
                </a:cubicBezTo>
                <a:cubicBezTo>
                  <a:pt x="166" y="337"/>
                  <a:pt x="171" y="357"/>
                  <a:pt x="162" y="373"/>
                </a:cubicBezTo>
                <a:cubicBezTo>
                  <a:pt x="155" y="385"/>
                  <a:pt x="139" y="357"/>
                  <a:pt x="126" y="355"/>
                </a:cubicBezTo>
                <a:cubicBezTo>
                  <a:pt x="108" y="352"/>
                  <a:pt x="90" y="351"/>
                  <a:pt x="72" y="349"/>
                </a:cubicBezTo>
                <a:cubicBezTo>
                  <a:pt x="63" y="336"/>
                  <a:pt x="48" y="327"/>
                  <a:pt x="42" y="313"/>
                </a:cubicBezTo>
                <a:cubicBezTo>
                  <a:pt x="22" y="269"/>
                  <a:pt x="37" y="224"/>
                  <a:pt x="0" y="187"/>
                </a:cubicBezTo>
                <a:cubicBezTo>
                  <a:pt x="11" y="144"/>
                  <a:pt x="10" y="87"/>
                  <a:pt x="48" y="61"/>
                </a:cubicBezTo>
                <a:cubicBezTo>
                  <a:pt x="63" y="31"/>
                  <a:pt x="65" y="44"/>
                  <a:pt x="48" y="19"/>
                </a:cubicBezTo>
                <a:close/>
              </a:path>
            </a:pathLst>
          </a:cu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96000" y="3227400"/>
            <a:ext cx="247680" cy="353880"/>
          </a:xfrm>
          <a:custGeom>
            <a:avLst/>
            <a:gdLst/>
            <a:ahLst/>
            <a:rect l="l" t="t" r="r" b="b"/>
            <a:pathLst>
              <a:path w="156" h="223">
                <a:moveTo>
                  <a:pt x="36" y="13"/>
                </a:moveTo>
                <a:cubicBezTo>
                  <a:pt x="76" y="0"/>
                  <a:pt x="116" y="20"/>
                  <a:pt x="156" y="7"/>
                </a:cubicBezTo>
                <a:cubicBezTo>
                  <a:pt x="149" y="27"/>
                  <a:pt x="145" y="47"/>
                  <a:pt x="138" y="67"/>
                </a:cubicBezTo>
                <a:cubicBezTo>
                  <a:pt x="128" y="135"/>
                  <a:pt x="131" y="134"/>
                  <a:pt x="66" y="145"/>
                </a:cubicBezTo>
                <a:cubicBezTo>
                  <a:pt x="58" y="170"/>
                  <a:pt x="49" y="197"/>
                  <a:pt x="24" y="205"/>
                </a:cubicBezTo>
                <a:cubicBezTo>
                  <a:pt x="18" y="211"/>
                  <a:pt x="14" y="223"/>
                  <a:pt x="6" y="223"/>
                </a:cubicBezTo>
                <a:cubicBezTo>
                  <a:pt x="0" y="223"/>
                  <a:pt x="0" y="211"/>
                  <a:pt x="0" y="205"/>
                </a:cubicBezTo>
                <a:cubicBezTo>
                  <a:pt x="0" y="196"/>
                  <a:pt x="6" y="143"/>
                  <a:pt x="18" y="133"/>
                </a:cubicBezTo>
                <a:cubicBezTo>
                  <a:pt x="28" y="125"/>
                  <a:pt x="54" y="121"/>
                  <a:pt x="54" y="121"/>
                </a:cubicBezTo>
                <a:cubicBezTo>
                  <a:pt x="79" y="96"/>
                  <a:pt x="86" y="99"/>
                  <a:pt x="66" y="49"/>
                </a:cubicBezTo>
                <a:cubicBezTo>
                  <a:pt x="61" y="35"/>
                  <a:pt x="38" y="41"/>
                  <a:pt x="24" y="37"/>
                </a:cubicBezTo>
                <a:cubicBezTo>
                  <a:pt x="13" y="3"/>
                  <a:pt x="33" y="10"/>
                  <a:pt x="60" y="1"/>
                </a:cubicBezTo>
                <a:cubicBezTo>
                  <a:pt x="106" y="14"/>
                  <a:pt x="89" y="6"/>
                  <a:pt x="114" y="19"/>
                </a:cubicBezTo>
              </a:path>
            </a:pathLst>
          </a:cu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1320" y="2708280"/>
            <a:ext cx="865440" cy="701640"/>
          </a:xfrm>
          <a:custGeom>
            <a:avLst/>
            <a:gdLst/>
            <a:ahLst/>
            <a:rect l="l" t="t" r="r" b="b"/>
            <a:pathLst>
              <a:path w="545" h="442">
                <a:moveTo>
                  <a:pt x="14" y="126"/>
                </a:moveTo>
                <a:cubicBezTo>
                  <a:pt x="24" y="122"/>
                  <a:pt x="36" y="121"/>
                  <a:pt x="44" y="114"/>
                </a:cubicBezTo>
                <a:cubicBezTo>
                  <a:pt x="49" y="110"/>
                  <a:pt x="48" y="102"/>
                  <a:pt x="50" y="96"/>
                </a:cubicBezTo>
                <a:cubicBezTo>
                  <a:pt x="54" y="88"/>
                  <a:pt x="55" y="77"/>
                  <a:pt x="62" y="72"/>
                </a:cubicBezTo>
                <a:cubicBezTo>
                  <a:pt x="72" y="64"/>
                  <a:pt x="98" y="60"/>
                  <a:pt x="98" y="60"/>
                </a:cubicBezTo>
                <a:cubicBezTo>
                  <a:pt x="108" y="10"/>
                  <a:pt x="113" y="42"/>
                  <a:pt x="134" y="0"/>
                </a:cubicBezTo>
                <a:cubicBezTo>
                  <a:pt x="160" y="13"/>
                  <a:pt x="168" y="33"/>
                  <a:pt x="194" y="42"/>
                </a:cubicBezTo>
                <a:cubicBezTo>
                  <a:pt x="208" y="62"/>
                  <a:pt x="208" y="58"/>
                  <a:pt x="212" y="84"/>
                </a:cubicBezTo>
                <a:cubicBezTo>
                  <a:pt x="215" y="100"/>
                  <a:pt x="204" y="125"/>
                  <a:pt x="218" y="132"/>
                </a:cubicBezTo>
                <a:cubicBezTo>
                  <a:pt x="248" y="147"/>
                  <a:pt x="286" y="136"/>
                  <a:pt x="320" y="138"/>
                </a:cubicBezTo>
                <a:cubicBezTo>
                  <a:pt x="353" y="160"/>
                  <a:pt x="390" y="154"/>
                  <a:pt x="422" y="132"/>
                </a:cubicBezTo>
                <a:cubicBezTo>
                  <a:pt x="434" y="96"/>
                  <a:pt x="447" y="93"/>
                  <a:pt x="482" y="84"/>
                </a:cubicBezTo>
                <a:cubicBezTo>
                  <a:pt x="523" y="98"/>
                  <a:pt x="492" y="118"/>
                  <a:pt x="530" y="144"/>
                </a:cubicBezTo>
                <a:cubicBezTo>
                  <a:pt x="533" y="164"/>
                  <a:pt x="545" y="184"/>
                  <a:pt x="542" y="204"/>
                </a:cubicBezTo>
                <a:cubicBezTo>
                  <a:pt x="538" y="229"/>
                  <a:pt x="517" y="223"/>
                  <a:pt x="500" y="228"/>
                </a:cubicBezTo>
                <a:cubicBezTo>
                  <a:pt x="482" y="233"/>
                  <a:pt x="464" y="241"/>
                  <a:pt x="446" y="246"/>
                </a:cubicBezTo>
                <a:cubicBezTo>
                  <a:pt x="438" y="248"/>
                  <a:pt x="430" y="250"/>
                  <a:pt x="422" y="252"/>
                </a:cubicBezTo>
                <a:cubicBezTo>
                  <a:pt x="386" y="276"/>
                  <a:pt x="418" y="259"/>
                  <a:pt x="350" y="270"/>
                </a:cubicBezTo>
                <a:cubicBezTo>
                  <a:pt x="330" y="273"/>
                  <a:pt x="315" y="288"/>
                  <a:pt x="296" y="294"/>
                </a:cubicBezTo>
                <a:cubicBezTo>
                  <a:pt x="325" y="313"/>
                  <a:pt x="326" y="351"/>
                  <a:pt x="332" y="384"/>
                </a:cubicBezTo>
                <a:cubicBezTo>
                  <a:pt x="323" y="437"/>
                  <a:pt x="324" y="423"/>
                  <a:pt x="272" y="432"/>
                </a:cubicBezTo>
                <a:cubicBezTo>
                  <a:pt x="209" y="428"/>
                  <a:pt x="107" y="442"/>
                  <a:pt x="56" y="408"/>
                </a:cubicBezTo>
                <a:cubicBezTo>
                  <a:pt x="34" y="374"/>
                  <a:pt x="56" y="326"/>
                  <a:pt x="14" y="312"/>
                </a:cubicBezTo>
                <a:cubicBezTo>
                  <a:pt x="10" y="279"/>
                  <a:pt x="2" y="221"/>
                  <a:pt x="2" y="192"/>
                </a:cubicBezTo>
                <a:cubicBezTo>
                  <a:pt x="2" y="180"/>
                  <a:pt x="0" y="165"/>
                  <a:pt x="8" y="156"/>
                </a:cubicBezTo>
                <a:cubicBezTo>
                  <a:pt x="16" y="146"/>
                  <a:pt x="55" y="151"/>
                  <a:pt x="44" y="144"/>
                </a:cubicBezTo>
                <a:cubicBezTo>
                  <a:pt x="34" y="138"/>
                  <a:pt x="24" y="132"/>
                  <a:pt x="14" y="126"/>
                </a:cubicBezTo>
                <a:close/>
              </a:path>
            </a:pathLst>
          </a:cu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6480" y="3038400"/>
            <a:ext cx="314280" cy="414360"/>
          </a:xfrm>
          <a:custGeom>
            <a:avLst/>
            <a:gdLst/>
            <a:ahLst/>
            <a:rect l="l" t="t" r="r" b="b"/>
            <a:pathLst>
              <a:path w="198" h="261">
                <a:moveTo>
                  <a:pt x="174" y="240"/>
                </a:moveTo>
                <a:cubicBezTo>
                  <a:pt x="142" y="261"/>
                  <a:pt x="136" y="240"/>
                  <a:pt x="102" y="234"/>
                </a:cubicBezTo>
                <a:cubicBezTo>
                  <a:pt x="78" y="230"/>
                  <a:pt x="54" y="230"/>
                  <a:pt x="30" y="228"/>
                </a:cubicBezTo>
                <a:cubicBezTo>
                  <a:pt x="0" y="183"/>
                  <a:pt x="36" y="135"/>
                  <a:pt x="48" y="90"/>
                </a:cubicBezTo>
                <a:cubicBezTo>
                  <a:pt x="56" y="60"/>
                  <a:pt x="62" y="30"/>
                  <a:pt x="72" y="0"/>
                </a:cubicBezTo>
                <a:cubicBezTo>
                  <a:pt x="104" y="11"/>
                  <a:pt x="99" y="43"/>
                  <a:pt x="132" y="54"/>
                </a:cubicBezTo>
                <a:cubicBezTo>
                  <a:pt x="134" y="64"/>
                  <a:pt x="131" y="77"/>
                  <a:pt x="138" y="84"/>
                </a:cubicBezTo>
                <a:cubicBezTo>
                  <a:pt x="147" y="93"/>
                  <a:pt x="174" y="96"/>
                  <a:pt x="174" y="96"/>
                </a:cubicBezTo>
                <a:cubicBezTo>
                  <a:pt x="184" y="127"/>
                  <a:pt x="192" y="154"/>
                  <a:pt x="198" y="186"/>
                </a:cubicBezTo>
                <a:cubicBezTo>
                  <a:pt x="196" y="196"/>
                  <a:pt x="198" y="208"/>
                  <a:pt x="192" y="216"/>
                </a:cubicBezTo>
                <a:cubicBezTo>
                  <a:pt x="171" y="243"/>
                  <a:pt x="133" y="240"/>
                  <a:pt x="174" y="240"/>
                </a:cubicBezTo>
                <a:close/>
              </a:path>
            </a:pathLst>
          </a:cu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87880" y="2838600"/>
            <a:ext cx="309600" cy="511200"/>
          </a:xfrm>
          <a:custGeom>
            <a:avLst/>
            <a:gdLst/>
            <a:ahLst/>
            <a:rect l="l" t="t" r="r" b="b"/>
            <a:pathLst>
              <a:path w="195" h="322">
                <a:moveTo>
                  <a:pt x="44" y="0"/>
                </a:moveTo>
                <a:cubicBezTo>
                  <a:pt x="73" y="19"/>
                  <a:pt x="55" y="10"/>
                  <a:pt x="98" y="24"/>
                </a:cubicBezTo>
                <a:cubicBezTo>
                  <a:pt x="104" y="26"/>
                  <a:pt x="116" y="30"/>
                  <a:pt x="116" y="30"/>
                </a:cubicBezTo>
                <a:cubicBezTo>
                  <a:pt x="131" y="59"/>
                  <a:pt x="138" y="55"/>
                  <a:pt x="164" y="72"/>
                </a:cubicBezTo>
                <a:cubicBezTo>
                  <a:pt x="195" y="134"/>
                  <a:pt x="175" y="152"/>
                  <a:pt x="140" y="204"/>
                </a:cubicBezTo>
                <a:cubicBezTo>
                  <a:pt x="139" y="211"/>
                  <a:pt x="129" y="268"/>
                  <a:pt x="122" y="270"/>
                </a:cubicBezTo>
                <a:cubicBezTo>
                  <a:pt x="110" y="274"/>
                  <a:pt x="98" y="278"/>
                  <a:pt x="86" y="282"/>
                </a:cubicBezTo>
                <a:cubicBezTo>
                  <a:pt x="80" y="284"/>
                  <a:pt x="68" y="288"/>
                  <a:pt x="68" y="288"/>
                </a:cubicBezTo>
                <a:cubicBezTo>
                  <a:pt x="65" y="296"/>
                  <a:pt x="61" y="322"/>
                  <a:pt x="44" y="318"/>
                </a:cubicBezTo>
                <a:cubicBezTo>
                  <a:pt x="38" y="316"/>
                  <a:pt x="41" y="306"/>
                  <a:pt x="38" y="300"/>
                </a:cubicBezTo>
                <a:cubicBezTo>
                  <a:pt x="35" y="294"/>
                  <a:pt x="30" y="288"/>
                  <a:pt x="26" y="282"/>
                </a:cubicBezTo>
                <a:cubicBezTo>
                  <a:pt x="17" y="228"/>
                  <a:pt x="0" y="174"/>
                  <a:pt x="32" y="126"/>
                </a:cubicBezTo>
                <a:cubicBezTo>
                  <a:pt x="42" y="56"/>
                  <a:pt x="37" y="98"/>
                  <a:pt x="44" y="0"/>
                </a:cubicBezTo>
                <a:close/>
              </a:path>
            </a:pathLst>
          </a:cu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3600" y="3162240"/>
            <a:ext cx="638280" cy="800280"/>
          </a:xfrm>
          <a:custGeom>
            <a:avLst/>
            <a:gdLst/>
            <a:ahLst/>
            <a:rect l="l" t="t" r="r" b="b"/>
            <a:pathLst>
              <a:path w="402" h="504">
                <a:moveTo>
                  <a:pt x="186" y="0"/>
                </a:moveTo>
                <a:cubicBezTo>
                  <a:pt x="148" y="23"/>
                  <a:pt x="123" y="52"/>
                  <a:pt x="84" y="72"/>
                </a:cubicBezTo>
                <a:cubicBezTo>
                  <a:pt x="62" y="105"/>
                  <a:pt x="40" y="121"/>
                  <a:pt x="66" y="168"/>
                </a:cubicBezTo>
                <a:cubicBezTo>
                  <a:pt x="71" y="177"/>
                  <a:pt x="86" y="172"/>
                  <a:pt x="96" y="174"/>
                </a:cubicBezTo>
                <a:cubicBezTo>
                  <a:pt x="120" y="209"/>
                  <a:pt x="111" y="188"/>
                  <a:pt x="102" y="258"/>
                </a:cubicBezTo>
                <a:cubicBezTo>
                  <a:pt x="94" y="321"/>
                  <a:pt x="48" y="318"/>
                  <a:pt x="0" y="342"/>
                </a:cubicBezTo>
                <a:cubicBezTo>
                  <a:pt x="40" y="368"/>
                  <a:pt x="86" y="364"/>
                  <a:pt x="132" y="372"/>
                </a:cubicBezTo>
                <a:cubicBezTo>
                  <a:pt x="149" y="398"/>
                  <a:pt x="161" y="396"/>
                  <a:pt x="192" y="402"/>
                </a:cubicBezTo>
                <a:cubicBezTo>
                  <a:pt x="188" y="408"/>
                  <a:pt x="180" y="413"/>
                  <a:pt x="180" y="420"/>
                </a:cubicBezTo>
                <a:cubicBezTo>
                  <a:pt x="180" y="427"/>
                  <a:pt x="189" y="431"/>
                  <a:pt x="192" y="438"/>
                </a:cubicBezTo>
                <a:cubicBezTo>
                  <a:pt x="205" y="467"/>
                  <a:pt x="201" y="493"/>
                  <a:pt x="234" y="504"/>
                </a:cubicBezTo>
                <a:cubicBezTo>
                  <a:pt x="299" y="490"/>
                  <a:pt x="298" y="491"/>
                  <a:pt x="318" y="432"/>
                </a:cubicBezTo>
                <a:cubicBezTo>
                  <a:pt x="314" y="418"/>
                  <a:pt x="307" y="405"/>
                  <a:pt x="306" y="390"/>
                </a:cubicBezTo>
                <a:cubicBezTo>
                  <a:pt x="302" y="339"/>
                  <a:pt x="340" y="327"/>
                  <a:pt x="372" y="306"/>
                </a:cubicBezTo>
                <a:cubicBezTo>
                  <a:pt x="384" y="282"/>
                  <a:pt x="396" y="266"/>
                  <a:pt x="402" y="240"/>
                </a:cubicBezTo>
                <a:cubicBezTo>
                  <a:pt x="386" y="229"/>
                  <a:pt x="380" y="229"/>
                  <a:pt x="372" y="210"/>
                </a:cubicBezTo>
                <a:cubicBezTo>
                  <a:pt x="367" y="198"/>
                  <a:pt x="373" y="175"/>
                  <a:pt x="360" y="174"/>
                </a:cubicBezTo>
                <a:cubicBezTo>
                  <a:pt x="336" y="172"/>
                  <a:pt x="312" y="170"/>
                  <a:pt x="288" y="168"/>
                </a:cubicBezTo>
                <a:cubicBezTo>
                  <a:pt x="273" y="124"/>
                  <a:pt x="288" y="135"/>
                  <a:pt x="252" y="126"/>
                </a:cubicBezTo>
                <a:cubicBezTo>
                  <a:pt x="238" y="104"/>
                  <a:pt x="225" y="104"/>
                  <a:pt x="204" y="90"/>
                </a:cubicBezTo>
                <a:cubicBezTo>
                  <a:pt x="200" y="84"/>
                  <a:pt x="198" y="77"/>
                  <a:pt x="192" y="72"/>
                </a:cubicBezTo>
                <a:cubicBezTo>
                  <a:pt x="179" y="61"/>
                  <a:pt x="162" y="67"/>
                  <a:pt x="162" y="42"/>
                </a:cubicBezTo>
              </a:path>
            </a:pathLst>
          </a:cu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19720" y="3638520"/>
            <a:ext cx="430200" cy="733320"/>
          </a:xfrm>
          <a:custGeom>
            <a:avLst/>
            <a:gdLst/>
            <a:ahLst/>
            <a:rect l="l" t="t" r="r" b="b"/>
            <a:pathLst>
              <a:path w="271" h="462">
                <a:moveTo>
                  <a:pt x="12" y="174"/>
                </a:moveTo>
                <a:cubicBezTo>
                  <a:pt x="10" y="182"/>
                  <a:pt x="6" y="190"/>
                  <a:pt x="6" y="198"/>
                </a:cubicBezTo>
                <a:cubicBezTo>
                  <a:pt x="6" y="303"/>
                  <a:pt x="23" y="276"/>
                  <a:pt x="126" y="282"/>
                </a:cubicBezTo>
                <a:cubicBezTo>
                  <a:pt x="132" y="284"/>
                  <a:pt x="138" y="288"/>
                  <a:pt x="144" y="288"/>
                </a:cubicBezTo>
                <a:cubicBezTo>
                  <a:pt x="150" y="288"/>
                  <a:pt x="161" y="276"/>
                  <a:pt x="162" y="282"/>
                </a:cubicBezTo>
                <a:cubicBezTo>
                  <a:pt x="165" y="298"/>
                  <a:pt x="147" y="323"/>
                  <a:pt x="138" y="336"/>
                </a:cubicBezTo>
                <a:cubicBezTo>
                  <a:pt x="142" y="380"/>
                  <a:pt x="148" y="420"/>
                  <a:pt x="162" y="462"/>
                </a:cubicBezTo>
                <a:cubicBezTo>
                  <a:pt x="172" y="460"/>
                  <a:pt x="184" y="462"/>
                  <a:pt x="192" y="456"/>
                </a:cubicBezTo>
                <a:cubicBezTo>
                  <a:pt x="201" y="450"/>
                  <a:pt x="207" y="407"/>
                  <a:pt x="210" y="396"/>
                </a:cubicBezTo>
                <a:cubicBezTo>
                  <a:pt x="223" y="346"/>
                  <a:pt x="235" y="284"/>
                  <a:pt x="264" y="240"/>
                </a:cubicBezTo>
                <a:cubicBezTo>
                  <a:pt x="266" y="232"/>
                  <a:pt x="271" y="224"/>
                  <a:pt x="270" y="216"/>
                </a:cubicBezTo>
                <a:cubicBezTo>
                  <a:pt x="267" y="174"/>
                  <a:pt x="258" y="132"/>
                  <a:pt x="252" y="90"/>
                </a:cubicBezTo>
                <a:cubicBezTo>
                  <a:pt x="250" y="76"/>
                  <a:pt x="248" y="62"/>
                  <a:pt x="246" y="48"/>
                </a:cubicBezTo>
                <a:cubicBezTo>
                  <a:pt x="245" y="42"/>
                  <a:pt x="234" y="44"/>
                  <a:pt x="228" y="42"/>
                </a:cubicBezTo>
                <a:cubicBezTo>
                  <a:pt x="197" y="30"/>
                  <a:pt x="167" y="15"/>
                  <a:pt x="138" y="0"/>
                </a:cubicBezTo>
                <a:cubicBezTo>
                  <a:pt x="99" y="13"/>
                  <a:pt x="107" y="32"/>
                  <a:pt x="114" y="72"/>
                </a:cubicBezTo>
                <a:cubicBezTo>
                  <a:pt x="115" y="78"/>
                  <a:pt x="115" y="86"/>
                  <a:pt x="120" y="90"/>
                </a:cubicBezTo>
                <a:cubicBezTo>
                  <a:pt x="126" y="95"/>
                  <a:pt x="136" y="94"/>
                  <a:pt x="144" y="96"/>
                </a:cubicBezTo>
                <a:cubicBezTo>
                  <a:pt x="146" y="102"/>
                  <a:pt x="154" y="109"/>
                  <a:pt x="150" y="114"/>
                </a:cubicBezTo>
                <a:cubicBezTo>
                  <a:pt x="142" y="126"/>
                  <a:pt x="114" y="138"/>
                  <a:pt x="114" y="138"/>
                </a:cubicBezTo>
                <a:cubicBezTo>
                  <a:pt x="107" y="158"/>
                  <a:pt x="84" y="192"/>
                  <a:pt x="84" y="192"/>
                </a:cubicBezTo>
                <a:cubicBezTo>
                  <a:pt x="52" y="184"/>
                  <a:pt x="66" y="184"/>
                  <a:pt x="30" y="192"/>
                </a:cubicBezTo>
                <a:cubicBezTo>
                  <a:pt x="22" y="194"/>
                  <a:pt x="12" y="204"/>
                  <a:pt x="6" y="198"/>
                </a:cubicBezTo>
                <a:cubicBezTo>
                  <a:pt x="0" y="192"/>
                  <a:pt x="10" y="182"/>
                  <a:pt x="12" y="174"/>
                </a:cubicBezTo>
                <a:close/>
              </a:path>
            </a:pathLst>
          </a:cu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29480" y="3981600"/>
            <a:ext cx="185760" cy="411120"/>
          </a:xfrm>
          <a:custGeom>
            <a:avLst/>
            <a:gdLst/>
            <a:ahLst/>
            <a:rect l="l" t="t" r="r" b="b"/>
            <a:pathLst>
              <a:path w="117" h="259">
                <a:moveTo>
                  <a:pt x="117" y="18"/>
                </a:moveTo>
                <a:cubicBezTo>
                  <a:pt x="81" y="36"/>
                  <a:pt x="96" y="41"/>
                  <a:pt x="75" y="72"/>
                </a:cubicBezTo>
                <a:cubicBezTo>
                  <a:pt x="77" y="94"/>
                  <a:pt x="77" y="116"/>
                  <a:pt x="81" y="138"/>
                </a:cubicBezTo>
                <a:cubicBezTo>
                  <a:pt x="83" y="150"/>
                  <a:pt x="89" y="162"/>
                  <a:pt x="93" y="174"/>
                </a:cubicBezTo>
                <a:cubicBezTo>
                  <a:pt x="95" y="180"/>
                  <a:pt x="99" y="192"/>
                  <a:pt x="99" y="192"/>
                </a:cubicBezTo>
                <a:cubicBezTo>
                  <a:pt x="97" y="208"/>
                  <a:pt x="103" y="227"/>
                  <a:pt x="93" y="240"/>
                </a:cubicBezTo>
                <a:cubicBezTo>
                  <a:pt x="78" y="259"/>
                  <a:pt x="32" y="238"/>
                  <a:pt x="15" y="234"/>
                </a:cubicBezTo>
                <a:cubicBezTo>
                  <a:pt x="0" y="189"/>
                  <a:pt x="14" y="133"/>
                  <a:pt x="9" y="84"/>
                </a:cubicBezTo>
                <a:cubicBezTo>
                  <a:pt x="17" y="80"/>
                  <a:pt x="25" y="76"/>
                  <a:pt x="33" y="72"/>
                </a:cubicBezTo>
                <a:cubicBezTo>
                  <a:pt x="39" y="70"/>
                  <a:pt x="48" y="72"/>
                  <a:pt x="51" y="66"/>
                </a:cubicBezTo>
                <a:cubicBezTo>
                  <a:pt x="57" y="53"/>
                  <a:pt x="49" y="36"/>
                  <a:pt x="57" y="24"/>
                </a:cubicBezTo>
                <a:cubicBezTo>
                  <a:pt x="65" y="12"/>
                  <a:pt x="93" y="0"/>
                  <a:pt x="93" y="0"/>
                </a:cubicBezTo>
                <a:cubicBezTo>
                  <a:pt x="100" y="22"/>
                  <a:pt x="105" y="43"/>
                  <a:pt x="105" y="66"/>
                </a:cubicBezTo>
              </a:path>
            </a:pathLst>
          </a:cu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599240" y="2514600"/>
            <a:ext cx="344520" cy="219240"/>
          </a:xfrm>
          <a:custGeom>
            <a:avLst/>
            <a:gdLst/>
            <a:ahLst/>
            <a:rect l="l" t="t" r="r" b="b"/>
            <a:pathLst>
              <a:path w="217" h="138">
                <a:moveTo>
                  <a:pt x="13" y="0"/>
                </a:moveTo>
                <a:cubicBezTo>
                  <a:pt x="1" y="75"/>
                  <a:pt x="0" y="11"/>
                  <a:pt x="25" y="48"/>
                </a:cubicBezTo>
                <a:cubicBezTo>
                  <a:pt x="49" y="84"/>
                  <a:pt x="11" y="65"/>
                  <a:pt x="49" y="78"/>
                </a:cubicBezTo>
                <a:cubicBezTo>
                  <a:pt x="55" y="84"/>
                  <a:pt x="60" y="91"/>
                  <a:pt x="67" y="96"/>
                </a:cubicBezTo>
                <a:cubicBezTo>
                  <a:pt x="72" y="100"/>
                  <a:pt x="81" y="98"/>
                  <a:pt x="85" y="102"/>
                </a:cubicBezTo>
                <a:cubicBezTo>
                  <a:pt x="89" y="106"/>
                  <a:pt x="86" y="116"/>
                  <a:pt x="91" y="120"/>
                </a:cubicBezTo>
                <a:cubicBezTo>
                  <a:pt x="101" y="127"/>
                  <a:pt x="115" y="128"/>
                  <a:pt x="127" y="132"/>
                </a:cubicBezTo>
                <a:cubicBezTo>
                  <a:pt x="133" y="134"/>
                  <a:pt x="145" y="138"/>
                  <a:pt x="145" y="138"/>
                </a:cubicBezTo>
                <a:cubicBezTo>
                  <a:pt x="148" y="138"/>
                  <a:pt x="201" y="132"/>
                  <a:pt x="205" y="126"/>
                </a:cubicBezTo>
                <a:cubicBezTo>
                  <a:pt x="212" y="116"/>
                  <a:pt x="217" y="90"/>
                  <a:pt x="217" y="90"/>
                </a:cubicBezTo>
                <a:cubicBezTo>
                  <a:pt x="193" y="74"/>
                  <a:pt x="165" y="82"/>
                  <a:pt x="133" y="78"/>
                </a:cubicBezTo>
                <a:cubicBezTo>
                  <a:pt x="127" y="74"/>
                  <a:pt x="122" y="68"/>
                  <a:pt x="115" y="66"/>
                </a:cubicBezTo>
                <a:cubicBezTo>
                  <a:pt x="103" y="62"/>
                  <a:pt x="90" y="65"/>
                  <a:pt x="79" y="60"/>
                </a:cubicBezTo>
                <a:cubicBezTo>
                  <a:pt x="71" y="56"/>
                  <a:pt x="59" y="22"/>
                  <a:pt x="55" y="18"/>
                </a:cubicBezTo>
                <a:cubicBezTo>
                  <a:pt x="44" y="7"/>
                  <a:pt x="27" y="7"/>
                  <a:pt x="13" y="0"/>
                </a:cubicBezTo>
                <a:close/>
              </a:path>
            </a:pathLst>
          </a:cu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846920" y="2736720"/>
            <a:ext cx="373320" cy="516240"/>
          </a:xfrm>
          <a:custGeom>
            <a:avLst/>
            <a:gdLst/>
            <a:ahLst/>
            <a:rect l="l" t="t" r="r" b="b"/>
            <a:pathLst>
              <a:path w="235" h="325">
                <a:moveTo>
                  <a:pt x="7" y="118"/>
                </a:moveTo>
                <a:cubicBezTo>
                  <a:pt x="10" y="88"/>
                  <a:pt x="0" y="52"/>
                  <a:pt x="19" y="28"/>
                </a:cubicBezTo>
                <a:cubicBezTo>
                  <a:pt x="28" y="17"/>
                  <a:pt x="55" y="4"/>
                  <a:pt x="55" y="4"/>
                </a:cubicBezTo>
                <a:cubicBezTo>
                  <a:pt x="89" y="13"/>
                  <a:pt x="79" y="24"/>
                  <a:pt x="109" y="34"/>
                </a:cubicBezTo>
                <a:cubicBezTo>
                  <a:pt x="141" y="13"/>
                  <a:pt x="123" y="0"/>
                  <a:pt x="163" y="10"/>
                </a:cubicBezTo>
                <a:cubicBezTo>
                  <a:pt x="180" y="27"/>
                  <a:pt x="191" y="44"/>
                  <a:pt x="211" y="58"/>
                </a:cubicBezTo>
                <a:cubicBezTo>
                  <a:pt x="213" y="64"/>
                  <a:pt x="219" y="70"/>
                  <a:pt x="217" y="76"/>
                </a:cubicBezTo>
                <a:cubicBezTo>
                  <a:pt x="212" y="90"/>
                  <a:pt x="193" y="112"/>
                  <a:pt x="193" y="112"/>
                </a:cubicBezTo>
                <a:cubicBezTo>
                  <a:pt x="209" y="160"/>
                  <a:pt x="185" y="104"/>
                  <a:pt x="217" y="136"/>
                </a:cubicBezTo>
                <a:cubicBezTo>
                  <a:pt x="226" y="145"/>
                  <a:pt x="228" y="161"/>
                  <a:pt x="235" y="172"/>
                </a:cubicBezTo>
                <a:cubicBezTo>
                  <a:pt x="211" y="180"/>
                  <a:pt x="187" y="182"/>
                  <a:pt x="163" y="190"/>
                </a:cubicBezTo>
                <a:cubicBezTo>
                  <a:pt x="143" y="230"/>
                  <a:pt x="153" y="237"/>
                  <a:pt x="193" y="250"/>
                </a:cubicBezTo>
                <a:cubicBezTo>
                  <a:pt x="179" y="287"/>
                  <a:pt x="183" y="325"/>
                  <a:pt x="127" y="292"/>
                </a:cubicBezTo>
                <a:cubicBezTo>
                  <a:pt x="108" y="281"/>
                  <a:pt x="103" y="256"/>
                  <a:pt x="91" y="238"/>
                </a:cubicBezTo>
                <a:cubicBezTo>
                  <a:pt x="87" y="232"/>
                  <a:pt x="79" y="220"/>
                  <a:pt x="79" y="220"/>
                </a:cubicBezTo>
                <a:cubicBezTo>
                  <a:pt x="72" y="191"/>
                  <a:pt x="66" y="161"/>
                  <a:pt x="49" y="136"/>
                </a:cubicBezTo>
                <a:cubicBezTo>
                  <a:pt x="40" y="100"/>
                  <a:pt x="51" y="111"/>
                  <a:pt x="7" y="118"/>
                </a:cubicBezTo>
                <a:close/>
              </a:path>
            </a:pathLst>
          </a:cu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105760" y="3014640"/>
            <a:ext cx="185760" cy="211320"/>
          </a:xfrm>
          <a:custGeom>
            <a:avLst/>
            <a:gdLst/>
            <a:ahLst/>
            <a:rect l="l" t="t" r="r" b="b"/>
            <a:pathLst>
              <a:path w="117" h="133">
                <a:moveTo>
                  <a:pt x="0" y="99"/>
                </a:moveTo>
                <a:cubicBezTo>
                  <a:pt x="4" y="93"/>
                  <a:pt x="6" y="86"/>
                  <a:pt x="12" y="81"/>
                </a:cubicBezTo>
                <a:cubicBezTo>
                  <a:pt x="17" y="77"/>
                  <a:pt x="28" y="81"/>
                  <a:pt x="30" y="75"/>
                </a:cubicBezTo>
                <a:cubicBezTo>
                  <a:pt x="39" y="52"/>
                  <a:pt x="34" y="26"/>
                  <a:pt x="42" y="3"/>
                </a:cubicBezTo>
                <a:cubicBezTo>
                  <a:pt x="60" y="6"/>
                  <a:pt x="86" y="0"/>
                  <a:pt x="96" y="15"/>
                </a:cubicBezTo>
                <a:cubicBezTo>
                  <a:pt x="111" y="37"/>
                  <a:pt x="108" y="67"/>
                  <a:pt x="114" y="93"/>
                </a:cubicBezTo>
                <a:cubicBezTo>
                  <a:pt x="103" y="125"/>
                  <a:pt x="117" y="105"/>
                  <a:pt x="90" y="105"/>
                </a:cubicBezTo>
                <a:cubicBezTo>
                  <a:pt x="82" y="105"/>
                  <a:pt x="74" y="109"/>
                  <a:pt x="66" y="111"/>
                </a:cubicBezTo>
                <a:cubicBezTo>
                  <a:pt x="64" y="113"/>
                  <a:pt x="37" y="133"/>
                  <a:pt x="30" y="129"/>
                </a:cubicBezTo>
                <a:cubicBezTo>
                  <a:pt x="22" y="124"/>
                  <a:pt x="24" y="111"/>
                  <a:pt x="18" y="105"/>
                </a:cubicBezTo>
                <a:cubicBezTo>
                  <a:pt x="14" y="101"/>
                  <a:pt x="6" y="101"/>
                  <a:pt x="0" y="99"/>
                </a:cubicBezTo>
                <a:close/>
              </a:path>
            </a:pathLst>
          </a:cu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123400" y="2844720"/>
            <a:ext cx="188640" cy="412920"/>
          </a:xfrm>
          <a:custGeom>
            <a:avLst/>
            <a:gdLst/>
            <a:ahLst/>
            <a:rect l="l" t="t" r="r" b="b"/>
            <a:pathLst>
              <a:path w="119" h="260">
                <a:moveTo>
                  <a:pt x="55" y="14"/>
                </a:moveTo>
                <a:cubicBezTo>
                  <a:pt x="61" y="10"/>
                  <a:pt x="66" y="0"/>
                  <a:pt x="73" y="2"/>
                </a:cubicBezTo>
                <a:cubicBezTo>
                  <a:pt x="87" y="5"/>
                  <a:pt x="109" y="26"/>
                  <a:pt x="109" y="26"/>
                </a:cubicBezTo>
                <a:cubicBezTo>
                  <a:pt x="106" y="83"/>
                  <a:pt x="119" y="213"/>
                  <a:pt x="103" y="260"/>
                </a:cubicBezTo>
                <a:cubicBezTo>
                  <a:pt x="99" y="242"/>
                  <a:pt x="99" y="222"/>
                  <a:pt x="91" y="206"/>
                </a:cubicBezTo>
                <a:cubicBezTo>
                  <a:pt x="76" y="177"/>
                  <a:pt x="44" y="163"/>
                  <a:pt x="19" y="146"/>
                </a:cubicBezTo>
                <a:cubicBezTo>
                  <a:pt x="17" y="138"/>
                  <a:pt x="15" y="130"/>
                  <a:pt x="13" y="122"/>
                </a:cubicBezTo>
                <a:cubicBezTo>
                  <a:pt x="9" y="110"/>
                  <a:pt x="1" y="86"/>
                  <a:pt x="1" y="86"/>
                </a:cubicBezTo>
                <a:cubicBezTo>
                  <a:pt x="3" y="74"/>
                  <a:pt x="0" y="60"/>
                  <a:pt x="7" y="50"/>
                </a:cubicBezTo>
                <a:cubicBezTo>
                  <a:pt x="18" y="34"/>
                  <a:pt x="41" y="28"/>
                  <a:pt x="55" y="14"/>
                </a:cubicBez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35280" y="3178080"/>
            <a:ext cx="716040" cy="2079720"/>
          </a:xfrm>
          <a:custGeom>
            <a:avLst/>
            <a:gdLst/>
            <a:ahLst/>
            <a:rect l="l" t="t" r="r" b="b"/>
            <a:pathLst>
              <a:path w="451" h="1310">
                <a:moveTo>
                  <a:pt x="174" y="0"/>
                </a:moveTo>
                <a:cubicBezTo>
                  <a:pt x="176" y="38"/>
                  <a:pt x="176" y="40"/>
                  <a:pt x="178" y="40"/>
                </a:cubicBezTo>
                <a:cubicBezTo>
                  <a:pt x="186" y="40"/>
                  <a:pt x="202" y="34"/>
                  <a:pt x="202" y="34"/>
                </a:cubicBezTo>
                <a:cubicBezTo>
                  <a:pt x="237" y="39"/>
                  <a:pt x="271" y="42"/>
                  <a:pt x="306" y="44"/>
                </a:cubicBezTo>
                <a:cubicBezTo>
                  <a:pt x="320" y="50"/>
                  <a:pt x="313" y="47"/>
                  <a:pt x="328" y="52"/>
                </a:cubicBezTo>
                <a:cubicBezTo>
                  <a:pt x="330" y="53"/>
                  <a:pt x="334" y="54"/>
                  <a:pt x="334" y="54"/>
                </a:cubicBezTo>
                <a:cubicBezTo>
                  <a:pt x="341" y="65"/>
                  <a:pt x="354" y="64"/>
                  <a:pt x="366" y="68"/>
                </a:cubicBezTo>
                <a:cubicBezTo>
                  <a:pt x="376" y="78"/>
                  <a:pt x="404" y="86"/>
                  <a:pt x="418" y="90"/>
                </a:cubicBezTo>
                <a:cubicBezTo>
                  <a:pt x="419" y="92"/>
                  <a:pt x="420" y="95"/>
                  <a:pt x="422" y="96"/>
                </a:cubicBezTo>
                <a:cubicBezTo>
                  <a:pt x="424" y="98"/>
                  <a:pt x="428" y="96"/>
                  <a:pt x="430" y="98"/>
                </a:cubicBezTo>
                <a:cubicBezTo>
                  <a:pt x="435" y="104"/>
                  <a:pt x="436" y="119"/>
                  <a:pt x="438" y="126"/>
                </a:cubicBezTo>
                <a:cubicBezTo>
                  <a:pt x="441" y="154"/>
                  <a:pt x="451" y="172"/>
                  <a:pt x="424" y="190"/>
                </a:cubicBezTo>
                <a:cubicBezTo>
                  <a:pt x="420" y="202"/>
                  <a:pt x="412" y="203"/>
                  <a:pt x="402" y="208"/>
                </a:cubicBezTo>
                <a:cubicBezTo>
                  <a:pt x="383" y="206"/>
                  <a:pt x="368" y="199"/>
                  <a:pt x="350" y="194"/>
                </a:cubicBezTo>
                <a:cubicBezTo>
                  <a:pt x="347" y="184"/>
                  <a:pt x="333" y="180"/>
                  <a:pt x="324" y="174"/>
                </a:cubicBezTo>
                <a:cubicBezTo>
                  <a:pt x="298" y="175"/>
                  <a:pt x="293" y="175"/>
                  <a:pt x="274" y="180"/>
                </a:cubicBezTo>
                <a:cubicBezTo>
                  <a:pt x="260" y="189"/>
                  <a:pt x="246" y="199"/>
                  <a:pt x="230" y="204"/>
                </a:cubicBezTo>
                <a:cubicBezTo>
                  <a:pt x="223" y="211"/>
                  <a:pt x="222" y="215"/>
                  <a:pt x="212" y="218"/>
                </a:cubicBezTo>
                <a:cubicBezTo>
                  <a:pt x="195" y="244"/>
                  <a:pt x="180" y="272"/>
                  <a:pt x="162" y="298"/>
                </a:cubicBezTo>
                <a:cubicBezTo>
                  <a:pt x="161" y="301"/>
                  <a:pt x="162" y="304"/>
                  <a:pt x="160" y="306"/>
                </a:cubicBezTo>
                <a:cubicBezTo>
                  <a:pt x="159" y="308"/>
                  <a:pt x="155" y="308"/>
                  <a:pt x="154" y="310"/>
                </a:cubicBezTo>
                <a:cubicBezTo>
                  <a:pt x="147" y="329"/>
                  <a:pt x="153" y="332"/>
                  <a:pt x="144" y="346"/>
                </a:cubicBezTo>
                <a:cubicBezTo>
                  <a:pt x="145" y="357"/>
                  <a:pt x="145" y="367"/>
                  <a:pt x="146" y="378"/>
                </a:cubicBezTo>
                <a:cubicBezTo>
                  <a:pt x="148" y="400"/>
                  <a:pt x="151" y="423"/>
                  <a:pt x="158" y="444"/>
                </a:cubicBezTo>
                <a:cubicBezTo>
                  <a:pt x="159" y="447"/>
                  <a:pt x="164" y="469"/>
                  <a:pt x="168" y="470"/>
                </a:cubicBezTo>
                <a:cubicBezTo>
                  <a:pt x="175" y="472"/>
                  <a:pt x="183" y="471"/>
                  <a:pt x="190" y="472"/>
                </a:cubicBezTo>
                <a:cubicBezTo>
                  <a:pt x="224" y="481"/>
                  <a:pt x="251" y="490"/>
                  <a:pt x="288" y="492"/>
                </a:cubicBezTo>
                <a:cubicBezTo>
                  <a:pt x="296" y="495"/>
                  <a:pt x="295" y="499"/>
                  <a:pt x="300" y="506"/>
                </a:cubicBezTo>
                <a:cubicBezTo>
                  <a:pt x="302" y="513"/>
                  <a:pt x="314" y="522"/>
                  <a:pt x="314" y="522"/>
                </a:cubicBezTo>
                <a:cubicBezTo>
                  <a:pt x="319" y="532"/>
                  <a:pt x="328" y="540"/>
                  <a:pt x="338" y="546"/>
                </a:cubicBezTo>
                <a:cubicBezTo>
                  <a:pt x="339" y="549"/>
                  <a:pt x="340" y="552"/>
                  <a:pt x="342" y="554"/>
                </a:cubicBezTo>
                <a:cubicBezTo>
                  <a:pt x="344" y="556"/>
                  <a:pt x="347" y="556"/>
                  <a:pt x="348" y="558"/>
                </a:cubicBezTo>
                <a:cubicBezTo>
                  <a:pt x="351" y="562"/>
                  <a:pt x="350" y="568"/>
                  <a:pt x="352" y="572"/>
                </a:cubicBezTo>
                <a:cubicBezTo>
                  <a:pt x="359" y="587"/>
                  <a:pt x="365" y="604"/>
                  <a:pt x="374" y="618"/>
                </a:cubicBezTo>
                <a:cubicBezTo>
                  <a:pt x="378" y="632"/>
                  <a:pt x="380" y="659"/>
                  <a:pt x="396" y="664"/>
                </a:cubicBezTo>
                <a:cubicBezTo>
                  <a:pt x="404" y="689"/>
                  <a:pt x="418" y="710"/>
                  <a:pt x="432" y="732"/>
                </a:cubicBezTo>
                <a:cubicBezTo>
                  <a:pt x="441" y="773"/>
                  <a:pt x="439" y="816"/>
                  <a:pt x="440" y="858"/>
                </a:cubicBezTo>
                <a:cubicBezTo>
                  <a:pt x="439" y="890"/>
                  <a:pt x="450" y="923"/>
                  <a:pt x="420" y="938"/>
                </a:cubicBezTo>
                <a:cubicBezTo>
                  <a:pt x="417" y="948"/>
                  <a:pt x="414" y="955"/>
                  <a:pt x="404" y="958"/>
                </a:cubicBezTo>
                <a:cubicBezTo>
                  <a:pt x="402" y="965"/>
                  <a:pt x="391" y="972"/>
                  <a:pt x="384" y="974"/>
                </a:cubicBezTo>
                <a:cubicBezTo>
                  <a:pt x="380" y="975"/>
                  <a:pt x="372" y="978"/>
                  <a:pt x="372" y="978"/>
                </a:cubicBezTo>
                <a:cubicBezTo>
                  <a:pt x="368" y="990"/>
                  <a:pt x="362" y="1015"/>
                  <a:pt x="352" y="1022"/>
                </a:cubicBezTo>
                <a:cubicBezTo>
                  <a:pt x="346" y="1033"/>
                  <a:pt x="336" y="1050"/>
                  <a:pt x="328" y="1060"/>
                </a:cubicBezTo>
                <a:cubicBezTo>
                  <a:pt x="322" y="1067"/>
                  <a:pt x="306" y="1076"/>
                  <a:pt x="306" y="1076"/>
                </a:cubicBezTo>
                <a:cubicBezTo>
                  <a:pt x="300" y="1085"/>
                  <a:pt x="292" y="1094"/>
                  <a:pt x="284" y="1100"/>
                </a:cubicBezTo>
                <a:cubicBezTo>
                  <a:pt x="281" y="1109"/>
                  <a:pt x="278" y="1119"/>
                  <a:pt x="270" y="1124"/>
                </a:cubicBezTo>
                <a:cubicBezTo>
                  <a:pt x="267" y="1151"/>
                  <a:pt x="263" y="1180"/>
                  <a:pt x="256" y="1206"/>
                </a:cubicBezTo>
                <a:cubicBezTo>
                  <a:pt x="253" y="1216"/>
                  <a:pt x="253" y="1228"/>
                  <a:pt x="244" y="1234"/>
                </a:cubicBezTo>
                <a:cubicBezTo>
                  <a:pt x="235" y="1252"/>
                  <a:pt x="217" y="1283"/>
                  <a:pt x="200" y="1294"/>
                </a:cubicBezTo>
                <a:cubicBezTo>
                  <a:pt x="195" y="1308"/>
                  <a:pt x="200" y="1304"/>
                  <a:pt x="190" y="1310"/>
                </a:cubicBezTo>
                <a:cubicBezTo>
                  <a:pt x="182" y="1307"/>
                  <a:pt x="183" y="1303"/>
                  <a:pt x="176" y="1298"/>
                </a:cubicBezTo>
                <a:cubicBezTo>
                  <a:pt x="170" y="1289"/>
                  <a:pt x="170" y="1280"/>
                  <a:pt x="168" y="1270"/>
                </a:cubicBezTo>
                <a:cubicBezTo>
                  <a:pt x="166" y="1254"/>
                  <a:pt x="163" y="1238"/>
                  <a:pt x="172" y="1224"/>
                </a:cubicBezTo>
                <a:cubicBezTo>
                  <a:pt x="177" y="1201"/>
                  <a:pt x="179" y="1199"/>
                  <a:pt x="174" y="1176"/>
                </a:cubicBezTo>
                <a:cubicBezTo>
                  <a:pt x="176" y="1165"/>
                  <a:pt x="177" y="1153"/>
                  <a:pt x="180" y="1142"/>
                </a:cubicBezTo>
                <a:cubicBezTo>
                  <a:pt x="176" y="1130"/>
                  <a:pt x="174" y="1127"/>
                  <a:pt x="176" y="1114"/>
                </a:cubicBezTo>
                <a:cubicBezTo>
                  <a:pt x="171" y="1087"/>
                  <a:pt x="175" y="993"/>
                  <a:pt x="200" y="968"/>
                </a:cubicBezTo>
                <a:cubicBezTo>
                  <a:pt x="203" y="955"/>
                  <a:pt x="206" y="941"/>
                  <a:pt x="214" y="930"/>
                </a:cubicBezTo>
                <a:cubicBezTo>
                  <a:pt x="217" y="917"/>
                  <a:pt x="222" y="906"/>
                  <a:pt x="226" y="894"/>
                </a:cubicBezTo>
                <a:cubicBezTo>
                  <a:pt x="229" y="860"/>
                  <a:pt x="239" y="831"/>
                  <a:pt x="246" y="798"/>
                </a:cubicBezTo>
                <a:cubicBezTo>
                  <a:pt x="245" y="743"/>
                  <a:pt x="269" y="678"/>
                  <a:pt x="236" y="634"/>
                </a:cubicBezTo>
                <a:cubicBezTo>
                  <a:pt x="234" y="621"/>
                  <a:pt x="234" y="606"/>
                  <a:pt x="230" y="594"/>
                </a:cubicBezTo>
                <a:cubicBezTo>
                  <a:pt x="228" y="587"/>
                  <a:pt x="214" y="578"/>
                  <a:pt x="214" y="578"/>
                </a:cubicBezTo>
                <a:cubicBezTo>
                  <a:pt x="204" y="563"/>
                  <a:pt x="211" y="567"/>
                  <a:pt x="196" y="564"/>
                </a:cubicBezTo>
                <a:cubicBezTo>
                  <a:pt x="183" y="558"/>
                  <a:pt x="170" y="557"/>
                  <a:pt x="156" y="554"/>
                </a:cubicBezTo>
                <a:cubicBezTo>
                  <a:pt x="149" y="549"/>
                  <a:pt x="142" y="547"/>
                  <a:pt x="134" y="544"/>
                </a:cubicBezTo>
                <a:cubicBezTo>
                  <a:pt x="130" y="543"/>
                  <a:pt x="122" y="540"/>
                  <a:pt x="122" y="540"/>
                </a:cubicBezTo>
                <a:cubicBezTo>
                  <a:pt x="118" y="529"/>
                  <a:pt x="121" y="536"/>
                  <a:pt x="112" y="522"/>
                </a:cubicBezTo>
                <a:cubicBezTo>
                  <a:pt x="109" y="518"/>
                  <a:pt x="104" y="510"/>
                  <a:pt x="104" y="510"/>
                </a:cubicBezTo>
                <a:cubicBezTo>
                  <a:pt x="102" y="501"/>
                  <a:pt x="100" y="497"/>
                  <a:pt x="92" y="492"/>
                </a:cubicBezTo>
                <a:cubicBezTo>
                  <a:pt x="89" y="483"/>
                  <a:pt x="71" y="454"/>
                  <a:pt x="64" y="450"/>
                </a:cubicBezTo>
                <a:cubicBezTo>
                  <a:pt x="60" y="437"/>
                  <a:pt x="59" y="421"/>
                  <a:pt x="52" y="410"/>
                </a:cubicBezTo>
                <a:cubicBezTo>
                  <a:pt x="49" y="399"/>
                  <a:pt x="48" y="392"/>
                  <a:pt x="38" y="386"/>
                </a:cubicBezTo>
                <a:cubicBezTo>
                  <a:pt x="31" y="376"/>
                  <a:pt x="33" y="364"/>
                  <a:pt x="22" y="360"/>
                </a:cubicBezTo>
                <a:cubicBezTo>
                  <a:pt x="11" y="344"/>
                  <a:pt x="5" y="331"/>
                  <a:pt x="0" y="312"/>
                </a:cubicBezTo>
                <a:cubicBezTo>
                  <a:pt x="2" y="271"/>
                  <a:pt x="0" y="252"/>
                  <a:pt x="16" y="220"/>
                </a:cubicBezTo>
                <a:cubicBezTo>
                  <a:pt x="17" y="217"/>
                  <a:pt x="16" y="213"/>
                  <a:pt x="18" y="210"/>
                </a:cubicBezTo>
                <a:cubicBezTo>
                  <a:pt x="19" y="208"/>
                  <a:pt x="23" y="210"/>
                  <a:pt x="24" y="208"/>
                </a:cubicBezTo>
                <a:cubicBezTo>
                  <a:pt x="26" y="205"/>
                  <a:pt x="25" y="199"/>
                  <a:pt x="28" y="196"/>
                </a:cubicBezTo>
                <a:cubicBezTo>
                  <a:pt x="30" y="193"/>
                  <a:pt x="32" y="191"/>
                  <a:pt x="34" y="188"/>
                </a:cubicBezTo>
                <a:cubicBezTo>
                  <a:pt x="37" y="180"/>
                  <a:pt x="39" y="175"/>
                  <a:pt x="46" y="170"/>
                </a:cubicBezTo>
                <a:cubicBezTo>
                  <a:pt x="51" y="163"/>
                  <a:pt x="53" y="157"/>
                  <a:pt x="58" y="150"/>
                </a:cubicBezTo>
                <a:cubicBezTo>
                  <a:pt x="65" y="129"/>
                  <a:pt x="74" y="108"/>
                  <a:pt x="86" y="90"/>
                </a:cubicBezTo>
                <a:cubicBezTo>
                  <a:pt x="89" y="78"/>
                  <a:pt x="91" y="73"/>
                  <a:pt x="102" y="66"/>
                </a:cubicBezTo>
                <a:cubicBezTo>
                  <a:pt x="103" y="63"/>
                  <a:pt x="104" y="60"/>
                  <a:pt x="106" y="58"/>
                </a:cubicBezTo>
                <a:cubicBezTo>
                  <a:pt x="108" y="56"/>
                  <a:pt x="111" y="56"/>
                  <a:pt x="112" y="54"/>
                </a:cubicBezTo>
                <a:cubicBezTo>
                  <a:pt x="118" y="44"/>
                  <a:pt x="113" y="38"/>
                  <a:pt x="126" y="34"/>
                </a:cubicBezTo>
                <a:cubicBezTo>
                  <a:pt x="141" y="11"/>
                  <a:pt x="160" y="16"/>
                  <a:pt x="188" y="16"/>
                </a:cubicBezTo>
              </a:path>
            </a:pathLst>
          </a:custGeom>
          <a:solidFill>
            <a:srgbClr val="ff66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97320" y="3019320"/>
            <a:ext cx="365040" cy="352440"/>
          </a:xfrm>
          <a:custGeom>
            <a:avLst/>
            <a:gdLst/>
            <a:ahLst/>
            <a:rect l="l" t="t" r="r" b="b"/>
            <a:pathLst>
              <a:path w="230" h="222">
                <a:moveTo>
                  <a:pt x="62" y="0"/>
                </a:moveTo>
                <a:cubicBezTo>
                  <a:pt x="71" y="37"/>
                  <a:pt x="86" y="72"/>
                  <a:pt x="98" y="108"/>
                </a:cubicBezTo>
                <a:cubicBezTo>
                  <a:pt x="100" y="113"/>
                  <a:pt x="187" y="138"/>
                  <a:pt x="188" y="138"/>
                </a:cubicBezTo>
                <a:cubicBezTo>
                  <a:pt x="194" y="160"/>
                  <a:pt x="202" y="183"/>
                  <a:pt x="212" y="204"/>
                </a:cubicBezTo>
                <a:cubicBezTo>
                  <a:pt x="215" y="210"/>
                  <a:pt x="217" y="222"/>
                  <a:pt x="224" y="222"/>
                </a:cubicBezTo>
                <a:cubicBezTo>
                  <a:pt x="230" y="222"/>
                  <a:pt x="223" y="207"/>
                  <a:pt x="218" y="204"/>
                </a:cubicBezTo>
                <a:cubicBezTo>
                  <a:pt x="200" y="194"/>
                  <a:pt x="178" y="197"/>
                  <a:pt x="158" y="192"/>
                </a:cubicBezTo>
                <a:cubicBezTo>
                  <a:pt x="154" y="186"/>
                  <a:pt x="151" y="179"/>
                  <a:pt x="146" y="174"/>
                </a:cubicBezTo>
                <a:cubicBezTo>
                  <a:pt x="135" y="165"/>
                  <a:pt x="110" y="150"/>
                  <a:pt x="110" y="150"/>
                </a:cubicBezTo>
                <a:cubicBezTo>
                  <a:pt x="103" y="130"/>
                  <a:pt x="107" y="129"/>
                  <a:pt x="86" y="120"/>
                </a:cubicBezTo>
                <a:cubicBezTo>
                  <a:pt x="74" y="115"/>
                  <a:pt x="50" y="108"/>
                  <a:pt x="50" y="108"/>
                </a:cubicBezTo>
                <a:cubicBezTo>
                  <a:pt x="33" y="91"/>
                  <a:pt x="16" y="80"/>
                  <a:pt x="2" y="60"/>
                </a:cubicBezTo>
                <a:cubicBezTo>
                  <a:pt x="9" y="32"/>
                  <a:pt x="0" y="36"/>
                  <a:pt x="20" y="36"/>
                </a:cubicBezTo>
              </a:path>
            </a:pathLst>
          </a:cu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67160" y="2371680"/>
            <a:ext cx="1308240" cy="598680"/>
          </a:xfrm>
          <a:custGeom>
            <a:avLst/>
            <a:gdLst/>
            <a:ahLst/>
            <a:rect l="l" t="t" r="r" b="b"/>
            <a:pathLst>
              <a:path w="824" h="377">
                <a:moveTo>
                  <a:pt x="0" y="336"/>
                </a:moveTo>
                <a:cubicBezTo>
                  <a:pt x="12" y="300"/>
                  <a:pt x="73" y="273"/>
                  <a:pt x="108" y="264"/>
                </a:cubicBezTo>
                <a:cubicBezTo>
                  <a:pt x="160" y="268"/>
                  <a:pt x="213" y="267"/>
                  <a:pt x="264" y="276"/>
                </a:cubicBezTo>
                <a:cubicBezTo>
                  <a:pt x="283" y="279"/>
                  <a:pt x="274" y="341"/>
                  <a:pt x="312" y="354"/>
                </a:cubicBezTo>
                <a:cubicBezTo>
                  <a:pt x="370" y="341"/>
                  <a:pt x="422" y="318"/>
                  <a:pt x="480" y="312"/>
                </a:cubicBezTo>
                <a:cubicBezTo>
                  <a:pt x="516" y="294"/>
                  <a:pt x="550" y="299"/>
                  <a:pt x="588" y="312"/>
                </a:cubicBezTo>
                <a:cubicBezTo>
                  <a:pt x="610" y="377"/>
                  <a:pt x="792" y="318"/>
                  <a:pt x="792" y="318"/>
                </a:cubicBezTo>
                <a:cubicBezTo>
                  <a:pt x="824" y="296"/>
                  <a:pt x="808" y="291"/>
                  <a:pt x="780" y="282"/>
                </a:cubicBezTo>
                <a:cubicBezTo>
                  <a:pt x="778" y="276"/>
                  <a:pt x="778" y="268"/>
                  <a:pt x="774" y="264"/>
                </a:cubicBezTo>
                <a:cubicBezTo>
                  <a:pt x="764" y="254"/>
                  <a:pt x="738" y="240"/>
                  <a:pt x="738" y="240"/>
                </a:cubicBezTo>
                <a:cubicBezTo>
                  <a:pt x="730" y="215"/>
                  <a:pt x="728" y="155"/>
                  <a:pt x="714" y="138"/>
                </a:cubicBezTo>
                <a:cubicBezTo>
                  <a:pt x="702" y="124"/>
                  <a:pt x="660" y="121"/>
                  <a:pt x="648" y="120"/>
                </a:cubicBezTo>
                <a:cubicBezTo>
                  <a:pt x="588" y="117"/>
                  <a:pt x="528" y="116"/>
                  <a:pt x="468" y="114"/>
                </a:cubicBezTo>
                <a:cubicBezTo>
                  <a:pt x="458" y="83"/>
                  <a:pt x="468" y="56"/>
                  <a:pt x="438" y="36"/>
                </a:cubicBezTo>
                <a:cubicBezTo>
                  <a:pt x="434" y="28"/>
                  <a:pt x="433" y="17"/>
                  <a:pt x="426" y="12"/>
                </a:cubicBezTo>
                <a:cubicBezTo>
                  <a:pt x="416" y="4"/>
                  <a:pt x="390" y="0"/>
                  <a:pt x="390" y="0"/>
                </a:cubicBezTo>
                <a:cubicBezTo>
                  <a:pt x="322" y="8"/>
                  <a:pt x="261" y="30"/>
                  <a:pt x="192" y="36"/>
                </a:cubicBezTo>
                <a:cubicBezTo>
                  <a:pt x="179" y="45"/>
                  <a:pt x="161" y="49"/>
                  <a:pt x="150" y="60"/>
                </a:cubicBezTo>
                <a:cubicBezTo>
                  <a:pt x="146" y="64"/>
                  <a:pt x="148" y="74"/>
                  <a:pt x="144" y="78"/>
                </a:cubicBezTo>
                <a:cubicBezTo>
                  <a:pt x="134" y="88"/>
                  <a:pt x="108" y="102"/>
                  <a:pt x="108" y="102"/>
                </a:cubicBezTo>
                <a:cubicBezTo>
                  <a:pt x="106" y="108"/>
                  <a:pt x="107" y="116"/>
                  <a:pt x="102" y="120"/>
                </a:cubicBezTo>
                <a:cubicBezTo>
                  <a:pt x="92" y="127"/>
                  <a:pt x="66" y="132"/>
                  <a:pt x="66" y="132"/>
                </a:cubicBezTo>
                <a:cubicBezTo>
                  <a:pt x="62" y="138"/>
                  <a:pt x="59" y="145"/>
                  <a:pt x="54" y="150"/>
                </a:cubicBezTo>
                <a:cubicBezTo>
                  <a:pt x="47" y="157"/>
                  <a:pt x="36" y="160"/>
                  <a:pt x="30" y="168"/>
                </a:cubicBezTo>
                <a:cubicBezTo>
                  <a:pt x="28" y="171"/>
                  <a:pt x="18" y="222"/>
                  <a:pt x="18" y="222"/>
                </a:cubicBezTo>
                <a:cubicBezTo>
                  <a:pt x="12" y="260"/>
                  <a:pt x="0" y="298"/>
                  <a:pt x="0" y="336"/>
                </a:cubicBezTo>
                <a:close/>
              </a:path>
            </a:pathLst>
          </a:cu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89440" y="3035160"/>
            <a:ext cx="797040" cy="1457640"/>
          </a:xfrm>
          <a:custGeom>
            <a:avLst/>
            <a:gdLst/>
            <a:ahLst/>
            <a:rect l="l" t="t" r="r" b="b"/>
            <a:pathLst>
              <a:path w="502" h="918">
                <a:moveTo>
                  <a:pt x="196" y="50"/>
                </a:moveTo>
                <a:cubicBezTo>
                  <a:pt x="135" y="38"/>
                  <a:pt x="35" y="0"/>
                  <a:pt x="16" y="74"/>
                </a:cubicBezTo>
                <a:cubicBezTo>
                  <a:pt x="19" y="131"/>
                  <a:pt x="0" y="182"/>
                  <a:pt x="46" y="212"/>
                </a:cubicBezTo>
                <a:cubicBezTo>
                  <a:pt x="67" y="243"/>
                  <a:pt x="49" y="250"/>
                  <a:pt x="88" y="260"/>
                </a:cubicBezTo>
                <a:cubicBezTo>
                  <a:pt x="117" y="303"/>
                  <a:pt x="102" y="286"/>
                  <a:pt x="130" y="314"/>
                </a:cubicBezTo>
                <a:cubicBezTo>
                  <a:pt x="138" y="353"/>
                  <a:pt x="155" y="394"/>
                  <a:pt x="178" y="428"/>
                </a:cubicBezTo>
                <a:cubicBezTo>
                  <a:pt x="184" y="453"/>
                  <a:pt x="191" y="471"/>
                  <a:pt x="202" y="494"/>
                </a:cubicBezTo>
                <a:cubicBezTo>
                  <a:pt x="199" y="616"/>
                  <a:pt x="193" y="728"/>
                  <a:pt x="184" y="848"/>
                </a:cubicBezTo>
                <a:cubicBezTo>
                  <a:pt x="186" y="864"/>
                  <a:pt x="184" y="881"/>
                  <a:pt x="190" y="896"/>
                </a:cubicBezTo>
                <a:cubicBezTo>
                  <a:pt x="199" y="918"/>
                  <a:pt x="275" y="897"/>
                  <a:pt x="280" y="896"/>
                </a:cubicBezTo>
                <a:cubicBezTo>
                  <a:pt x="327" y="865"/>
                  <a:pt x="365" y="825"/>
                  <a:pt x="412" y="794"/>
                </a:cubicBezTo>
                <a:cubicBezTo>
                  <a:pt x="425" y="785"/>
                  <a:pt x="476" y="782"/>
                  <a:pt x="478" y="782"/>
                </a:cubicBezTo>
                <a:cubicBezTo>
                  <a:pt x="489" y="760"/>
                  <a:pt x="494" y="739"/>
                  <a:pt x="502" y="716"/>
                </a:cubicBezTo>
                <a:cubicBezTo>
                  <a:pt x="492" y="664"/>
                  <a:pt x="451" y="639"/>
                  <a:pt x="400" y="626"/>
                </a:cubicBezTo>
                <a:cubicBezTo>
                  <a:pt x="359" y="640"/>
                  <a:pt x="403" y="621"/>
                  <a:pt x="370" y="650"/>
                </a:cubicBezTo>
                <a:cubicBezTo>
                  <a:pt x="359" y="659"/>
                  <a:pt x="334" y="674"/>
                  <a:pt x="334" y="674"/>
                </a:cubicBezTo>
                <a:cubicBezTo>
                  <a:pt x="314" y="614"/>
                  <a:pt x="351" y="509"/>
                  <a:pt x="292" y="470"/>
                </a:cubicBezTo>
                <a:cubicBezTo>
                  <a:pt x="286" y="434"/>
                  <a:pt x="285" y="424"/>
                  <a:pt x="256" y="404"/>
                </a:cubicBezTo>
                <a:cubicBezTo>
                  <a:pt x="223" y="415"/>
                  <a:pt x="198" y="408"/>
                  <a:pt x="172" y="434"/>
                </a:cubicBezTo>
                <a:cubicBezTo>
                  <a:pt x="168" y="426"/>
                  <a:pt x="161" y="419"/>
                  <a:pt x="160" y="410"/>
                </a:cubicBezTo>
                <a:cubicBezTo>
                  <a:pt x="154" y="328"/>
                  <a:pt x="191" y="358"/>
                  <a:pt x="250" y="338"/>
                </a:cubicBezTo>
                <a:cubicBezTo>
                  <a:pt x="252" y="292"/>
                  <a:pt x="253" y="246"/>
                  <a:pt x="256" y="200"/>
                </a:cubicBezTo>
                <a:cubicBezTo>
                  <a:pt x="265" y="86"/>
                  <a:pt x="292" y="86"/>
                  <a:pt x="196" y="50"/>
                </a:cubicBezTo>
                <a:close/>
              </a:path>
            </a:pathLst>
          </a:cu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78480" y="1781280"/>
            <a:ext cx="2148120" cy="1384200"/>
          </a:xfrm>
          <a:custGeom>
            <a:avLst/>
            <a:gdLst/>
            <a:ahLst/>
            <a:rect l="l" t="t" r="r" b="b"/>
            <a:pathLst>
              <a:path w="1353" h="872">
                <a:moveTo>
                  <a:pt x="86" y="510"/>
                </a:moveTo>
                <a:cubicBezTo>
                  <a:pt x="90" y="559"/>
                  <a:pt x="107" y="689"/>
                  <a:pt x="164" y="708"/>
                </a:cubicBezTo>
                <a:cubicBezTo>
                  <a:pt x="192" y="750"/>
                  <a:pt x="176" y="736"/>
                  <a:pt x="206" y="756"/>
                </a:cubicBezTo>
                <a:cubicBezTo>
                  <a:pt x="221" y="800"/>
                  <a:pt x="207" y="786"/>
                  <a:pt x="242" y="804"/>
                </a:cubicBezTo>
                <a:cubicBezTo>
                  <a:pt x="249" y="832"/>
                  <a:pt x="256" y="843"/>
                  <a:pt x="284" y="852"/>
                </a:cubicBezTo>
                <a:cubicBezTo>
                  <a:pt x="286" y="858"/>
                  <a:pt x="284" y="868"/>
                  <a:pt x="290" y="870"/>
                </a:cubicBezTo>
                <a:cubicBezTo>
                  <a:pt x="297" y="872"/>
                  <a:pt x="301" y="860"/>
                  <a:pt x="308" y="858"/>
                </a:cubicBezTo>
                <a:cubicBezTo>
                  <a:pt x="330" y="853"/>
                  <a:pt x="352" y="854"/>
                  <a:pt x="374" y="852"/>
                </a:cubicBezTo>
                <a:cubicBezTo>
                  <a:pt x="396" y="837"/>
                  <a:pt x="391" y="824"/>
                  <a:pt x="416" y="816"/>
                </a:cubicBezTo>
                <a:cubicBezTo>
                  <a:pt x="423" y="805"/>
                  <a:pt x="425" y="790"/>
                  <a:pt x="434" y="780"/>
                </a:cubicBezTo>
                <a:cubicBezTo>
                  <a:pt x="440" y="772"/>
                  <a:pt x="451" y="769"/>
                  <a:pt x="458" y="762"/>
                </a:cubicBezTo>
                <a:cubicBezTo>
                  <a:pt x="465" y="755"/>
                  <a:pt x="481" y="730"/>
                  <a:pt x="488" y="720"/>
                </a:cubicBezTo>
                <a:cubicBezTo>
                  <a:pt x="481" y="685"/>
                  <a:pt x="487" y="675"/>
                  <a:pt x="452" y="666"/>
                </a:cubicBezTo>
                <a:cubicBezTo>
                  <a:pt x="428" y="642"/>
                  <a:pt x="399" y="640"/>
                  <a:pt x="368" y="630"/>
                </a:cubicBezTo>
                <a:cubicBezTo>
                  <a:pt x="351" y="613"/>
                  <a:pt x="340" y="596"/>
                  <a:pt x="320" y="582"/>
                </a:cubicBezTo>
                <a:cubicBezTo>
                  <a:pt x="312" y="549"/>
                  <a:pt x="297" y="547"/>
                  <a:pt x="326" y="528"/>
                </a:cubicBezTo>
                <a:cubicBezTo>
                  <a:pt x="342" y="531"/>
                  <a:pt x="362" y="528"/>
                  <a:pt x="374" y="540"/>
                </a:cubicBezTo>
                <a:cubicBezTo>
                  <a:pt x="378" y="544"/>
                  <a:pt x="376" y="553"/>
                  <a:pt x="380" y="558"/>
                </a:cubicBezTo>
                <a:cubicBezTo>
                  <a:pt x="385" y="565"/>
                  <a:pt x="391" y="571"/>
                  <a:pt x="398" y="576"/>
                </a:cubicBezTo>
                <a:cubicBezTo>
                  <a:pt x="409" y="585"/>
                  <a:pt x="434" y="600"/>
                  <a:pt x="434" y="600"/>
                </a:cubicBezTo>
                <a:cubicBezTo>
                  <a:pt x="451" y="626"/>
                  <a:pt x="470" y="624"/>
                  <a:pt x="500" y="630"/>
                </a:cubicBezTo>
                <a:cubicBezTo>
                  <a:pt x="526" y="621"/>
                  <a:pt x="526" y="613"/>
                  <a:pt x="518" y="588"/>
                </a:cubicBezTo>
                <a:cubicBezTo>
                  <a:pt x="526" y="490"/>
                  <a:pt x="522" y="494"/>
                  <a:pt x="584" y="432"/>
                </a:cubicBezTo>
                <a:cubicBezTo>
                  <a:pt x="591" y="412"/>
                  <a:pt x="614" y="378"/>
                  <a:pt x="614" y="378"/>
                </a:cubicBezTo>
                <a:cubicBezTo>
                  <a:pt x="640" y="404"/>
                  <a:pt x="652" y="407"/>
                  <a:pt x="626" y="462"/>
                </a:cubicBezTo>
                <a:cubicBezTo>
                  <a:pt x="620" y="475"/>
                  <a:pt x="590" y="486"/>
                  <a:pt x="590" y="486"/>
                </a:cubicBezTo>
                <a:cubicBezTo>
                  <a:pt x="575" y="530"/>
                  <a:pt x="587" y="513"/>
                  <a:pt x="560" y="540"/>
                </a:cubicBezTo>
                <a:cubicBezTo>
                  <a:pt x="553" y="573"/>
                  <a:pt x="553" y="590"/>
                  <a:pt x="572" y="618"/>
                </a:cubicBezTo>
                <a:cubicBezTo>
                  <a:pt x="589" y="617"/>
                  <a:pt x="657" y="617"/>
                  <a:pt x="680" y="600"/>
                </a:cubicBezTo>
                <a:cubicBezTo>
                  <a:pt x="685" y="596"/>
                  <a:pt x="682" y="587"/>
                  <a:pt x="686" y="582"/>
                </a:cubicBezTo>
                <a:cubicBezTo>
                  <a:pt x="691" y="576"/>
                  <a:pt x="698" y="574"/>
                  <a:pt x="704" y="570"/>
                </a:cubicBezTo>
                <a:cubicBezTo>
                  <a:pt x="719" y="547"/>
                  <a:pt x="733" y="548"/>
                  <a:pt x="758" y="540"/>
                </a:cubicBezTo>
                <a:cubicBezTo>
                  <a:pt x="755" y="496"/>
                  <a:pt x="719" y="339"/>
                  <a:pt x="782" y="318"/>
                </a:cubicBezTo>
                <a:cubicBezTo>
                  <a:pt x="788" y="299"/>
                  <a:pt x="799" y="275"/>
                  <a:pt x="818" y="264"/>
                </a:cubicBezTo>
                <a:cubicBezTo>
                  <a:pt x="829" y="258"/>
                  <a:pt x="842" y="256"/>
                  <a:pt x="854" y="252"/>
                </a:cubicBezTo>
                <a:cubicBezTo>
                  <a:pt x="860" y="250"/>
                  <a:pt x="872" y="246"/>
                  <a:pt x="872" y="246"/>
                </a:cubicBezTo>
                <a:cubicBezTo>
                  <a:pt x="905" y="180"/>
                  <a:pt x="862" y="255"/>
                  <a:pt x="902" y="210"/>
                </a:cubicBezTo>
                <a:cubicBezTo>
                  <a:pt x="923" y="186"/>
                  <a:pt x="927" y="163"/>
                  <a:pt x="944" y="138"/>
                </a:cubicBezTo>
                <a:cubicBezTo>
                  <a:pt x="954" y="140"/>
                  <a:pt x="964" y="142"/>
                  <a:pt x="974" y="144"/>
                </a:cubicBezTo>
                <a:cubicBezTo>
                  <a:pt x="990" y="148"/>
                  <a:pt x="1022" y="156"/>
                  <a:pt x="1022" y="156"/>
                </a:cubicBezTo>
                <a:cubicBezTo>
                  <a:pt x="1033" y="167"/>
                  <a:pt x="1041" y="181"/>
                  <a:pt x="1052" y="192"/>
                </a:cubicBezTo>
                <a:cubicBezTo>
                  <a:pt x="1072" y="212"/>
                  <a:pt x="1110" y="218"/>
                  <a:pt x="1136" y="228"/>
                </a:cubicBezTo>
                <a:cubicBezTo>
                  <a:pt x="1183" y="223"/>
                  <a:pt x="1212" y="228"/>
                  <a:pt x="1256" y="222"/>
                </a:cubicBezTo>
                <a:cubicBezTo>
                  <a:pt x="1280" y="206"/>
                  <a:pt x="1306" y="199"/>
                  <a:pt x="1334" y="192"/>
                </a:cubicBezTo>
                <a:cubicBezTo>
                  <a:pt x="1345" y="160"/>
                  <a:pt x="1353" y="120"/>
                  <a:pt x="1316" y="108"/>
                </a:cubicBezTo>
                <a:cubicBezTo>
                  <a:pt x="1176" y="116"/>
                  <a:pt x="1173" y="119"/>
                  <a:pt x="1004" y="114"/>
                </a:cubicBezTo>
                <a:cubicBezTo>
                  <a:pt x="939" y="92"/>
                  <a:pt x="887" y="87"/>
                  <a:pt x="818" y="78"/>
                </a:cubicBezTo>
                <a:cubicBezTo>
                  <a:pt x="806" y="70"/>
                  <a:pt x="794" y="62"/>
                  <a:pt x="782" y="54"/>
                </a:cubicBezTo>
                <a:cubicBezTo>
                  <a:pt x="776" y="50"/>
                  <a:pt x="764" y="42"/>
                  <a:pt x="764" y="42"/>
                </a:cubicBezTo>
                <a:cubicBezTo>
                  <a:pt x="737" y="2"/>
                  <a:pt x="734" y="6"/>
                  <a:pt x="680" y="0"/>
                </a:cubicBezTo>
                <a:cubicBezTo>
                  <a:pt x="648" y="2"/>
                  <a:pt x="616" y="1"/>
                  <a:pt x="584" y="6"/>
                </a:cubicBezTo>
                <a:cubicBezTo>
                  <a:pt x="577" y="7"/>
                  <a:pt x="573" y="15"/>
                  <a:pt x="566" y="18"/>
                </a:cubicBezTo>
                <a:cubicBezTo>
                  <a:pt x="552" y="23"/>
                  <a:pt x="495" y="29"/>
                  <a:pt x="488" y="30"/>
                </a:cubicBezTo>
                <a:cubicBezTo>
                  <a:pt x="444" y="45"/>
                  <a:pt x="464" y="39"/>
                  <a:pt x="428" y="48"/>
                </a:cubicBezTo>
                <a:cubicBezTo>
                  <a:pt x="404" y="64"/>
                  <a:pt x="381" y="73"/>
                  <a:pt x="356" y="90"/>
                </a:cubicBezTo>
                <a:cubicBezTo>
                  <a:pt x="350" y="94"/>
                  <a:pt x="338" y="102"/>
                  <a:pt x="338" y="102"/>
                </a:cubicBezTo>
                <a:cubicBezTo>
                  <a:pt x="342" y="114"/>
                  <a:pt x="343" y="127"/>
                  <a:pt x="350" y="138"/>
                </a:cubicBezTo>
                <a:cubicBezTo>
                  <a:pt x="354" y="144"/>
                  <a:pt x="359" y="150"/>
                  <a:pt x="362" y="156"/>
                </a:cubicBezTo>
                <a:cubicBezTo>
                  <a:pt x="372" y="177"/>
                  <a:pt x="373" y="196"/>
                  <a:pt x="386" y="216"/>
                </a:cubicBezTo>
                <a:cubicBezTo>
                  <a:pt x="381" y="272"/>
                  <a:pt x="377" y="285"/>
                  <a:pt x="392" y="330"/>
                </a:cubicBezTo>
                <a:cubicBezTo>
                  <a:pt x="377" y="367"/>
                  <a:pt x="375" y="363"/>
                  <a:pt x="338" y="372"/>
                </a:cubicBezTo>
                <a:cubicBezTo>
                  <a:pt x="299" y="359"/>
                  <a:pt x="322" y="326"/>
                  <a:pt x="296" y="300"/>
                </a:cubicBezTo>
                <a:cubicBezTo>
                  <a:pt x="282" y="286"/>
                  <a:pt x="226" y="284"/>
                  <a:pt x="212" y="282"/>
                </a:cubicBezTo>
                <a:cubicBezTo>
                  <a:pt x="148" y="289"/>
                  <a:pt x="94" y="314"/>
                  <a:pt x="32" y="330"/>
                </a:cubicBezTo>
                <a:cubicBezTo>
                  <a:pt x="13" y="359"/>
                  <a:pt x="0" y="381"/>
                  <a:pt x="44" y="396"/>
                </a:cubicBezTo>
                <a:cubicBezTo>
                  <a:pt x="48" y="402"/>
                  <a:pt x="50" y="410"/>
                  <a:pt x="56" y="414"/>
                </a:cubicBezTo>
                <a:cubicBezTo>
                  <a:pt x="57" y="415"/>
                  <a:pt x="123" y="437"/>
                  <a:pt x="128" y="438"/>
                </a:cubicBezTo>
                <a:cubicBezTo>
                  <a:pt x="144" y="462"/>
                  <a:pt x="165" y="474"/>
                  <a:pt x="146" y="504"/>
                </a:cubicBezTo>
                <a:cubicBezTo>
                  <a:pt x="137" y="518"/>
                  <a:pt x="119" y="526"/>
                  <a:pt x="110" y="540"/>
                </a:cubicBezTo>
                <a:cubicBezTo>
                  <a:pt x="104" y="564"/>
                  <a:pt x="98" y="587"/>
                  <a:pt x="98" y="612"/>
                </a:cubicBezTo>
              </a:path>
            </a:pathLst>
          </a:custGeom>
          <a:solidFill>
            <a:srgbClr val="ff66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170840" y="2344680"/>
            <a:ext cx="318960" cy="289080"/>
          </a:xfrm>
          <a:custGeom>
            <a:avLst/>
            <a:gdLst/>
            <a:ahLst/>
            <a:rect l="l" t="t" r="r" b="b"/>
            <a:pathLst>
              <a:path w="201" h="182">
                <a:moveTo>
                  <a:pt x="100" y="8"/>
                </a:moveTo>
                <a:cubicBezTo>
                  <a:pt x="129" y="18"/>
                  <a:pt x="166" y="2"/>
                  <a:pt x="190" y="20"/>
                </a:cubicBezTo>
                <a:cubicBezTo>
                  <a:pt x="201" y="28"/>
                  <a:pt x="187" y="48"/>
                  <a:pt x="184" y="62"/>
                </a:cubicBezTo>
                <a:cubicBezTo>
                  <a:pt x="183" y="70"/>
                  <a:pt x="184" y="80"/>
                  <a:pt x="178" y="86"/>
                </a:cubicBezTo>
                <a:cubicBezTo>
                  <a:pt x="177" y="87"/>
                  <a:pt x="99" y="115"/>
                  <a:pt x="94" y="116"/>
                </a:cubicBezTo>
                <a:cubicBezTo>
                  <a:pt x="87" y="138"/>
                  <a:pt x="83" y="160"/>
                  <a:pt x="76" y="182"/>
                </a:cubicBezTo>
                <a:cubicBezTo>
                  <a:pt x="30" y="167"/>
                  <a:pt x="52" y="172"/>
                  <a:pt x="10" y="164"/>
                </a:cubicBezTo>
                <a:cubicBezTo>
                  <a:pt x="0" y="134"/>
                  <a:pt x="0" y="110"/>
                  <a:pt x="28" y="92"/>
                </a:cubicBezTo>
                <a:cubicBezTo>
                  <a:pt x="45" y="66"/>
                  <a:pt x="41" y="59"/>
                  <a:pt x="70" y="44"/>
                </a:cubicBezTo>
                <a:cubicBezTo>
                  <a:pt x="74" y="36"/>
                  <a:pt x="76" y="26"/>
                  <a:pt x="82" y="20"/>
                </a:cubicBezTo>
                <a:cubicBezTo>
                  <a:pt x="102" y="0"/>
                  <a:pt x="100" y="25"/>
                  <a:pt x="100" y="8"/>
                </a:cubicBezTo>
                <a:close/>
              </a:path>
            </a:pathLst>
          </a:cu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02120" y="2128680"/>
            <a:ext cx="1306440" cy="390600"/>
          </a:xfrm>
          <a:prstGeom prst="leftRightArrow">
            <a:avLst>
              <a:gd name="adj1" fmla="val 50000"/>
              <a:gd name="adj2" fmla="val 66584"/>
            </a:avLst>
          </a:prstGeom>
          <a:solidFill>
            <a:srgbClr val="9933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422400">
            <a:off x="5802480" y="2055960"/>
            <a:ext cx="3011400" cy="390240"/>
          </a:xfrm>
          <a:prstGeom prst="leftRightArrow">
            <a:avLst>
              <a:gd name="adj1" fmla="val 50000"/>
              <a:gd name="adj2" fmla="val 153621"/>
            </a:avLst>
          </a:prstGeom>
          <a:solidFill>
            <a:srgbClr val="9933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00080" y="2104920"/>
            <a:ext cx="1562040" cy="309600"/>
          </a:xfrm>
          <a:prstGeom prst="rightArrow">
            <a:avLst>
              <a:gd name="adj1" fmla="val 50000"/>
              <a:gd name="adj2" fmla="val 126134"/>
            </a:avLst>
          </a:prstGeom>
          <a:solidFill>
            <a:srgbClr val="99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258480" y="2271600"/>
            <a:ext cx="1152360" cy="433440"/>
          </a:xfrm>
          <a:prstGeom prst="leftArrow">
            <a:avLst>
              <a:gd name="adj1" fmla="val 50000"/>
              <a:gd name="adj2" fmla="val 66466"/>
            </a:avLst>
          </a:prstGeom>
          <a:solidFill>
            <a:srgbClr val="99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13400" y="7313760"/>
            <a:ext cx="819000" cy="295200"/>
          </a:xfrm>
          <a:prstGeom prst="leftRightArrow">
            <a:avLst>
              <a:gd name="adj1" fmla="val 50000"/>
              <a:gd name="adj2" fmla="val 55231"/>
            </a:avLst>
          </a:prstGeom>
          <a:solidFill>
            <a:srgbClr val="99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68760" y="7264440"/>
            <a:ext cx="443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 échange mondiaux les + impor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lux de marchandises, de personnes, de capitaux, d’inform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70120" y="2128680"/>
            <a:ext cx="432000" cy="432000"/>
          </a:xfrm>
          <a:prstGeom prst="ellipse">
            <a:avLst/>
          </a:prstGeom>
          <a:solidFill>
            <a:srgbClr val="ffffff">
              <a:alpha val="1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120480" y="24400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42120" y="1697040"/>
            <a:ext cx="576000" cy="503280"/>
          </a:xfrm>
          <a:prstGeom prst="ellipse">
            <a:avLst/>
          </a:prstGeom>
          <a:solidFill>
            <a:srgbClr val="ffffff">
              <a:alpha val="43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970840" y="2344680"/>
            <a:ext cx="289080" cy="360360"/>
          </a:xfrm>
          <a:prstGeom prst="ellipse">
            <a:avLst/>
          </a:prstGeom>
          <a:solidFill>
            <a:srgbClr val="ffffff">
              <a:alpha val="1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02640" y="5464080"/>
            <a:ext cx="257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étropole modial ou «  ville monde »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« Ville Centre 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71880" y="5584680"/>
            <a:ext cx="279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es d’impulsion de Economie mond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16:48:41Z</dcterms:created>
  <dc:creator>IBM</dc:creator>
  <dc:description/>
  <dc:language>en-US</dc:language>
  <cp:lastModifiedBy>Hugues</cp:lastModifiedBy>
  <dcterms:modified xsi:type="dcterms:W3CDTF">2011-10-10T12:56:37Z</dcterms:modified>
  <cp:revision>14</cp:revision>
  <dc:subject/>
  <dc:title>Présentation PowerPoint</dc:title>
</cp:coreProperties>
</file>