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002588" cy="11314113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F3E1-B91D-4A95-AFAB-D6764CA6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ABA-049D-4D2A-AFC6-4A3B45E7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1A2-660C-4FF2-B15D-9BD7E5AF2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9908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98400" y="326880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976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9908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198400" y="6815520"/>
            <a:ext cx="218952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7E3-8CBB-4AE5-8A15-EFFB7985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F33A-96FC-4E47-8FA8-8120032A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B4E-4922-4CC0-93FB-89E5F48F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4D3-D9A6-45B3-B3C8-065B4FDB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4632-E7B9-4D6D-9D9C-015128DF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9760" y="1006200"/>
            <a:ext cx="680076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75"/>
              </a:spcBef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9E4F-AE6A-461F-BACC-A114CA5E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7F6-B0AF-4AB2-9303-3CA894BA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84560" y="681552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CF8-0D60-4E6B-8755-937E0643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97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84560" y="3268800"/>
            <a:ext cx="331848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9760" y="6815520"/>
            <a:ext cx="6800760" cy="323856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indent="0">
              <a:spcBef>
                <a:spcPts val="975"/>
              </a:spcBef>
              <a:buNone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AC3-A7A5-4738-A0BC-E98CFCE7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9760" y="1006200"/>
            <a:ext cx="6800760" cy="18860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ctr">
            <a:noAutofit/>
          </a:bodyPr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9760" y="3268800"/>
            <a:ext cx="6800760" cy="67896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rmAutofit/>
          </a:bodyPr>
          <a:p>
            <a:pPr marL="414360" indent="-41436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1" marL="896760" indent="-34416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9520" indent="-276120">
              <a:spcBef>
                <a:spcPts val="975"/>
              </a:spcBef>
              <a:buClr>
                <a:srgbClr val="000000"/>
              </a:buClr>
              <a:buFont typeface="Times New Roman"/>
              <a:buChar char="•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3" marL="1932120" indent="-27648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4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5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lvl="6" marL="2482920" indent="-274680">
              <a:spcBef>
                <a:spcPts val="975"/>
              </a:spcBef>
              <a:buClr>
                <a:srgbClr val="000000"/>
              </a:buClr>
              <a:buFont typeface="Times New Roman"/>
              <a:buChar char="»"/>
              <a:tabLst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012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33480" y="10308960"/>
            <a:ext cx="253332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34080" y="10308960"/>
            <a:ext cx="1666800" cy="75564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lstStyle>
            <a:lvl1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  <a:defRPr b="0" lang="fr-FR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fld id="{207D0026-C573-4999-898A-61F5316D9035}" type="slidenum">
              <a:rPr b="0" lang="fr-FR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7200" y="3465360"/>
            <a:ext cx="80010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67200" y="4821120"/>
            <a:ext cx="800100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1103400"/>
                <a:tab algn="l" pos="2206800"/>
                <a:tab algn="l" pos="3309840"/>
                <a:tab algn="l" pos="4413240"/>
                <a:tab algn="l" pos="5516640"/>
                <a:tab algn="l" pos="6620040"/>
                <a:tab algn="l" pos="7723080"/>
                <a:tab algn="l" pos="8826480"/>
                <a:tab algn="l" pos="9929880"/>
              </a:tabLst>
            </a:pP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40480" cy="1011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375000" y="322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1160" y="26496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di 5 fév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600" y="1484280"/>
            <a:ext cx="65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té x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8960" y="1865160"/>
            <a:ext cx="106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 x 4=60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1120" y="2779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ueur x largeur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320" y="323676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x8=56 cm 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880" y="40752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r 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5280" y="4532400"/>
            <a:ext cx="206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x 2 =20 20 x 3,14 =62,8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19320" y="5751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3000" y="62085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,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4400" y="65898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43200" y="59799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90920" y="62848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,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14600" y="658980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,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8600" y="7504200"/>
            <a:ext cx="287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x 3.14=             16.2 dm x 3,14 =5,086 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8600" y="8418600"/>
            <a:ext cx="171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x 3,14 = 37 ,68 hm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4920" y="879948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x 12 x 3,14 = 452,16hm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15160" y="5979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15160" y="5751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38840" y="651348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3.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6:48:41Z</dcterms:created>
  <dc:creator>IBM</dc:creator>
  <dc:description/>
  <dc:language>en-US</dc:language>
  <cp:lastModifiedBy>PALANDRE Christophe</cp:lastModifiedBy>
  <dcterms:modified xsi:type="dcterms:W3CDTF">2008-03-19T15:15:02Z</dcterms:modified>
  <cp:revision>11</cp:revision>
  <dc:subject/>
  <dc:title>Présentation PowerPoint</dc:title>
</cp:coreProperties>
</file>